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E198C-423C-479A-90FB-3238DE73A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FDE7B-E54B-47D4-B63C-B5520824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AAD6D-D1AC-4A50-AF1F-D4E220F5C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F7CA0-33E2-47A5-A343-A424DCBED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2C6A8-AB54-4BFA-A29A-505E71BA2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8E484-8E1F-4D7D-9820-DAB25687E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56720-8A77-4BE3-AC57-95D5A54E7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E18DA-15C2-469D-B2B0-DF00A223E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3A53C-AC4D-465B-A678-F6C7E854D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DC279-F10E-464E-B092-D9786D12D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1C039-710F-46E8-B0FC-E3116DBD6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2FE82-39F6-4773-908D-8B612D876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49D22-8742-4448-A55A-481CB948D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6B3D6-07D2-43ED-8991-79BBE03A4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802B6-75BA-49B4-809B-36ADF031B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2A61B-D5C9-447D-B339-87AD38526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31165-6184-4409-9219-67F76C892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62A71-4E24-44DB-9473-BB02D67C2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1CEBD-00C1-40B3-8A98-383EF719F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5E61F-FF81-4808-9189-47F38AB6E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47273-D1AC-45B9-95E4-40E4DD9D5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9A17E-BC33-4E71-AE22-DA35BC906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79621-EB1B-4E9D-8184-B8649BEA6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CF832-642D-4AB3-9723-71A2070C4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F7A0-E75F-4736-BE68-2131BA089680}"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B1DD-205F-4672-AC66-378B8E2AF2D3}"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Arial"/>
              </a:rPr>
              <a:t>Violencia Intrafamiliar</a:t>
            </a:r>
            <a:r>
              <a:rPr b="0" lang="es-ES_tradnl" sz="5400" spc="-1" strike="noStrike">
                <a:solidFill>
                  <a:srgbClr val="000000"/>
                </a:solidFill>
                <a:latin typeface="Arial"/>
              </a:rPr>
              <a:t>	</a:t>
            </a: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	</a:t>
            </a:r>
            <a:r>
              <a:rPr b="1" lang="es-CL" sz="3000" spc="-1" strike="noStrike">
                <a:solidFill>
                  <a:srgbClr val="000000"/>
                </a:solidFill>
                <a:latin typeface="Arial"/>
              </a:rPr>
              <a:t>Artículo 14.-</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	</a:t>
            </a:r>
            <a:r>
              <a:rPr b="0" lang="es-CL" sz="3000" spc="-1" strike="noStrike">
                <a:solidFill>
                  <a:srgbClr val="000000"/>
                </a:solidFill>
                <a:latin typeface="Arial"/>
              </a:rPr>
              <a:t>Inciso 3º: </a:t>
            </a:r>
            <a:r>
              <a:rPr b="0" lang="es-CL" sz="3000" spc="-1" strike="noStrike">
                <a:solidFill>
                  <a:srgbClr val="000000"/>
                </a:solidFill>
                <a:latin typeface="Arial"/>
              </a:rPr>
              <a:t>	</a:t>
            </a:r>
            <a:r>
              <a:rPr b="0" lang="es-CL" sz="3000" spc="-1" strike="noStrike">
                <a:solidFill>
                  <a:srgbClr val="000000"/>
                </a:solidFill>
                <a:latin typeface="Arial"/>
              </a:rPr>
              <a:t>El Ministerio Público sólo podrá dar inicio a la investigación por el delito tipificado en el inciso primero, si el respectivo Juzgado de Familia le ha remitido los antecedentes, en conformidad con lo dispuesto en el artículo 90 de la ley N° 19.96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sos problemáticos.</a:t>
            </a:r>
            <a:endParaRPr b="0" lang="en-US" sz="3000" spc="-1" strike="noStrike">
              <a:solidFill>
                <a:srgbClr val="000000"/>
              </a:solidFill>
              <a:latin typeface="Arial"/>
            </a:endParaRPr>
          </a:p>
          <a:p>
            <a:pPr marL="343080" indent="-343080" algn="just">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IF por omisión. </a:t>
            </a:r>
            <a:r>
              <a:rPr b="0" lang="es-ES_tradnl" sz="2000" spc="-1" strike="noStrike">
                <a:solidFill>
                  <a:srgbClr val="000000"/>
                </a:solidFill>
                <a:latin typeface="Arial"/>
              </a:rPr>
              <a:t>Ver RJMP N° 37</a:t>
            </a:r>
            <a:endParaRPr b="0" lang="en-US" sz="2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Desistimiento y retractación.</a:t>
            </a:r>
            <a:endParaRPr b="0" lang="en-US" sz="3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índrome de alienación parental.</a:t>
            </a:r>
            <a:endParaRPr b="0" lang="en-US" sz="3000" spc="-1" strike="noStrike">
              <a:solidFill>
                <a:srgbClr val="000000"/>
              </a:solidFill>
              <a:latin typeface="Arial"/>
            </a:endParaRPr>
          </a:p>
          <a:p>
            <a:pPr marL="343080" indent="-343080" algn="just">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rror y desaca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olación conyugal.</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ntencia de fecha 6 de junio de 2006, Cuarta sala I. Corte de Apelaciones de Santiago, Ingreso Corte N° 844-2006.</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t>
            </a:r>
            <a:r>
              <a:rPr b="0" lang="es-ES_tradnl" sz="1600" spc="-1" strike="noStrike">
                <a:solidFill>
                  <a:srgbClr val="000000"/>
                </a:solidFill>
                <a:latin typeface="Arial"/>
              </a:rPr>
              <a:t>3° Que en lo fundamental los jueces han dado por acreditado en el número 3 del fundamento noveno del fallo “3. Que, en este contexto, el imputado quitó de encima a su mujer, le arrancó el sostén, muy molesto se subió sobre ella y le dijo que la penetraría por todas partes, sujetándola de sus manos, para posteriormente penetrarla sin su consentimiento, con su pene por vía vaginal, mientras que ella lloraba a la vez que le pedía que se quitara de encima y que no le hiciera nada más, sin éxito, ya que su cónyuge siguió penetrándola, hasta eyacular dentro de la vagina”.</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 Que para arribar a este hecho, existe únicamente como fuente del mismo el relato de la ofendida querella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olación conyugal.</a:t>
            </a:r>
            <a:br>
              <a:rPr sz="2400"/>
            </a:br>
            <a:endParaRPr b="0" lang="en-US" sz="24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ntencia de fecha 6 de junio de 2006, Cuarta sala I. Corte de Apelaciones de Santiago, Ingreso Corte N° 844-2006.</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6° Que no aparece debidamente analizado en el fallo recurrido cómo es que los sentenciadores les parece que no ha habido por parte de la víctima consentimiento para mantener relaciones sexuales con su cónyuge si fue ella misma, la que mediante actos directos y coetáneos, comienza ha [sic] realizar aquellos que son propios del inicio de una relación íntima, como son los besos en la boca, en el pecho y el intento de realizar sexo oral.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7° [... Los sentenciadores] no dan explicación de acuerdo a las máximas de la experiencia, de cómo es posible que una mujer que da inicio por su propia iniciativa a los prolegómenos de una relación sexual, mediante actos directos que no pueden sino producir en el varón la excitación sexual, sostener que ella inmediatamente después de tal actuar y en voz baja, le manifieste a su cónyuge que no desea realizar el acto sexual, y por ende se la esté violentando, máxime si ella misma relata que en otras ocasiones había manifestado su deseo de no realizar el acto sexual propiamente tal, y las cosas no habían pasado a mayor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a:t>
            </a:r>
            <a:r>
              <a:rPr b="0" lang="es-CL" sz="2600" spc="-1" strike="noStrike">
                <a:solidFill>
                  <a:srgbClr val="000000"/>
                </a:solidFill>
                <a:latin typeface="Arial"/>
              </a:rPr>
              <a:t>La violencia contra las mujeres es la mayor atrocidad cometida contra los derechos humanos en nuestros tiempos. Desde que nacen hasta que mueren, tanto en tiempo de paz como en la guerra, las mujeres se enfrentan a la discriminación y la violencia del Estado, la comunidad y la familia” Amnistía Internaciona, 2004. (Ver </a:t>
            </a:r>
            <a:r>
              <a:rPr b="0" i="1" lang="es-CL" sz="2600" spc="-1" strike="noStrike">
                <a:solidFill>
                  <a:srgbClr val="000000"/>
                </a:solidFill>
                <a:latin typeface="Arial"/>
              </a:rPr>
              <a:t>Femicidio, una forma de control extremo</a:t>
            </a:r>
            <a:r>
              <a:rPr b="0" lang="es-CL"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r>
              <a:rPr b="0" lang="es-ES_tradnl" sz="1500" spc="-1" strike="noStrike">
                <a:solidFill>
                  <a:srgbClr val="000000"/>
                </a:solidFill>
                <a:latin typeface="Arial"/>
              </a:rPr>
              <a:t>Ley 20.066</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1" lang="es-CL" sz="1500" spc="-1" strike="noStrike">
                <a:solidFill>
                  <a:srgbClr val="000000"/>
                </a:solidFill>
                <a:latin typeface="Arial"/>
              </a:rPr>
              <a:t>Artículo 4º.-</a:t>
            </a:r>
            <a:r>
              <a:rPr b="0" lang="es-CL" sz="1500" spc="-1" strike="noStrike">
                <a:solidFill>
                  <a:srgbClr val="000000"/>
                </a:solidFill>
                <a:latin typeface="Arial"/>
              </a:rPr>
              <a:t> Corresponderá al Servicio Nacional de la Mujer proponer al Presidente de la República las políticas públicas para el cumplimiento de los objetivos de esta ley.</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En coordinación y colaboración con los organismos públicos y privados pertinentes formulará anualmente un plan nacional de acción.</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Para los efectos de los incisos anteriores, el Servicio Nacional de la Mujer tendrá las siguientes funciones:</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a) Impulsar, coordinar y evaluar las políticas gubernamentales en contra de la violencia intrafamiliar; </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b) Recomendar la adopción de medidas legales, reglamentarias o de otra naturaleza para prevenir, sancionar y erradicar la violencia intrafamiliar;</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c) Prestar asistencia técnica a los organismos que intervengan en la aplicación de esta ley que así lo requieran, y</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d) Promover la contribución de los medios de comunicación para erradicar la violencia contra la mujer y realzar el respeto a su dignidad.</a:t>
            </a: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emicid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Ciudad Juárez y Guatemala.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Conceptual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Femicidios en Chil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Valoración del bien jurídico vida: homicidio, infanticidio, parricidio y femicidi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5"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fontScale="95000"/>
          </a:bodyPr>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Incorpórese el siguiente inciso segundo a su artículo 11°:</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Arial"/>
              </a:rPr>
              <a:t>"La atenuante señalada en el numeral 5 no favorecerá al autor del delito de homicidio, en cualquiera de sus formas, secuestro, robo con violencia o intimidación en las personas o fuerza en las cosas, sustracción o corrupción de menores, violación, abusos deshonestos, sodomía y los contemplados en los artículos 361 a 367, que hayan sido condenados previamente de acuerdo a los artículos 8° ó 14° de la ley 20.066, por hechos cometidos contra la misma víctima, sus ascendientes o descendientes. Tratándose del último de los preceptos citados deberá entenderse cumplida esta condición si, en virtud de la misma, se le ha impuesto una pena mayor en razón de otro tipo penal."</a:t>
            </a:r>
            <a:endParaRPr b="0" lang="en-US" sz="2000" spc="-1" strike="noStrike">
              <a:solidFill>
                <a:srgbClr val="000000"/>
              </a:solidFill>
              <a:latin typeface="Arial"/>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7"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lang="es-ES_tradnl" sz="2000" spc="-1" strike="noStrike">
                <a:solidFill>
                  <a:srgbClr val="000000"/>
                </a:solidFill>
                <a:latin typeface="Arial"/>
                <a:ea typeface="Arial"/>
              </a:rPr>
              <a:t> </a:t>
            </a:r>
            <a:r>
              <a:rPr b="0" lang="es-ES_tradnl" sz="2000" spc="-1" strike="noStrike">
                <a:solidFill>
                  <a:srgbClr val="000000"/>
                </a:solidFill>
                <a:latin typeface="Arial"/>
                <a:ea typeface="Arial"/>
              </a:rPr>
              <a:t>b)</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Reemplácese el artículo 390 por el sigu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Arial"/>
              </a:rPr>
              <a:t>"Art. 390. El que, conociendo las relaciones que los ligan, mate a su padre, madre o hijo, a cualquier otro de sus ascendientes o descendientes o la que de muerte al varón con que esté o haya estado ligada como cónyuge, conviviente o a través de otra relación afectiva, incurrirá en el delito de parricidio y será castigado con la pena de presidio mayor en su grado máximo a presidio perpetuo calificad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i="1" lang="es-ES_tradnl" sz="2000" spc="-1" strike="noStrike">
                <a:solidFill>
                  <a:srgbClr val="000000"/>
                </a:solidFill>
                <a:latin typeface="Arial"/>
                <a:ea typeface="Arial"/>
              </a:rPr>
              <a:t>Asimismo, con la misma pena será sancionado, como femicida, el que, conociendo las relaciones que los ligan, mate a la mujer con la que esté o haya estado ligado como cónyuge, conviviente o a través de cualquiera otra relación afectiv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Introducción </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IF como fenómeno social.</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volución históric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vimiento feminist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rechos del ni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29" name="PlaceHolder 2"/>
          <p:cNvSpPr>
            <a:spLocks noGrp="1"/>
          </p:cNvSpPr>
          <p:nvPr>
            <p:ph/>
          </p:nvPr>
        </p:nvSpPr>
        <p:spPr>
          <a:xfrm>
            <a:off x="1523880" y="1523520"/>
            <a:ext cx="70106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royecto de ley (boletín 4937-18)</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Artículo 2°.‑ Incorpórese el siguiente inciso final al artículo 3° del Decreto Ley 321 de 1925, que establece la libertad condicional para los penado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1" i="1" lang="es-ES_tradnl" sz="2000" spc="-1" strike="noStrike">
                <a:solidFill>
                  <a:srgbClr val="000000"/>
                </a:solidFill>
                <a:latin typeface="Arial"/>
                <a:ea typeface="Times New Roman"/>
              </a:rPr>
              <a:t>"Sin perjuicio de lo dispuesto en los incisos precedentes los autores de los delitos de parricidio o femicidio que hubieren sido previamente condenados de acuerdo a los artículo 8° ó 14 de la Ley 20.066 o, en este último caso, a algún delito al que la ley asigne una pena mayor, en contra de la misma víctima, sus ascendientes o sus descendientes, no podrán obtener la libertad condicional en ningún cas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1" name="PlaceHolder 2"/>
          <p:cNvSpPr>
            <a:spLocks noGrp="1"/>
          </p:cNvSpPr>
          <p:nvPr>
            <p:ph/>
          </p:nvPr>
        </p:nvSpPr>
        <p:spPr>
          <a:xfrm>
            <a:off x="1523880" y="1557360"/>
            <a:ext cx="7010640" cy="44625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yecto de ley (boletín 4937-18)</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undo trámite constitucional, ante el Senado. Nuevo segundo informe de comisión (2/11/2009):</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1°.- Introdúcense las siguientes modificaciones en el Código Penal:</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1) En el numeral 2° del artículo 361, reemplázase las palabras “para oponer resistencia” por “para oponers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5) En el artículo 390 agrégase como inciso segundo, nuevo, el siguiente: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i="1" lang="es-ES_tradnl" sz="1600" spc="-1" strike="noStrike">
                <a:solidFill>
                  <a:srgbClr val="000000"/>
                </a:solidFill>
                <a:latin typeface="Arial"/>
              </a:rPr>
              <a:t>	</a:t>
            </a:r>
            <a:r>
              <a:rPr b="1" i="1" lang="es-ES_tradnl" sz="1600" spc="-1" strike="noStrike">
                <a:solidFill>
                  <a:srgbClr val="000000"/>
                </a:solidFill>
                <a:latin typeface="Arial"/>
              </a:rPr>
              <a:t>“</a:t>
            </a:r>
            <a:r>
              <a:rPr b="1" i="1" lang="es-ES_tradnl" sz="1600" spc="-1" strike="noStrike">
                <a:solidFill>
                  <a:srgbClr val="000000"/>
                </a:solidFill>
                <a:latin typeface="Arial"/>
              </a:rPr>
              <a:t>Si la víctima del delito descrito en el inciso precedente es la cónyuge o la conviviente, el delito tendrá el nombre de femicidio.”.</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6) En el artículo 391 intercálase como numeral 2º, nuevo, pasando el actual 2° a ser 3º, el siguient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a:t>
            </a:r>
            <a:r>
              <a:rPr b="1" lang="es-ES_tradnl" sz="1600" spc="-1" strike="noStrike">
                <a:solidFill>
                  <a:srgbClr val="000000"/>
                </a:solidFill>
                <a:latin typeface="Arial"/>
              </a:rPr>
              <a:t>2º Con presidio mayor en sus grados medio a máximo si la víctima ha sido cónyuge o conviviente del hechor, salvo que el delito se cometa con alguna de las circunstancias previstas en el número 1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3"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erecho penal como respuesta.</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Femicidios</a:t>
            </a:r>
            <a:r>
              <a:rPr b="0" lang="es-CL" sz="2000" spc="-1" strike="noStrike">
                <a:solidFill>
                  <a:srgbClr val="000000"/>
                </a:solidFill>
                <a:latin typeface="Arial"/>
              </a:rPr>
              <a:t> ocurridos durante 2007 (RJMP N°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4" name=""/>
          <p:cNvGraphicFramePr/>
          <p:nvPr/>
        </p:nvGraphicFramePr>
        <p:xfrm>
          <a:off x="1523880" y="2743200"/>
          <a:ext cx="6324840" cy="3506760"/>
        </p:xfrm>
        <a:graphic>
          <a:graphicData uri="http://schemas.openxmlformats.org/drawingml/2006/table">
            <a:tbl>
              <a:tblPr/>
              <a:tblGrid>
                <a:gridCol w="2108160"/>
                <a:gridCol w="210852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m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5</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5,6%</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9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 su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0</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1,7%</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 intento de suicidi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 </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7,9%</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micidio y violación</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8%</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6"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erecho penal como respuesta.</a:t>
            </a:r>
            <a:endParaRPr b="0" lang="en-US" sz="3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uncia previas en sistema penal (RJMP N° 3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7" name=""/>
          <p:cNvGraphicFramePr/>
          <p:nvPr/>
        </p:nvGraphicFramePr>
        <p:xfrm>
          <a:off x="1523880" y="2743200"/>
          <a:ext cx="6324840" cy="1865160"/>
        </p:xfrm>
        <a:graphic>
          <a:graphicData uri="http://schemas.openxmlformats.org/drawingml/2006/table">
            <a:tbl>
              <a:tblPr/>
              <a:tblGrid>
                <a:gridCol w="2108160"/>
                <a:gridCol w="210852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í</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7</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7%</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03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6</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73%</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2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VIF y violencia de género</a:t>
            </a:r>
            <a:endParaRPr b="0" lang="en-US" sz="4200" spc="-1" strike="noStrike">
              <a:solidFill>
                <a:srgbClr val="000000"/>
              </a:solidFill>
              <a:latin typeface="Arial"/>
            </a:endParaRPr>
          </a:p>
        </p:txBody>
      </p:sp>
      <p:sp>
        <p:nvSpPr>
          <p:cNvPr id="139"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Derecho penal como respuest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exto de pareja (RJMP N° 3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t>
            </a:r>
            <a:r>
              <a:rPr b="0" lang="es-CL" sz="1800" spc="-1" strike="noStrike">
                <a:solidFill>
                  <a:srgbClr val="000000"/>
                </a:solidFill>
                <a:latin typeface="Arial"/>
              </a:rPr>
              <a:t>El 80% de los homicidios ocurridos en Chile durante el año 2007 ocurrió en contexto de pareja, es decir, 50 casos, y de estos, la mitad de los imputados se suicidaron o intentaron suicidares. ¿Puede el aumento de las penas ser la solución para disminuir el complejo fenómeno de la violencia de parej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1447920" y="2514600"/>
          <a:ext cx="6324480" cy="1722600"/>
        </p:xfrm>
        <a:graphic>
          <a:graphicData uri="http://schemas.openxmlformats.org/drawingml/2006/table">
            <a:tbl>
              <a:tblPr/>
              <a:tblGrid>
                <a:gridCol w="2108160"/>
                <a:gridCol w="2108160"/>
                <a:gridCol w="21081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í</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0</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79,4%</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631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6</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0,6%</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31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tal</a:t>
                      </a:r>
                      <a:endParaRPr b="0" lang="en-US" sz="2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3</a:t>
                      </a:r>
                      <a:endParaRPr b="0" lang="en-US" sz="24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a:t>
                      </a:r>
                      <a:endParaRPr b="0" lang="en-US" sz="24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tecedente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s anteriores: Ley N° 19.325 (1995)</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nciones internacionales. </a:t>
            </a:r>
            <a:endParaRPr b="0" lang="en-US" sz="24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sobre la Eliminación de todas las Formas de Discriminación contra la Mujer (1979).</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sobre los Derechos del Niño (1990).</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vención Interamericana para Prevenir, Sancionar y Erradicar la Violencia contra la Mujer o Convención de Belem do Pará (1994). </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laración y Programa de Acción de Viena (1993).</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ferencia Internacional de Población y Desarrollo, El Cairo (1994).</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V Conferencia Mundial de la Mujer, Beijin (1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rincipios generale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1°.- Objeto de la ley. Esta ley tiene por objeto prevenir, sancionar y erradicar la violencia intrafamiliar y otorgar protección a las víctimas de la mism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2º.- Obligación de protección. Es deber del Estado adoptar las medidas conducentes para garantizar la vida, integridad personal y seguridad de los miembros de la famili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3º.- Prevención y Asistencia. El Estado adoptará políticas orientadas a prevenir la violencia intrafamiliar, en especial contra la mujer y los niños, y a prestar asistencia a las víctima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finición VIF</a:t>
            </a:r>
            <a:endParaRPr b="0" lang="en-US" sz="24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Artículo 5º.- </a:t>
            </a:r>
            <a:r>
              <a:rPr b="1" lang="en-US" sz="2100" spc="-1" strike="noStrike">
                <a:solidFill>
                  <a:srgbClr val="000000"/>
                </a:solidFill>
                <a:latin typeface="Arial"/>
              </a:rPr>
              <a:t>Violencia intrafamiliar</a:t>
            </a:r>
            <a:r>
              <a:rPr b="0" lang="en-US" sz="2100" spc="-1" strike="noStrike">
                <a:solidFill>
                  <a:srgbClr val="000000"/>
                </a:solidFill>
                <a:latin typeface="Arial"/>
              </a:rPr>
              <a:t>. Será constitutivo de violencia intrafamiliar </a:t>
            </a:r>
            <a:r>
              <a:rPr b="1" lang="en-US" sz="2100" spc="-1" strike="noStrike">
                <a:solidFill>
                  <a:srgbClr val="000000"/>
                </a:solidFill>
                <a:latin typeface="Arial"/>
              </a:rPr>
              <a:t>todo maltrato que afecte la vida o la integridad física o psíquica</a:t>
            </a:r>
            <a:r>
              <a:rPr b="0" lang="en-US" sz="2100" spc="-1" strike="noStrike">
                <a:solidFill>
                  <a:srgbClr val="000000"/>
                </a:solidFill>
                <a:latin typeface="Arial"/>
              </a:rPr>
              <a:t> de quien tenga o haya tenido la calidad de </a:t>
            </a:r>
            <a:r>
              <a:rPr b="0" lang="en-US" sz="2100" spc="-1" strike="noStrike" u="sng">
                <a:solidFill>
                  <a:srgbClr val="000000"/>
                </a:solidFill>
                <a:uFillTx/>
                <a:latin typeface="Arial"/>
              </a:rPr>
              <a:t>cónyuge</a:t>
            </a:r>
            <a:r>
              <a:rPr b="0" lang="en-US" sz="2100" spc="-1" strike="noStrike">
                <a:solidFill>
                  <a:srgbClr val="000000"/>
                </a:solidFill>
                <a:latin typeface="Arial"/>
              </a:rPr>
              <a:t> del ofensor o una relación de </a:t>
            </a:r>
            <a:r>
              <a:rPr b="0" lang="en-US" sz="2100" spc="-1" strike="noStrike" u="sng">
                <a:solidFill>
                  <a:srgbClr val="000000"/>
                </a:solidFill>
                <a:uFillTx/>
                <a:latin typeface="Arial"/>
              </a:rPr>
              <a:t>convivencia</a:t>
            </a:r>
            <a:r>
              <a:rPr b="0" lang="en-US" sz="2100" spc="-1" strike="noStrike">
                <a:solidFill>
                  <a:srgbClr val="000000"/>
                </a:solidFill>
                <a:latin typeface="Arial"/>
              </a:rPr>
              <a:t> con él; o sea </a:t>
            </a:r>
            <a:r>
              <a:rPr b="0" lang="en-US" sz="2100" spc="-1" strike="noStrike" u="sng">
                <a:solidFill>
                  <a:srgbClr val="000000"/>
                </a:solidFill>
                <a:uFillTx/>
                <a:latin typeface="Arial"/>
              </a:rPr>
              <a:t>pariente por consanguinidad o por afinidad</a:t>
            </a:r>
            <a:r>
              <a:rPr b="0" lang="en-US" sz="2100" spc="-1" strike="noStrike">
                <a:solidFill>
                  <a:srgbClr val="000000"/>
                </a:solidFill>
                <a:latin typeface="Arial"/>
              </a:rPr>
              <a:t> en toda la línea recta o en la </a:t>
            </a:r>
            <a:r>
              <a:rPr b="0" lang="en-US" sz="2100" spc="-1" strike="noStrike" u="sng">
                <a:solidFill>
                  <a:srgbClr val="000000"/>
                </a:solidFill>
                <a:uFillTx/>
                <a:latin typeface="Arial"/>
              </a:rPr>
              <a:t>colateral hasta el tercer grado</a:t>
            </a:r>
            <a:r>
              <a:rPr b="0" lang="en-US" sz="2100" spc="-1" strike="noStrike">
                <a:solidFill>
                  <a:srgbClr val="000000"/>
                </a:solidFill>
                <a:latin typeface="Arial"/>
              </a:rPr>
              <a:t> inclusive, del ofensor o de su cónyuge o de su actual conviviente.</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También habrá violencia intrafamiliar cuando la conducta referida en el inciso precedente ocurra entre los </a:t>
            </a:r>
            <a:r>
              <a:rPr b="0" lang="en-US" sz="2100" spc="-1" strike="noStrike" u="sng">
                <a:solidFill>
                  <a:srgbClr val="000000"/>
                </a:solidFill>
                <a:uFillTx/>
                <a:latin typeface="Arial"/>
              </a:rPr>
              <a:t>padres de un hijo común</a:t>
            </a:r>
            <a:r>
              <a:rPr b="0" lang="en-US" sz="2100" spc="-1" strike="noStrike">
                <a:solidFill>
                  <a:srgbClr val="000000"/>
                </a:solidFill>
                <a:latin typeface="Arial"/>
              </a:rPr>
              <a:t>, o recaiga sobre persona </a:t>
            </a:r>
            <a:r>
              <a:rPr b="0" lang="en-US" sz="2100" spc="-1" strike="noStrike" u="sng">
                <a:solidFill>
                  <a:srgbClr val="000000"/>
                </a:solidFill>
                <a:uFillTx/>
                <a:latin typeface="Arial"/>
              </a:rPr>
              <a:t>menor de edad o discapacitada que se encuentre bajo el cuidado o dependencia</a:t>
            </a:r>
            <a:r>
              <a:rPr b="0" lang="en-US" sz="2100" spc="-1" strike="noStrike">
                <a:solidFill>
                  <a:srgbClr val="000000"/>
                </a:solidFill>
                <a:latin typeface="Arial"/>
              </a:rPr>
              <a:t> de cualquiera de los integrantes del grupo familia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Sanciones</a:t>
            </a:r>
            <a:endParaRPr b="0" lang="en-US" sz="24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8°.-</a:t>
            </a:r>
            <a:r>
              <a:rPr b="0" lang="en-US" sz="2600" spc="-1" strike="noStrike">
                <a:solidFill>
                  <a:srgbClr val="000000"/>
                </a:solidFill>
                <a:latin typeface="Arial"/>
              </a:rPr>
              <a:t> Sanciones. Se castigará el maltrato constitutivo de violencia intrafamiliar, atendida su gravedad, con una </a:t>
            </a:r>
            <a:r>
              <a:rPr b="1" lang="en-US" sz="2600" spc="-1" strike="noStrike">
                <a:solidFill>
                  <a:srgbClr val="000000"/>
                </a:solidFill>
                <a:latin typeface="Arial"/>
              </a:rPr>
              <a:t>multa</a:t>
            </a:r>
            <a:r>
              <a:rPr b="0" lang="en-US" sz="2600" spc="-1" strike="noStrike">
                <a:solidFill>
                  <a:srgbClr val="000000"/>
                </a:solidFill>
                <a:latin typeface="Arial"/>
              </a:rPr>
              <a:t> de media a quince unidades tributarias mensuales a beneficio del gobierno regional del domicilio del denunciante o demandante, para ser destinada a los centros de atención de víctimas de violencia intrafamiliar existentes en la región respectiva y que sean de financiamiento público o privad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a:t>
            </a:r>
            <a:r>
              <a:rPr b="0" lang="es-ES_tradnl" sz="2400" spc="-1" strike="noStrike">
                <a:solidFill>
                  <a:srgbClr val="000000"/>
                </a:solidFill>
                <a:latin typeface="Arial"/>
              </a:rPr>
              <a:t> Medidas accesorias</a:t>
            </a:r>
            <a:endParaRPr b="0" lang="en-US" sz="24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	</a:t>
            </a:r>
            <a:r>
              <a:rPr b="1" lang="en-US" sz="2100" spc="-1" strike="noStrike">
                <a:solidFill>
                  <a:srgbClr val="000000"/>
                </a:solidFill>
                <a:latin typeface="Arial"/>
              </a:rPr>
              <a:t>Artículo 9º.-</a:t>
            </a:r>
            <a:r>
              <a:rPr b="0" lang="en-US" sz="2100" spc="-1" strike="noStrike">
                <a:solidFill>
                  <a:srgbClr val="000000"/>
                </a:solidFill>
                <a:latin typeface="Arial"/>
              </a:rPr>
              <a:t> Medidas accesorias. Además de lo dispuesto en el artículo precedente, el juez deberá aplicar en la sentencia una o más de las siguientes medidas accesoria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Obligación de abandonar el ofensor el hogar que comparte con la víctima.</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b) Prohibición de acercarse a la víctima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 Prohibición de porte y tenencia y, en su caso, el comiso, de armas de fuego.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 La asistencia obligatoria a programas terapéuticos o de orientación familiar.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La policía deberá detener a quien sea sorprendido en quebrantamiento flagrante de las medidas mencionadas en el inciso preced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14.-</a:t>
            </a:r>
            <a:r>
              <a:rPr b="0" lang="en-US" sz="2600" spc="-1" strike="noStrike">
                <a:solidFill>
                  <a:srgbClr val="000000"/>
                </a:solidFill>
                <a:latin typeface="Arial"/>
              </a:rPr>
              <a:t> Delito de maltrato habitual. El ejercicio habitual de violencia física o psíquica respecto de alguna de las personas referidas en el artículo 5º de esta ley se sancionará con la pena de </a:t>
            </a:r>
            <a:r>
              <a:rPr b="1" lang="en-US" sz="2600" spc="-1" strike="noStrike">
                <a:solidFill>
                  <a:srgbClr val="000000"/>
                </a:solidFill>
                <a:latin typeface="Arial"/>
              </a:rPr>
              <a:t>presidio menor en su grado mínimo</a:t>
            </a:r>
            <a:r>
              <a:rPr b="0" lang="en-US" sz="2600" spc="-1" strike="noStrike">
                <a:solidFill>
                  <a:srgbClr val="000000"/>
                </a:solidFill>
                <a:latin typeface="Arial"/>
              </a:rPr>
              <a:t>, salvo que el hecho sea constitutivo de un delito de mayor gravedad, caso en el cual se aplicará sólo la pena asignada por la ley a éste.</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066 </a:t>
            </a:r>
            <a:r>
              <a:rPr b="0" lang="es-ES_tradnl" sz="2400" spc="-1" strike="noStrike">
                <a:solidFill>
                  <a:srgbClr val="000000"/>
                </a:solidFill>
                <a:latin typeface="Arial"/>
              </a:rPr>
              <a:t>Delito de maltrato habitual</a:t>
            </a:r>
            <a:endParaRPr b="0" lang="en-US" sz="24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1" lang="en-US" sz="2600" spc="-1" strike="noStrike">
                <a:solidFill>
                  <a:srgbClr val="000000"/>
                </a:solidFill>
                <a:latin typeface="Arial"/>
              </a:rPr>
              <a:t>Artículo 14.-</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Inciso 2º: Para apreciar la </a:t>
            </a:r>
            <a:r>
              <a:rPr b="1" lang="en-US" sz="2600" spc="-1" strike="noStrike">
                <a:solidFill>
                  <a:srgbClr val="000000"/>
                </a:solidFill>
                <a:latin typeface="Arial"/>
              </a:rPr>
              <a:t>habitualidad</a:t>
            </a:r>
            <a:r>
              <a:rPr b="0" lang="en-US" sz="2600" spc="-1" strike="noStrike">
                <a:solidFill>
                  <a:srgbClr val="000000"/>
                </a:solidFill>
                <a:latin typeface="Arial"/>
              </a:rPr>
              <a:t>, se atenderá al número de actos ejecutados, así como a la proximidad temporal de los mismos, con independencia de que dicha violencia se haya ejercido sobre la misma o diferente víctima. Para estos efectos, no se considerarán los hechos anteriores respecto de los cuales haya recaído sentencia penal absolutoria o condenatoria.</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01:34:22Z</dcterms:created>
  <dc:creator>Tomas Ramirez</dc:creator>
  <dc:description/>
  <dc:language>en-US</dc:language>
  <cp:lastModifiedBy>Tomas Ramirez</cp:lastModifiedBy>
  <dcterms:modified xsi:type="dcterms:W3CDTF">2009-11-05T14:59:54Z</dcterms:modified>
  <cp:revision>15</cp:revision>
  <dc:subject/>
  <dc:title>Violencia Intrafamiliar </dc:title>
</cp:coreProperties>
</file>