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0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1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2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DB4485-E78F-4710-8C59-90EEA94FA0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0268B72-0FD4-42F6-8F1F-E39E4672262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7C8E3-AD42-4241-9ECC-BC6B8D2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3C53E-0DB7-4A9B-8F0A-1A4E370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11BA8-E1BF-4A0E-BB63-2D81EE4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BF8B4-4FB9-4371-AAE9-930E2F0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3797D-244B-493D-9652-95488C7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1A521-3D74-482B-98EC-5C551B8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DAD10-B88D-47AC-BE56-5B1B7615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B82E7-A3D1-41A8-9C44-57AF521D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6C8B04-53D8-4E2A-AEAE-8DA8D25F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B537C-4769-411B-A73E-C88AA588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FC37B-3931-48F5-8ABC-F0B3E47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2B31A-6046-4DC2-B667-814C1041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AAA13-CEE1-4162-B289-AD336B5E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2581B-8DF2-48E1-95E3-3809ABF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3569C-6A39-489E-9764-ED41C75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3A17D5-478D-46A9-BD0B-55D14AF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85521-5D33-4D36-A382-4B5D8E3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26D26-EB79-4A1E-9175-99764B8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E703A-2A15-452A-B556-9DE9EF33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E4B65-FD5B-412C-8D39-9DF550EC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C8F01-4008-4584-8A8D-19A77999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4DCEEA-EFE2-4415-BEFF-0BD9F3DB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EF4E9-4276-47D4-A016-03B98330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A21B9-31C5-4157-81C6-2577B1A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480C3-95E9-4AD1-BF34-5414542A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9DB25-E8E7-4530-B013-9491F145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7A37D-1340-45C8-ABD2-C28421F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A1CA5-7C33-4C4F-A4E9-9E7258E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B05618-E42C-496E-A05F-DEC6A0E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176BE-A503-4994-9EDC-8F469D9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B6F025-3F1E-4366-A06E-FF3A5E84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6B00C-B0AC-47B0-B6EB-DA7FD290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DD615B-EBF9-4318-BF51-89AAA92B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B893-F3FA-4660-AFA8-0761845B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FC9F4-806E-4100-81C3-8C4394C0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7314-1EA0-436B-9EAC-9C1817E0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FBF9-2A5D-4128-950B-CF3F39D8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1C4E-D6FA-48AB-ABE5-6293C66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14F3-3E03-41B3-B324-9F9E5A1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5EAA5-5B78-4C0D-9F6C-2127243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1AAF-3EE7-43DE-92A6-F623E342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49299-5EDC-4E1A-94F4-921F0BA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0BEF-6427-4CF6-A33D-124A0984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BF22-15FF-4C28-87EC-3DB48A46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D55CB-6AA6-40E5-8CD0-9536584F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12FAC-79C9-436B-841C-E4D167E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93B09-C132-46BD-8FD4-48A1F6B5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FD2D4-A377-490E-B773-B80AB07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55B12-8D23-40E4-9E49-12EC0BFE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8BEC9-6636-4630-B7F7-F45F7925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D6D03-1883-42AB-B7CB-7F4B655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7DDAF-6050-449F-9EF4-7C189A14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A479C-CF76-4EBC-80B8-BA0192D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90041-99A5-4514-9F1E-B2CCFCA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C324F-9001-4588-8C33-FA00EB8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B41AD-5BF8-4523-96C8-DA97BBD6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9373E-FE33-40AF-AF6F-130A58CC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57F17-F014-44F6-B5C3-8EE6434B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B65FC-A2A1-485E-B63A-97D126AA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84552-5E86-4FD8-9A42-DF31829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A7D03-3C92-4DDF-82C7-A400CC2A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1B79B-0DE2-4720-B710-5F92D94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B21C1-514B-43A3-BF15-D886905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8CFA4-488A-423A-8B05-09B8A9B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A5578-3D97-4F1A-8629-85AC9A6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0DD1A-A53D-48DD-B7E1-5D06C89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C7A63-2470-4B90-9DE6-DFCC220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4257D-8A26-4CB3-85E4-2DBEE817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17128-8DA4-4F73-8E06-DD50ACD1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6E6A3-F0FC-4B69-AD37-4FBBD679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2593E-460A-435F-B47E-A55422C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914CD-58FA-43F7-B3C6-90AC5D00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51948-392D-4793-9D0E-9E36AE9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7333A-CA7A-44F1-8970-2544A1CB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A09AC-2943-4E20-B558-7F3064EB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C6B41-E62D-4EBF-AC9C-D4AEC93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C2B53-3EF8-44B4-8747-574BA3A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B6C94-CD41-4447-9010-48C8320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26E24-51B2-4EBC-858F-E05467B2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0E482-F196-4ED7-83CC-AB7257C9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94967-3D69-4F2D-B83D-7CEE6F2A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C874B-C829-4505-A25C-98B686D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2195A-B212-451D-ABEF-286ABF6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36D86-CB0F-4A64-A414-8D1B9CE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FFC40-4F41-4B27-95ED-2AA71A8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09C3D-4D76-481E-ADF1-5126427A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84C0E-FAEC-48E7-9D4D-7B079BB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EC51E-08FE-4A91-BDF9-9CC383E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D6803-CC89-43D1-A287-8556743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50230-409B-4D52-B59E-877AAE3C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1C73B-E627-4C39-A063-A791D479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C4154-A719-4D7E-80AB-EC6E76A6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E7999-DF9B-4E25-86BF-D65DE353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24B33-2548-4375-9F79-4AE28577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78A18-8925-452F-9030-5CD2E6C8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1FF3B-24DE-44FA-A3B0-5904D40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1BFDB-C670-4422-B44B-EC8034F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3B5C9-FC4E-4372-858C-678F742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98C12-90D7-470F-87F6-5D69D0A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C2DE0-61AF-439B-9E12-C703E78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78E6E-69EC-4769-A51D-A63AA51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F316D-796D-4315-ACD2-6909493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9A93F-3925-479B-A5DC-1968B562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46A57-C535-4CBC-80AE-6DF92551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C3493-61EF-491C-81CD-4AB7F2BD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37B86-398C-4BF1-B57F-36CB8B6B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F6DB1-45A9-4BFF-A212-0FA53640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95DA3-7648-423D-A9A0-2309CA9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451-D198-4324-898F-B794EA01A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1B64-CA0E-4356-A9D4-B374C7A3B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4 Forma libre"/>
          <p:cNvSpPr/>
          <p:nvPr/>
        </p:nvSpPr>
        <p:spPr>
          <a:xfrm>
            <a:off x="0" y="5384880"/>
            <a:ext cx="10072800" cy="1608120"/>
          </a:xfrm>
          <a:prstGeom prst="pie">
            <a:avLst/>
          </a:pr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5 Rectángulo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gradFill rotWithShape="0">
            <a:gsLst>
              <a:gs pos="0">
                <a:srgbClr val="31789c"/>
              </a:gs>
              <a:gs pos="100000">
                <a:srgbClr val="5bd0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lizado p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8B47-9B39-40BB-9498-4675EE307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7BE-B3D0-4847-B376-811E6F09D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CAA-0EF0-488B-9290-457951426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131-F292-4E28-A1D8-4263D9275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481-D1AF-4D97-BFC7-DD1E66004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B7A-CEE5-4916-A911-97E0D82EC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786-C87B-4628-8895-1B355CB91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2172960"/>
            <a:ext cx="6985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Century Gothic"/>
              </a:rPr>
              <a:t>¿ Desarrollo territorial a partir de los Gobiernos Regionales ?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357720" y="456084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Carlos Haefne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835280" y="692280"/>
            <a:ext cx="691344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l mismo tiempo, es necesario asegurar la calidad de las </a:t>
            </a:r>
            <a:r>
              <a:rPr b="0" lang="es-ES" sz="2800" spc="-1" strike="noStrike">
                <a:solidFill>
                  <a:srgbClr val="000066"/>
                </a:solidFill>
                <a:latin typeface="Century Gothic"/>
              </a:rPr>
              <a:t>Estrategias de Desarrollo Reg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ctualmente, su calidad es variable y algunos planes regionales no ofrecen un análisis calificado y una definición de los objetivos estratégicos y lineamientos de acción para el desarrollo económico reg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03280" y="620640"/>
            <a:ext cx="6913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0"/>
            <a:ext cx="759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765000"/>
            <a:ext cx="8532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rt. 113.-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El consejo regional será un órgano de carácter normativo, resolutivo y fiscalizador, dentro del ámbito propio de competencia del gobierno regional,  encargado de hacer efectiva la participación de la ciudadanía regional y ejercer las atribuciones que la ley orgánica constitucional respectiva le encomiende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El consejo regional estará integrado por consejeros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elegidos por sufragio universal, en votación directa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, de conformidad con la ley orgánica constitucional  respectiva. Durarán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cuatro años en sus cargos y podrán ser reelegidos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. La misma ley  establecerá la organización del consejo regional, determinará el número de consejeros que lo integrarán y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su forma de reemplazo, cuidando siempre que tanto la población como el territorio de la región estén equitativamente  representados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826920" y="907920"/>
            <a:ext cx="8137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333360"/>
            <a:ext cx="42498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EXTO VIG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cc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E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presidirá el consejo regional</a:t>
            </a:r>
            <a:r>
              <a:rPr b="0" i="1" lang="es-ES" sz="2400" spc="-1" strike="noStrike">
                <a:solidFill>
                  <a:srgbClr val="99ffcc"/>
                </a:solidFill>
                <a:latin typeface="Century Gothic"/>
              </a:rPr>
              <a:t> y le corresponderá la coordinación, supervigilancia o fiscalización de los servicios públicos creados por ley para el cumplimiento de las funciones administrativas que operen 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4500720" y="333360"/>
            <a:ext cx="42494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e corresponde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coordinación, supervigila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o fiscalización de l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servicios públicos cre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por ley para el cumpl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de las fun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dministrativas que op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16000" y="907920"/>
            <a:ext cx="7272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 (LÁMINA I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l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, por mayoría absoluta de sus integrantes en ejercicio, elegirá un presidente de entre sus miembros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. El presidente del consejo durará cuatro años en su cargo y cesará en él en caso de incurrir en alguna de las causales señaladas en el inciso tercero, por remoción acordada por los dos tercios de los consejeros regionales en ejercicio o por renuncia aprobada por la mayoría de é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a ley orgánica constitucional determinará las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funciones y atribuciones del presidente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 del consejo reg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619280" y="549360"/>
            <a:ext cx="6840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entury Gothic"/>
              </a:rPr>
              <a:t>Corresponderá al </a:t>
            </a:r>
            <a:r>
              <a:rPr b="1" i="1" lang="es-ES" sz="32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 aprobar el proyecto de presupuestos de la respectiva región considerando, para tal efecto, los recursos asignados a ésta por la Ley de Presupuestos de la Nación, sus recursos propios y los que provengan de los convenios de programación.</a:t>
            </a:r>
            <a:r>
              <a:rPr b="0" i="1" lang="es-E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332000" y="981000"/>
            <a:ext cx="7343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932360" y="1484280"/>
            <a:ext cx="336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04640"/>
            <a:ext cx="449568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Art. 114.-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 La ley orgánica constitucional respectiva determinará la forma y el modo en que el Presidente de la República podrá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ransferir a uno o más gobiernos regionales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en carácte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emporal o definitivo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una o más competencias de los ministerios y servicios públicos creados para el cumplimiento de la función administrativa, en materias de  </a:t>
            </a:r>
            <a:r>
              <a:rPr b="1" i="1" lang="es-ES_tradnl" sz="2400" spc="-1" strike="noStrike">
                <a:solidFill>
                  <a:srgbClr val="ffffff"/>
                </a:solidFill>
                <a:latin typeface="Century Gothic"/>
              </a:rPr>
              <a:t>ordenamiento territorial, fomento  de las actividades productivas y desarrollo social y cultural</a:t>
            </a: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.”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33360"/>
            <a:ext cx="449568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600" spc="-1" strike="noStrike">
                <a:solidFill>
                  <a:srgbClr val="800080"/>
                </a:solidFill>
                <a:latin typeface="Arial"/>
              </a:rPr>
              <a:t>TEXTO VIGENTE</a:t>
            </a:r>
            <a:r>
              <a:rPr b="0" i="1" lang="es-ES_tradnl" sz="1600" spc="-1" strike="noStrike" u="sng">
                <a:solidFill>
                  <a:srgbClr val="80008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Art. 114.- </a:t>
            </a: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a ley deberá determinar las formas en que se descentralizará la administración del Estado, así como la transferencia de competencias a los gobiernos regiona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in perjuicio de lo anterior, tambié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establecerá, con las excepciones q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procedan, la desconcentr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regional de los ministerios y de l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ervicios públicos. Asimismo, regulará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os procedimientos que asegur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bida coordinación entre los órgan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 administración del Estado pa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facilitar el ejercicio de las facultad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s autoridades reg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Gobierno Regiona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980640"/>
            <a:ext cx="685800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naturaleza jurídica del Gobierno Regional es la de una persona jurídica de derecho público que goza de un patrimonio propi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us funciones pueden clasificarse en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) de ordenamiento territori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b) de fomento productivo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de desarrollo social 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cultural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ara el ejercicio de estas funciones la ley le otorga una serie de funciones que se distribuyen en sus órganos de autoridad del GORE y Consejo Region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332000" y="836640"/>
            <a:ext cx="7632720" cy="613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versión regional para el Desarrollo equilibrado (FND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) Coordinar la inversión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Apoyar técnicamente la gestión de las administracione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Articular la planificación en el territori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) Prestación de servicios de fomento produ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f) Promoción del desarrollo económico, social y cult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g) Representación de los intereses de la comun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189000"/>
            <a:ext cx="684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REAS Y DESAFIOS DE LOS GO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19280" y="189000"/>
            <a:ext cx="705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Aspectos relevantes Informe OCDE sobre Desarrollo Territorial en Chil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27664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1125360"/>
            <a:ext cx="7272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l desempeño regional varía enormement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revelando un potencial regional subutiliz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2276640"/>
            <a:ext cx="720108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Tahoma"/>
              </a:rPr>
              <a:t>Chile sigue estando altamente concent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antiago tiene la mayoría del capital político, económico e intelectual y casi la mitad de la pobl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economía depende de unos pocos sectores, ubicados mayoritariamente en un reducido número de regiones, que reciben gran parte de la inversión pública y pri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476360" y="333360"/>
            <a:ext cx="748836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minería (23% del PIB en 2006) y los servicios financieros (14% del PIB) se ubican  principalmente en Antofagasta y 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ntofagasta genera casi un 50% del PIB del sector minero; si se incluye a Tarapacá y Atacama, las otras dos regiones nortinas de producción mine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ta tasa aumenta a 7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simismo, la Región Metropolitana es  responsable de casi un 77% del PIB de los servicios financie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58920" y="1197000"/>
            <a:ext cx="7561080" cy="46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a pobreza y desigualdad que presenta el país esta asociado a una dimensión espacial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isparidades territoriales son amplias  y están fuertemente asociadas a grandes disparidades en la productividad lab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esigualdades territoriales también son severas en el acceso a la educación, en investigación e innovación, y en los niveles de pobre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404640"/>
            <a:ext cx="756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Century Gothic"/>
              </a:rPr>
              <a:t>La inequidad se expresa territor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634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entury Gothic"/>
              </a:rPr>
              <a:t>El país no soporta mas desequilibrios territoriales e inequidades para acceder oportunidades de mejoramiento de la calidad de vida: necesidad de un enfoque integrado de Desarrollo Territoria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03280" y="2781360"/>
            <a:ext cx="7345440" cy="31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Pero , el avance hacia un enfoque integrado para el desarrollo territorial en Chile requerirá  cambios profundos para establecer un sistema de gobernanza capaz de realizar intervenciones adecuadas a los distintos context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58920" y="692280"/>
            <a:ext cx="756108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ffcc"/>
                </a:solidFill>
                <a:latin typeface="Tahoma"/>
              </a:rPr>
              <a:t>Existen obstáculos institucionales para un Desarrollo Territorial Integ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inversión en las regiones sigue una lógica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foque de inversión “ proyecto a proyecto” sin concepto planificación sistémica y presupuestos plurianu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o anterior limita seriamente avanzar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hacia políticas regionales integrales que puedan movilizar recursos regionales sub-utili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Un enfoque territorial integrado requerirá de una institucionalidad subnacional más pode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9640" y="836640"/>
            <a:ext cx="860436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 fundamental incrementar el apoyo institucional a los gobiernos regionales para otorgarles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mayores podere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de supervisión, legitimidad y capacidad de influir en la discusión, planificación y coordinación de políticas de desarrollo regional integ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gobiernos regionales aún no tienen la suficiente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fortaleza institucional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como para gestionar y coordinar una estrategia común para la región, que reúna a los diversos organismos y actores que en ella oper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diversos actores públicos que intervienen en el proceso de inversión regional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no están obligado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a seguir los lineamientos establecidas por las Estrategias de Desarrollo Reg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0"/>
            <a:ext cx="633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Tahoma"/>
              </a:rPr>
              <a:t>Fortalecimiento Gobiernos Sub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30:27Z</dcterms:created>
  <dc:creator>chaefner</dc:creator>
  <dc:description/>
  <cp:keywords/>
  <dc:language>en-US</dc:language>
  <cp:lastModifiedBy>chaefner</cp:lastModifiedBy>
  <dcterms:modified xsi:type="dcterms:W3CDTF">2009-10-28T19:11:25Z</dcterms:modified>
  <cp:revision>38</cp:revision>
  <dc:subject/>
  <dc:title>Desarrollo territorial : Regional y Loca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87093082</vt:lpwstr>
  </property>
</Properties>
</file>