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0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1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2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525B091-9200-47B7-878F-20C99E41F4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3 Marcador de número de diapositiva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DFA4C0E-7A79-4CFE-96BA-8C4ACD532C6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C6A2C6-425C-4C5B-9E26-67FE842A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EA8646-50F1-4E6A-B8FC-B24CEAD6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F667B5-631C-4E37-9985-F68C0E77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715993-0A8D-411A-8EAD-AAE23EB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581CFA-C82B-4FBD-B409-F030EF6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41227A-0D54-4616-BFCA-F51759D4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75D27E-B119-45B4-9FF6-76EEAA88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FCC59C-E77D-4310-A3E8-AA6FAAD8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CE4F02-4B4A-4019-9B93-34BDA4CD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CCA70-A4B5-454D-9E99-DEF91979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3C182-3E09-495B-A1F5-EC088C66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8E6DB2-5609-4AC1-9758-07336215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BB55E5-CC9D-4D06-B7DD-618CAA78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FBA76D-D604-48D6-A01F-F9B18755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426691-1493-4325-9FF1-B5D4F9B9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95538A-9695-4A40-8906-6A6DBDE4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F32AB8-3E59-41A8-85C7-9275A9C2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D12656-CAAE-4697-879A-32A5E82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A1AE86-92B0-43F6-AE25-3517CE13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D6A9DE-5DB0-44BA-A799-5E4EC9D7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B8DBAF-86C4-4A18-9F5A-CFB9A3A4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604227-9284-42B7-97DF-ACECE244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599404-1C0F-4113-A5AB-2076AF65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524C3D-8937-42E8-BEE9-98568D4E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4B7B1D-B885-474A-B1A0-D128FBFD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B0358D-B71A-44B1-ADE1-39AF4ACC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C6C9A5-CF01-40C0-AB64-A5CEE404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E31800-AA7B-4642-86A0-13E304A4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155C74-F0F2-4D72-AF9F-E64C5EAA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1DBD02-5263-41C9-AA59-53A1193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61056B-C909-4C30-984E-AAED325F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A55544-8B5C-483A-94ED-92F24E7B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E95616-6DF0-4DD2-9E25-B22E6235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DA392-45E3-4F85-A0CE-819849F6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3B9ED-1CC4-4BF1-830A-BDF3EDF7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FAC08-DD58-4992-B2CE-395BB53A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24834-873D-4A2A-BEA6-7514B450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1ECA6-582D-4F85-8634-A0BC6ECF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0F340-27FA-46E7-A6F3-966E764C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A4C79-9AF6-41CE-B0C9-46D70A07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950AE-6D74-4928-ADA7-51B57621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97B2F-06E3-486B-BE51-1966D927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06558-44BB-4E9B-929C-1FF4F15A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BC42B-ADBC-41DA-BBD1-46D0EAA4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000CF-8945-4C0A-9569-43674C3C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9B7F1-3449-4EA1-84D4-5107FB5C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F8547-4930-4834-AA16-FC4EA793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7A9F9-8E34-444D-A204-7A750066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D23E9-D74A-465D-840C-07CFDAB8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6090A-2154-4F7C-B34F-C1E40D0E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A3446-DF0F-4E40-B4B3-D12F614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BC3FF-E487-4C4A-B5D6-EF6D438B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57366-C73E-4DE9-BDDD-3B85D0FD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3DEE1-656D-43E7-998C-09BACD6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EA359-2989-48A2-808E-87A46A88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EA7C0-7CB2-47DE-B44D-139D8E35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B556E-F005-43CF-B465-3408F06E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0C7EB-166A-484A-884F-EC3BF9BE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A2222-A592-48EE-A695-D133688D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67D68-D26B-4BD8-BC01-2777917A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CDFE8-6597-46F2-ADC5-E8447948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23A22-01E7-42DD-B19D-BB4DBF58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37D63-CD14-44A6-A6AD-CABF1A5A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226FB-33B2-461D-923C-12613EC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05520-4D04-4952-AB40-66323989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77800-FC52-4C09-9F24-4ADB90CE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14156-2971-41BE-9D73-48EDF5AC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9D318-7DFF-4E13-A68F-9FAA6BA6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B9584-91DE-417A-8EEB-A37CEF89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1FB68-99EC-4AC5-B965-30E0D9C2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D5928-35F1-4530-97AA-E3CFAEBF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99F34-AE56-4CB3-A649-FE330C4E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F591E-D06B-44D5-9CE5-AF160648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52658-27E3-42C1-AD7B-F4B962C4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5AE8C-1982-4353-88DF-90BCBA2C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8333C-6D3F-448C-BEB4-728B2AE0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EA5A5-0F17-49F1-8E87-5F72625C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6548A-95BC-43E1-8826-6D3E5346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F3751-F2FD-48FC-A60B-A5EACA1D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54AF5-43E3-4BD1-8954-E2E710D2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B0DCE-4ABB-4336-B886-09F61A1C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F5469-C367-4779-95FC-C788F009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88349-FE1D-42C6-8F6C-65F88B69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5E9CE-5B36-4BED-8307-E445A889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CDD13-29CF-4795-ABD0-BB08B434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66637-F240-4D43-BF3F-7781A8E5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898B2-B67E-41FE-9DE8-92E489D0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1EFBA-831A-4385-9539-6069B1E2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FDE22-6105-4B33-A3CF-91899BF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6D43E-5749-4EA6-A26F-315B2C26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DEA29-17BC-4F63-9E5F-C27A6CBD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F0AAB-B704-419B-8FC0-96F5FE46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132EC-BEE3-4280-A3B6-8736A6A3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FAAE5-BE85-435F-AC81-9DDEC753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9947C-9BAF-41B0-A34E-3AF56826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B2E3C-FAA0-4DBA-B09C-8B627FE5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DA4B5-FA55-4C2E-9A9F-A464AA87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D9CE6-A580-4A55-84AF-548C744F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F9BA8-20D3-46B2-A46B-FD326142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AD3A6C-AD27-484D-A0D0-7EDB47A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812A3-D585-4641-8EC0-F276A6B6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05C76-C5EB-471A-A5A7-FE2A6A1B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8DF4A-7DD1-4519-8877-AF1F836E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5D878-E2B1-44AB-BE31-0C831B08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27FBAC-5D6C-4125-865F-8BE075D5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094DC-71CD-4A2D-B2AD-46F56F24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DA94D5-8BDE-4EF7-A2B7-4A35DD26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7AA5C2-DCA5-4883-801C-11B16CC7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mbre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5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3DBA-DC3B-4F94-B26E-D2F8067515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B5CE-F128-48A1-A63B-CE06264F57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4 Forma libre"/>
          <p:cNvSpPr/>
          <p:nvPr/>
        </p:nvSpPr>
        <p:spPr>
          <a:xfrm>
            <a:off x="0" y="5384880"/>
            <a:ext cx="10072800" cy="1608120"/>
          </a:xfrm>
          <a:prstGeom prst="pie">
            <a:avLst/>
          </a:prstGeom>
          <a:noFill/>
          <a:ln w="381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5 Rectángulo"/>
          <p:cNvSpPr/>
          <p:nvPr/>
        </p:nvSpPr>
        <p:spPr>
          <a:xfrm>
            <a:off x="0" y="0"/>
            <a:ext cx="1214280" cy="6858000"/>
          </a:xfrm>
          <a:prstGeom prst="rect">
            <a:avLst/>
          </a:prstGeom>
          <a:gradFill rotWithShape="0">
            <a:gsLst>
              <a:gs pos="0">
                <a:srgbClr val="31789c"/>
              </a:gs>
              <a:gs pos="100000">
                <a:srgbClr val="5bd0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lizado p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0523-5EB2-48E2-AE8E-59A2D34FE0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7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F5A7-97F9-44FD-BA26-1C500076BC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1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AB49-8453-43E7-8B5D-EDAE40BC5A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2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3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4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ED51-0AE6-4C9E-A8E8-7C578DB039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5CE0-9AEA-4AAF-B024-A55647AEB8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D464-E76A-4516-BF7D-B6F3E03CFD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2"/>
          </p:nvPr>
        </p:nvSpPr>
        <p:spPr>
          <a:xfrm>
            <a:off x="3105000" y="632448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5609-E1DD-4FE3-BE5B-EEDB2CCBF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560" y="2172960"/>
            <a:ext cx="6985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Century Gothic"/>
              </a:rPr>
              <a:t>¿ Desarrollo territorial a partir de los Gobiernos Regionales ?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357720" y="4560840"/>
            <a:ext cx="4952880" cy="18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entury Gothic"/>
              </a:rPr>
              <a:t>Carlos Haefner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entury Gothic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835280" y="692280"/>
            <a:ext cx="691344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Al mismo tiempo, es necesario asegurar la calidad de las </a:t>
            </a:r>
            <a:r>
              <a:rPr b="0" lang="es-ES" sz="2800" spc="-1" strike="noStrike">
                <a:solidFill>
                  <a:srgbClr val="000066"/>
                </a:solidFill>
                <a:latin typeface="Century Gothic"/>
              </a:rPr>
              <a:t>Estrategias de Desarrollo Reg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Actualmente, su calidad es variable y algunos planes regionales no ofrecen un análisis calificado y una definición de los objetivos estratégicos y lineamientos de acción para el desarrollo económico reg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03280" y="620640"/>
            <a:ext cx="6913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1547640" y="0"/>
            <a:ext cx="759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NUEVO ART. 113 APROB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611280" y="765000"/>
            <a:ext cx="853272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rt. 113.-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cc00"/>
                </a:solidFill>
                <a:latin typeface="Arial"/>
              </a:rPr>
              <a:t>El consejo regional será un órgano de carácter normativo, resolutivo y fiscalizador, dentro del ámbito propio de competencia del gobierno regional,  encargado de hacer efectiva la participación de la ciudadanía regional y ejercer las atribuciones que la ley orgánica constitucional respectiva le encomiende</a:t>
            </a:r>
            <a:r>
              <a:rPr b="0" i="1" lang="es-ES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Century Gothic"/>
              </a:rPr>
              <a:t>El consejo regional estará integrado por consejeros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elegidos por sufragio universal, en votación directa</a:t>
            </a:r>
            <a:r>
              <a:rPr b="0" i="1" lang="es-ES" sz="2000" spc="-1" strike="noStrike">
                <a:solidFill>
                  <a:srgbClr val="ffffff"/>
                </a:solidFill>
                <a:latin typeface="Century Gothic"/>
              </a:rPr>
              <a:t>, de conformidad con la ley orgánica constitucional  respectiva. Durarán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cuatro años en sus cargos y podrán ser reelegidos</a:t>
            </a:r>
            <a:r>
              <a:rPr b="0" i="1" lang="es-ES" sz="2000" spc="-1" strike="noStrike">
                <a:solidFill>
                  <a:srgbClr val="ffffff"/>
                </a:solidFill>
                <a:latin typeface="Century Gothic"/>
              </a:rPr>
              <a:t>. La misma ley  establecerá la organización del consejo regional, determinará el número de consejeros que lo integrarán y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su forma de reemplazo, cuidando siempre que tanto la población como el territorio de la región estén equitativamente  representados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826920" y="907920"/>
            <a:ext cx="8137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250920" y="333360"/>
            <a:ext cx="42498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TEXTO VIG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ffcc"/>
                </a:solidFill>
                <a:latin typeface="Century Gothic"/>
              </a:rPr>
              <a:t>Art. 112.-</a:t>
            </a:r>
            <a:r>
              <a:rPr b="0" lang="es-ES" sz="2400" spc="-1" strike="noStrike">
                <a:solidFill>
                  <a:srgbClr val="99ffcc"/>
                </a:solidFill>
                <a:latin typeface="Century Gothic"/>
              </a:rPr>
              <a:t> </a:t>
            </a:r>
            <a:r>
              <a:rPr b="1" i="1" lang="es-ES" sz="2400" spc="-1" strike="noStrike">
                <a:solidFill>
                  <a:srgbClr val="99ffcc"/>
                </a:solidFill>
                <a:latin typeface="Century Gothic"/>
              </a:rPr>
              <a:t>El intenden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ffcc"/>
                </a:solidFill>
                <a:latin typeface="Century Gothic"/>
              </a:rPr>
              <a:t>presidirá el consejo regional</a:t>
            </a:r>
            <a:r>
              <a:rPr b="0" i="1" lang="es-ES" sz="2400" spc="-1" strike="noStrike">
                <a:solidFill>
                  <a:srgbClr val="99ffcc"/>
                </a:solidFill>
                <a:latin typeface="Century Gothic"/>
              </a:rPr>
              <a:t> y le corresponderá la coordinación, supervigilancia o fiscalización de los servicios públicos creados por ley para el cumplimiento de las funciones administrativas que operen en la reg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4500720" y="333360"/>
            <a:ext cx="424944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TEXTO APROB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Art. 112.-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Al intenden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le corresponde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coordinación, supervigilanc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o fiscalización de l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servicios públicos cre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por ley para el cumplimie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de las funcio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administrativas que oper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en la reg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116000" y="907920"/>
            <a:ext cx="7272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NUEVO ART. 113 APROBADO (LÁMINA II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250920" y="148428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El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consejo regional, por mayoría absoluta de sus integrantes en ejercicio, elegirá un presidente de entre sus miembros</a:t>
            </a: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. El presidente del consejo durará cuatro años en su cargo y cesará en él en caso de incurrir en alguna de las causales señaladas en el inciso tercero, por remoción acordada por los dos tercios de los consejeros regionales en ejercicio o por renuncia aprobada por la mayoría de és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La ley orgánica constitucional determinará las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funciones y atribuciones del presidente</a:t>
            </a:r>
            <a:r>
              <a:rPr b="0" i="1" lang="es-ES" sz="2400" spc="-1" strike="noStrike">
                <a:solidFill>
                  <a:srgbClr val="ffffff"/>
                </a:solidFill>
                <a:latin typeface="Century Gothic"/>
              </a:rPr>
              <a:t> del consejo reg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619280" y="549360"/>
            <a:ext cx="6840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NUEVO ART. 113 APROB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250920" y="148428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Century Gothic"/>
              </a:rPr>
              <a:t>Corresponderá al </a:t>
            </a:r>
            <a:r>
              <a:rPr b="1" i="1" lang="es-ES" sz="3200" spc="-1" strike="noStrike" u="sng">
                <a:solidFill>
                  <a:srgbClr val="ffffff"/>
                </a:solidFill>
                <a:uFillTx/>
                <a:latin typeface="Century Gothic"/>
              </a:rPr>
              <a:t>consejo regional aprobar el proyecto de presupuestos de la respectiva región considerando, para tal efecto, los recursos asignados a ésta por la Ley de Presupuestos de la Nación, sus recursos propios y los que provengan de los convenios de programación.</a:t>
            </a:r>
            <a:r>
              <a:rPr b="0" i="1" lang="es-ES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332000" y="981000"/>
            <a:ext cx="7343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932360" y="1484280"/>
            <a:ext cx="3363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404640"/>
            <a:ext cx="4495680" cy="66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entury Gothic"/>
              </a:rPr>
              <a:t>TEXTO APROB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entury Gothic"/>
              </a:rPr>
              <a:t>Art. 114.-</a:t>
            </a:r>
            <a:r>
              <a:rPr b="0" i="1" lang="es-ES_tradnl" sz="2400" spc="-1" strike="noStrike">
                <a:solidFill>
                  <a:srgbClr val="ffffff"/>
                </a:solidFill>
                <a:latin typeface="Century Gothic"/>
              </a:rPr>
              <a:t> La ley orgánica constitucional respectiva determinará la forma y el modo en que el Presidente de la República podrá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Century Gothic"/>
              </a:rPr>
              <a:t>transferir a uno o más gobiernos regionales</a:t>
            </a:r>
            <a:r>
              <a:rPr b="0" i="1" lang="es-ES_tradnl" sz="2400" spc="-1" strike="noStrike">
                <a:solidFill>
                  <a:srgbClr val="ffffff"/>
                </a:solidFill>
                <a:latin typeface="Century Gothic"/>
              </a:rPr>
              <a:t>, en carácte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Century Gothic"/>
              </a:rPr>
              <a:t>temporal o definitivo</a:t>
            </a:r>
            <a:r>
              <a:rPr b="0" i="1" lang="es-ES_tradnl" sz="2400" spc="-1" strike="noStrike">
                <a:solidFill>
                  <a:srgbClr val="ffffff"/>
                </a:solidFill>
                <a:latin typeface="Century Gothic"/>
              </a:rPr>
              <a:t>, una o más competencias de los ministerios y servicios públicos creados para el cumplimiento de la función administrativa, en materias de  </a:t>
            </a:r>
            <a:r>
              <a:rPr b="1" i="1" lang="es-ES_tradnl" sz="2400" spc="-1" strike="noStrike">
                <a:solidFill>
                  <a:srgbClr val="ffffff"/>
                </a:solidFill>
                <a:latin typeface="Century Gothic"/>
              </a:rPr>
              <a:t>ordenamiento territorial, fomento  de las actividades productivas y desarrollo social y cultural</a:t>
            </a:r>
            <a:r>
              <a:rPr b="0" lang="es-ES_tradnl" sz="2400" spc="-1" strike="noStrike">
                <a:solidFill>
                  <a:srgbClr val="ffffff"/>
                </a:solidFill>
                <a:latin typeface="Century Gothic"/>
              </a:rPr>
              <a:t>.”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33360"/>
            <a:ext cx="449568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s-ES_tradnl" sz="1600" spc="-1" strike="noStrike">
                <a:solidFill>
                  <a:srgbClr val="800080"/>
                </a:solidFill>
                <a:latin typeface="Arial"/>
              </a:rPr>
              <a:t>TEXTO VIGENTE</a:t>
            </a:r>
            <a:r>
              <a:rPr b="0" i="1" lang="es-ES_tradnl" sz="1600" spc="-1" strike="noStrike" u="sng">
                <a:solidFill>
                  <a:srgbClr val="80008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Art. 114.- </a:t>
            </a: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La ley deberá determinar las formas en que se descentralizará la administración del Estado, así como la transferencia de competencias a los gobiernos regional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Sin perjuicio de lo anterior, tambié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establecerá, con las excepciones q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procedan, la desconcentració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regional de los ministerios y de l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servicios públicos. Asimismo, regulará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los procedimientos que asegur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debida coordinación entre los órgan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de la administración del Estado par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facilitar el ejercicio de las facultad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i="1" lang="es-ES_tradnl" sz="1800" spc="-1" strike="noStrike">
                <a:solidFill>
                  <a:srgbClr val="800080"/>
                </a:solidFill>
                <a:latin typeface="Arial"/>
              </a:rPr>
              <a:t>de las autoridades reg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l Gobierno Regiona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980640"/>
            <a:ext cx="6858000" cy="49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naturaleza jurídica del Gobierno Regional es la de una persona jurídica de derecho público que goza de un patrimonio propio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us funciones pueden clasificarse en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a) de ordenamiento territori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b) de fomento productivo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) de desarrollo social 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d) cultural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Para el ejercicio de estas funciones la ley le otorga una serie de funciones que se distribuyen en sus órganos de autoridad del GORE y Consejo Regiona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332000" y="836640"/>
            <a:ext cx="7632720" cy="613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nversión regional para el Desarrollo equilibrado (FND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b) Coordinar la inversión secto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) Apoyar técnicamente la gestión de las administraciones l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d) Articular la planificación en el territori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e) Prestación de servicios de fomento produ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f) Promoción del desarrollo económico, social y cultu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g) Representación de los intereses de la comun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835280" y="189000"/>
            <a:ext cx="6840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AREAS Y DESAFIOS DE LOS GO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619280" y="189000"/>
            <a:ext cx="7056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Aspectos relevantes Informe OCDE sobre Desarrollo Territorial en Chile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1116000" y="2276640"/>
            <a:ext cx="7201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1403280" y="1125360"/>
            <a:ext cx="7272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El desempeño regional varía enormement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revelando un potencial regional subutiliz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1547640" y="2276640"/>
            <a:ext cx="720108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Tahoma"/>
              </a:rPr>
              <a:t>Chile sigue estando altamente concentrad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Santiago tiene la mayoría del capital político, económico e intelectual y casi la mitad de la població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economía depende de unos pocos sectores, ubicados mayoritariamente en un reducido número de regiones, que reciben gran parte de la inversión pública y priv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476360" y="333360"/>
            <a:ext cx="748836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minería (23% del PIB en 2006) y los servicios financieros (14% del PIB) se ubican  principalmente en Antofagasta y R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Antofagasta genera casi un 50% del PIB del sector minero; si se incluye a Tarapacá y Atacama, las otras dos regiones nortinas de producción mine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esta tasa aumenta a 75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Asimismo, la Región Metropolitana es  responsable de casi un 77% del PIB de los servicios financier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58920" y="1197000"/>
            <a:ext cx="7561080" cy="467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La pobreza y desigualdad que presenta el país esta asociado a una dimensión espacial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s disparidades territoriales son amplias  y están fuertemente asociadas a grandes disparidades en la productividad lab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s desigualdades territoriales también son severas en el acceso a la educación, en investigación e innovación, y en los niveles de pobre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404640"/>
            <a:ext cx="756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Century Gothic"/>
              </a:rPr>
              <a:t>La inequidad se expresa territori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6341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entury Gothic"/>
              </a:rPr>
              <a:t>El país no soporta mas desequilibrios territoriales e inequidades para acceder oportunidades de mejoramiento de la calidad de vida: necesidad de un enfoque integrado de Desarrollo Territoria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03280" y="2781360"/>
            <a:ext cx="7345440" cy="31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Pero , el avance hacia un enfoque integrado para el desarrollo territorial en Chile requerirá  cambios profundos para establecer un sistema de gobernanza capaz de realizar intervenciones adecuadas a los distintos contexto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58920" y="692280"/>
            <a:ext cx="7561080" cy="56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ffcc"/>
                </a:solidFill>
                <a:latin typeface="Tahoma"/>
              </a:rPr>
              <a:t>Existen obstáculos institucionales para un Desarrollo Territorial Integrad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a inversión en las regiones sigue una lógica secto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nfoque de inversión “ proyecto a proyecto” sin concepto planificación sistémica y presupuestos plurianu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Lo anterior limita seriamente avanzar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hacia políticas regionales integrales que puedan movilizar recursos regionales sub-utiliz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Un enfoque territorial integrado requerirá de una institucionalidad subnacional más pode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9640" y="836640"/>
            <a:ext cx="8604360" cy="563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Es fundamental incrementar el apoyo institucional a los gobiernos regionales para otorgarles </a:t>
            </a:r>
            <a:r>
              <a:rPr b="0" lang="es-ES" sz="2400" spc="-1" strike="noStrike">
                <a:solidFill>
                  <a:srgbClr val="00ff00"/>
                </a:solidFill>
                <a:latin typeface="Century Gothic"/>
              </a:rPr>
              <a:t>mayores poderes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de supervisión, legitimidad y capacidad de influir en la discusión, planificación y coordinación de políticas de desarrollo regional integ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os gobiernos regionales aún no tienen la suficiente </a:t>
            </a:r>
            <a:r>
              <a:rPr b="0" lang="es-ES" sz="2400" spc="-1" strike="noStrike">
                <a:solidFill>
                  <a:srgbClr val="00ff00"/>
                </a:solidFill>
                <a:latin typeface="Century Gothic"/>
              </a:rPr>
              <a:t>fortaleza institucional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como para gestionar y coordinar una estrategia común para la región, que reúna a los diversos organismos y actores que en ella oper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Los diversos actores públicos que intervienen en el proceso de inversión regional </a:t>
            </a:r>
            <a:r>
              <a:rPr b="0" lang="es-ES" sz="2400" spc="-1" strike="noStrike">
                <a:solidFill>
                  <a:srgbClr val="00ff00"/>
                </a:solidFill>
                <a:latin typeface="Century Gothic"/>
              </a:rPr>
              <a:t>no están obligados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a seguir los lineamientos establecidas por las Estrategias de Desarrollo Reg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0"/>
            <a:ext cx="6337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ff00"/>
                </a:solidFill>
                <a:latin typeface="Tahoma"/>
              </a:rPr>
              <a:t>Fortalecimiento Gobiernos Sub 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30:27Z</dcterms:created>
  <dc:creator>chaefner</dc:creator>
  <dc:description/>
  <cp:keywords/>
  <dc:language>en-US</dc:language>
  <cp:lastModifiedBy>chaefner</cp:lastModifiedBy>
  <dcterms:modified xsi:type="dcterms:W3CDTF">2009-10-28T19:11:25Z</dcterms:modified>
  <cp:revision>38</cp:revision>
  <dc:subject/>
  <dc:title>Desarrollo territorial : Regional y Local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87093082</vt:lpwstr>
  </property>
</Properties>
</file>