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9144000" cy="6858000"/>
  <p:notesSz cx="6948488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0" y="0"/>
            <a:ext cx="6948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dt" idx="30"/>
          </p:nvPr>
        </p:nvSpPr>
        <p:spPr>
          <a:xfrm>
            <a:off x="3936600" y="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ftr" idx="31"/>
          </p:nvPr>
        </p:nvSpPr>
        <p:spPr>
          <a:xfrm>
            <a:off x="-360" y="882000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 type="sldNum" idx="32"/>
          </p:nvPr>
        </p:nvSpPr>
        <p:spPr>
          <a:xfrm>
            <a:off x="3936600" y="882000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52064FCD-5214-4249-921A-05D3A9D5EC2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3 Marcador de número de diapositiva"/>
          <p:cNvSpPr/>
          <p:nvPr/>
        </p:nvSpPr>
        <p:spPr>
          <a:xfrm>
            <a:off x="3936960" y="88200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1AC22951-E7BD-4D47-914B-A35A2E4D480A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94E718F-7C5F-4382-ABF8-C53C57550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21C8187-D757-4DC1-B08F-4CAF857F7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1370160" y="380520"/>
            <a:ext cx="685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1BE7315-B32E-4D55-8C75-C3969720B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1869992-474C-44F2-A356-50EFEB85A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EFA5FA6-5CE1-4716-9099-466235623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401658D-8A1C-4B6A-B061-7BD57F39B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5971637-48DE-46EA-BA62-98B203DD5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9C756C0-21D5-427C-A91B-6DBE2D4B8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6903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087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137160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6903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0087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6A207BA-C3AD-45AD-8269-0BF5A7D94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FA0D50D-E36F-4092-8601-DB81536B8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9EAE8ED-C015-456F-A09B-2C5D0E4ED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FCA5C42-E56E-4F39-A3AA-81D618030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DA87D92-42DA-469E-B82A-D035BB785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057C01B-2E4E-4D29-A1B6-FC0C05EC3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1370160" y="380520"/>
            <a:ext cx="685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4B639A9-76A3-4C38-AB09-3D0A36918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82CD9A7-6F69-4093-8166-3A555E621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21C2E73-C952-4EC4-90C9-F8BF3DF0C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D8C8A5C-EA63-476C-BC17-034887CC8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0172B38-AFD8-46E8-A251-500BA20EE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2536C83-9E25-4882-B08F-5CE3DDBB6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903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087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37160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903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087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6903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087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137160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6903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0087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1AFD3F3-B4F3-417D-9687-3FF34A5E6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712D4CB-6D41-4D15-9AB9-BCEA345FE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F439915-D401-4154-9400-002FD6732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67B97D4-343E-48D4-8151-9D38015E8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C25581C-5402-4278-ABD1-033ACE4F8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C9660F0-9E02-4364-B90B-D2F984DC1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1370160" y="380520"/>
            <a:ext cx="685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BB64DE1-6EA7-45EC-B516-43AF1E6F4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EEE15E5-1017-4BBF-99A5-844845AC3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C87B6D7-522D-4FB6-9EE7-37094D97F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B53C980-E931-4717-89C2-3612150F7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A9C53E3-8DB8-445E-99C3-3DAB50F6B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5FF6CC6-161B-4D3E-BF16-EC2E1D476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6903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087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137160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6903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087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3AF0DE6-41C4-4991-B96F-D5CEC43C2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370160" y="380520"/>
            <a:ext cx="685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903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087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37160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903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087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EBDEB6-7CA1-4FA8-8D4A-ABD7B65FF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1C94C6-3CF5-4602-9153-AE05F7CEE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A6ED2F-7138-45C9-8646-D28B54F4C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C1340C-B23C-4E20-9DA5-6CDB572AD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2C403C-80A8-4BFC-91B7-C06AC3F8A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370160" y="380520"/>
            <a:ext cx="685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9B177D-2707-4006-8791-8305636E2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A3EE3A-565B-4F95-9085-9ACCCB9CE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B38B01-9D6B-4D22-A7BB-5354A7337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B4FAE5-F5B4-42AE-AAA7-15568EA0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B38788-79D0-4C6A-ABA0-7A36D5712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FB9800-9B31-4B99-A2F2-4F9E62EE9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6903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087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137160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6903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087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9B684E-BF66-4E0F-87EA-08269515F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65FE69-330C-42A1-89D0-31501FF14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886D30-6511-47B0-9EE4-303728F08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5BB8C0-1A9C-4CA6-8FEC-C54DD7A0A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3C93AB-09E9-48E3-8114-D97ECC489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CEF9A9-0FF8-4D19-948F-EA19E7799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370160" y="380520"/>
            <a:ext cx="685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23875D-C87E-4392-A329-6F27F78C9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5FFA3B-0E98-4ED1-9B08-EE2DFCE23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5D8237-A4FF-4961-87CE-CBCAB2AA3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90E0D9-741E-4E7D-8B8A-8C854E8E5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2E9383-7AE0-4BAA-ACFB-FFE6BDA21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A527A5-ACE8-4CEC-8129-98F7264DF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6903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087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37160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6903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087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9AD02A-5684-4C3D-9C61-6E55D3043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4337BF-32E7-4B91-B27F-06EB7EFB4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B6A878-8FF9-4F15-B2AA-44F28702B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7E2F9E-B285-4D72-9194-87B87D315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654BED-461F-447C-8AC5-BCB55ECAC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2248E1-91F2-44E5-94F4-43448D9A7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1370160" y="380520"/>
            <a:ext cx="685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B3EC73-EB86-47EA-8C50-53F5578A2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D5A492-2F16-4A6A-A7DA-13BA66A5A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1A5A04-70E7-4117-82C9-610CC484C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9B1222-0882-4B03-BEB0-85F02528A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02C247-C7BC-48C5-AE59-AF22481C5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EEE6ED-18DB-44D1-B49D-7210A94FB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370160" y="380520"/>
            <a:ext cx="685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6903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087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137160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6903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087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A9C7C7-ACFF-43AB-9BDD-C7015EFA5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2A5431-AC05-41E5-9818-B34D1C254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67D682-1ABD-4C2B-AD1F-9C1AE6FBD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38B88E-1EBD-4829-A174-9B99A268A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F7BE5E-E05B-472A-AA07-C42AACAEC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F161EC-10B3-4BBF-BA33-A857BD74B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370160" y="380520"/>
            <a:ext cx="685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80BACC-A355-4009-B62A-37630124D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6859DC-F72D-42D2-B8D8-33469044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E2A4DB-57B4-40C0-A1CA-DDD539E60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5BE6C4-6AB7-47DB-83EF-A056A8D45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C33E7E-E473-4995-86AF-E2A2BEF54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55034D-EFA4-4027-8EC1-576A058AC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6903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087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137160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6903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087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60598A-FB53-4C29-87E3-C8D1C7127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803130-47A2-41E3-A26D-20CAA0BC0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FC2B29-D350-4BCC-B065-54BE7FA60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478817-1767-47B8-8A75-09E4B42D2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806D61-7A59-463E-BB53-EA389D9AD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306618-57E2-4789-8CD7-9B08E29C1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1370160" y="380520"/>
            <a:ext cx="685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3ECC55-EFD2-48E0-AEEE-C16F254BE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AB8039-7248-4140-B5B4-F750410F8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E7C307-DB1D-4D85-8BD3-CFEC39963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6EDB59-16D1-4A25-B14C-ED81E1789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D727FE-2383-4A9E-A8AB-DBA3362A2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41DBEE-6E6C-4B48-87CE-45D6EA09F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6903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087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137160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6903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087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A8D0DE-D80E-4FE3-B092-324BC5E21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CB7891-C25A-4E2E-A4E1-23AA5FD59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0B50A2-A77E-4F9E-9B2D-CD645BEC0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DE5E92-C728-4B54-B2C3-2A590D07A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0D7D09-93C6-40B7-8F18-01D244465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D2DE11-80F0-4684-9A10-B15628319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1370160" y="380520"/>
            <a:ext cx="685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2854E6-7F98-4F60-BFC6-B9242D060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CCC543-F4D0-4F68-B563-7485ADBD4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1A85C5-3FB8-47D1-89D9-3131F90CD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59B853-45F1-4E75-82FE-A86005B3C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439AFE-68D3-4B64-9BAB-E7382190F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EFC489-39BD-43F7-AA09-EA610D127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6903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087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137160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6903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087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A6F09B-6889-4E34-8E4E-5DEC3537A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952A04F-6E3D-4CF0-A64D-F7AE83041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C73B045-CF07-403C-9AD9-97366F676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5FEF3D7-A73D-4B14-8403-ABD0FE664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05000" y="6324480"/>
            <a:ext cx="28958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mbre del produ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4"/>
          </p:nvPr>
        </p:nvSpPr>
        <p:spPr>
          <a:xfrm>
            <a:off x="228600" y="63262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5"/>
          </p:nvPr>
        </p:nvSpPr>
        <p:spPr>
          <a:xfrm>
            <a:off x="3105000" y="6324480"/>
            <a:ext cx="28958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6"/>
          </p:nvPr>
        </p:nvSpPr>
        <p:spPr>
          <a:xfrm>
            <a:off x="5410080" y="63244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B046F-DE7F-4A1F-A4CC-194A07FFD62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7"/>
          </p:nvPr>
        </p:nvSpPr>
        <p:spPr>
          <a:xfrm>
            <a:off x="228600" y="63262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8"/>
          </p:nvPr>
        </p:nvSpPr>
        <p:spPr>
          <a:xfrm>
            <a:off x="3105000" y="6324480"/>
            <a:ext cx="28958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29"/>
          </p:nvPr>
        </p:nvSpPr>
        <p:spPr>
          <a:xfrm>
            <a:off x="5410080" y="63244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B5301-5599-46FF-9928-E06C0DE9031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4 Forma libre"/>
          <p:cNvSpPr/>
          <p:nvPr/>
        </p:nvSpPr>
        <p:spPr>
          <a:xfrm>
            <a:off x="0" y="5384880"/>
            <a:ext cx="10072800" cy="1608120"/>
          </a:xfrm>
          <a:prstGeom prst="pie">
            <a:avLst/>
          </a:prstGeom>
          <a:noFill/>
          <a:ln w="3816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5 Rectángulo"/>
          <p:cNvSpPr/>
          <p:nvPr/>
        </p:nvSpPr>
        <p:spPr>
          <a:xfrm>
            <a:off x="0" y="0"/>
            <a:ext cx="1214280" cy="6858000"/>
          </a:xfrm>
          <a:prstGeom prst="rect">
            <a:avLst/>
          </a:prstGeom>
          <a:gradFill rotWithShape="0">
            <a:gsLst>
              <a:gs pos="0">
                <a:srgbClr val="31789c"/>
              </a:gs>
              <a:gs pos="100000">
                <a:srgbClr val="5bd0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2"/>
          </p:nvPr>
        </p:nvSpPr>
        <p:spPr>
          <a:xfrm>
            <a:off x="3105000" y="6324480"/>
            <a:ext cx="28958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alizado por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3"/>
          </p:nvPr>
        </p:nvSpPr>
        <p:spPr>
          <a:xfrm>
            <a:off x="228600" y="63262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4"/>
          </p:nvPr>
        </p:nvSpPr>
        <p:spPr>
          <a:xfrm>
            <a:off x="3105000" y="6324480"/>
            <a:ext cx="28958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5"/>
          </p:nvPr>
        </p:nvSpPr>
        <p:spPr>
          <a:xfrm>
            <a:off x="5410080" y="63244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D38B2-FE89-4960-A61E-0E1F6FD2F1D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6"/>
          </p:nvPr>
        </p:nvSpPr>
        <p:spPr>
          <a:xfrm>
            <a:off x="228600" y="63262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7"/>
          </p:nvPr>
        </p:nvSpPr>
        <p:spPr>
          <a:xfrm>
            <a:off x="3105000" y="6324480"/>
            <a:ext cx="28958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8"/>
          </p:nvPr>
        </p:nvSpPr>
        <p:spPr>
          <a:xfrm>
            <a:off x="5410080" y="63244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E3D2E-5AD0-425A-9497-80C5A42EB0B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9"/>
          </p:nvPr>
        </p:nvSpPr>
        <p:spPr>
          <a:xfrm>
            <a:off x="228600" y="63262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0"/>
          </p:nvPr>
        </p:nvSpPr>
        <p:spPr>
          <a:xfrm>
            <a:off x="3105000" y="6324480"/>
            <a:ext cx="28958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1"/>
          </p:nvPr>
        </p:nvSpPr>
        <p:spPr>
          <a:xfrm>
            <a:off x="5410080" y="63244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B0CA1-601C-46F3-93B6-62BA15CE2A0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2"/>
          </p:nvPr>
        </p:nvSpPr>
        <p:spPr>
          <a:xfrm>
            <a:off x="228600" y="63262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3"/>
          </p:nvPr>
        </p:nvSpPr>
        <p:spPr>
          <a:xfrm>
            <a:off x="3105000" y="6324480"/>
            <a:ext cx="28958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4"/>
          </p:nvPr>
        </p:nvSpPr>
        <p:spPr>
          <a:xfrm>
            <a:off x="5410080" y="63244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37413-ED85-4BAF-8A2E-7486E1766D3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5"/>
          </p:nvPr>
        </p:nvSpPr>
        <p:spPr>
          <a:xfrm>
            <a:off x="228600" y="63262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6"/>
          </p:nvPr>
        </p:nvSpPr>
        <p:spPr>
          <a:xfrm>
            <a:off x="3105000" y="6324480"/>
            <a:ext cx="28958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7"/>
          </p:nvPr>
        </p:nvSpPr>
        <p:spPr>
          <a:xfrm>
            <a:off x="5410080" y="63244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636D2-96E5-487D-97FB-267DD8D7053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18"/>
          </p:nvPr>
        </p:nvSpPr>
        <p:spPr>
          <a:xfrm>
            <a:off x="228600" y="63262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19"/>
          </p:nvPr>
        </p:nvSpPr>
        <p:spPr>
          <a:xfrm>
            <a:off x="3105000" y="6324480"/>
            <a:ext cx="28958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20"/>
          </p:nvPr>
        </p:nvSpPr>
        <p:spPr>
          <a:xfrm>
            <a:off x="5410080" y="63244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C24EC-0562-4C24-8FCF-A564A893D34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21"/>
          </p:nvPr>
        </p:nvSpPr>
        <p:spPr>
          <a:xfrm>
            <a:off x="228600" y="63262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2"/>
          </p:nvPr>
        </p:nvSpPr>
        <p:spPr>
          <a:xfrm>
            <a:off x="3105000" y="6324480"/>
            <a:ext cx="28958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3"/>
          </p:nvPr>
        </p:nvSpPr>
        <p:spPr>
          <a:xfrm>
            <a:off x="5410080" y="63244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E577C-FCC1-45D3-B6C6-2EF0E6E66D5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258560" y="2172960"/>
            <a:ext cx="69850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Century Gothic"/>
              </a:rPr>
              <a:t>¿ Desarrollo territorial a partir de los Gobiernos Regionales ?</a:t>
            </a:r>
            <a:endParaRPr b="1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3357720" y="4560840"/>
            <a:ext cx="4952880" cy="186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cc00"/>
                </a:solidFill>
                <a:latin typeface="Century Gothic"/>
              </a:rPr>
              <a:t>Carlos Haefner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cc00"/>
                </a:solidFill>
                <a:latin typeface="Century Gothic"/>
              </a:rPr>
              <a:t>2009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1835280" y="692280"/>
            <a:ext cx="6913440" cy="435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entury Gothic"/>
              </a:rPr>
              <a:t>Al mismo tiempo, es necesario asegurar la calidad de las </a:t>
            </a:r>
            <a:r>
              <a:rPr b="0" lang="es-ES" sz="2800" spc="-1" strike="noStrike">
                <a:solidFill>
                  <a:srgbClr val="000066"/>
                </a:solidFill>
                <a:latin typeface="Century Gothic"/>
              </a:rPr>
              <a:t>Estrategias de Desarrollo Regional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entury Gothic"/>
              </a:rPr>
              <a:t>Actualmente, su calidad es variable y algunos planes regionales no ofrecen un análisis calificado y una definición de los objetivos estratégicos y lineamientos de acción para el desarrollo económico reg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1403280" y="620640"/>
            <a:ext cx="6913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"/>
          <p:cNvSpPr/>
          <p:nvPr/>
        </p:nvSpPr>
        <p:spPr>
          <a:xfrm>
            <a:off x="1547640" y="0"/>
            <a:ext cx="759636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NUEVO ART. 113 APROBA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"/>
          <p:cNvSpPr/>
          <p:nvPr/>
        </p:nvSpPr>
        <p:spPr>
          <a:xfrm>
            <a:off x="611280" y="765000"/>
            <a:ext cx="8532720" cy="60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</a:rPr>
              <a:t>Art. 113.-</a:t>
            </a: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i="1" lang="es-ES" sz="2400" spc="-1" strike="noStrike">
                <a:solidFill>
                  <a:srgbClr val="ffcc00"/>
                </a:solidFill>
                <a:latin typeface="Arial"/>
              </a:rPr>
              <a:t>El consejo regional será un órgano de carácter normativo, resolutivo y fiscalizador, dentro del ámbito propio de competencia del gobierno regional,  encargado de hacer efectiva la participación de la ciudadanía regional y ejercer las atribuciones que la ley orgánica constitucional respectiva le encomiende</a:t>
            </a:r>
            <a:r>
              <a:rPr b="0" i="1" lang="es-ES" sz="2400" spc="-1" strike="noStrike">
                <a:solidFill>
                  <a:srgbClr val="cc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Century Gothic"/>
              </a:rPr>
              <a:t>El consejo regional estará integrado por consejeros </a:t>
            </a:r>
            <a:r>
              <a:rPr b="1" i="1" lang="es-ES" sz="2000" spc="-1" strike="noStrike" u="sng">
                <a:solidFill>
                  <a:srgbClr val="ffffff"/>
                </a:solidFill>
                <a:uFillTx/>
                <a:latin typeface="Century Gothic"/>
              </a:rPr>
              <a:t>elegidos por sufragio universal, en votación directa</a:t>
            </a:r>
            <a:r>
              <a:rPr b="0" i="1" lang="es-ES" sz="2000" spc="-1" strike="noStrike">
                <a:solidFill>
                  <a:srgbClr val="ffffff"/>
                </a:solidFill>
                <a:latin typeface="Century Gothic"/>
              </a:rPr>
              <a:t>, de conformidad con la ley orgánica constitucional  respectiva. Durarán </a:t>
            </a:r>
            <a:r>
              <a:rPr b="1" i="1" lang="es-ES" sz="2000" spc="-1" strike="noStrike" u="sng">
                <a:solidFill>
                  <a:srgbClr val="ffffff"/>
                </a:solidFill>
                <a:uFillTx/>
                <a:latin typeface="Century Gothic"/>
              </a:rPr>
              <a:t>cuatro años en sus cargos y podrán ser reelegidos</a:t>
            </a:r>
            <a:r>
              <a:rPr b="0" i="1" lang="es-ES" sz="2000" spc="-1" strike="noStrike">
                <a:solidFill>
                  <a:srgbClr val="ffffff"/>
                </a:solidFill>
                <a:latin typeface="Century Gothic"/>
              </a:rPr>
              <a:t>. La misma ley  establecerá la organización del consejo regional, determinará el número de consejeros que lo integrarán y </a:t>
            </a:r>
            <a:r>
              <a:rPr b="1" i="1" lang="es-ES" sz="2000" spc="-1" strike="noStrike" u="sng">
                <a:solidFill>
                  <a:srgbClr val="ffffff"/>
                </a:solidFill>
                <a:uFillTx/>
                <a:latin typeface="Century Gothic"/>
              </a:rPr>
              <a:t>su forma de reemplazo, cuidando siempre que tanto la población como el territorio de la región estén equitativamente  representados</a:t>
            </a:r>
            <a:r>
              <a:rPr b="0" i="1" lang="es-ES" sz="2000" spc="-1" strike="noStrike" u="sng">
                <a:solidFill>
                  <a:srgbClr val="ffffff"/>
                </a:solidFill>
                <a:uFillTx/>
                <a:latin typeface="Century Gothic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826920" y="907920"/>
            <a:ext cx="8137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"/>
          <p:cNvSpPr/>
          <p:nvPr/>
        </p:nvSpPr>
        <p:spPr>
          <a:xfrm>
            <a:off x="250920" y="333360"/>
            <a:ext cx="4249800" cy="65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TEXTO VIGEN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ffcc"/>
                </a:solidFill>
                <a:latin typeface="Century Gothic"/>
              </a:rPr>
              <a:t>Art. 112.-</a:t>
            </a:r>
            <a:r>
              <a:rPr b="0" lang="es-ES" sz="2400" spc="-1" strike="noStrike">
                <a:solidFill>
                  <a:srgbClr val="99ffcc"/>
                </a:solidFill>
                <a:latin typeface="Century Gothic"/>
              </a:rPr>
              <a:t> </a:t>
            </a:r>
            <a:r>
              <a:rPr b="1" i="1" lang="es-ES" sz="2400" spc="-1" strike="noStrike">
                <a:solidFill>
                  <a:srgbClr val="99ffcc"/>
                </a:solidFill>
                <a:latin typeface="Century Gothic"/>
              </a:rPr>
              <a:t>El intendent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99ffcc"/>
                </a:solidFill>
                <a:latin typeface="Century Gothic"/>
              </a:rPr>
              <a:t>presidirá el consejo regional</a:t>
            </a:r>
            <a:r>
              <a:rPr b="0" i="1" lang="es-ES" sz="2400" spc="-1" strike="noStrike">
                <a:solidFill>
                  <a:srgbClr val="99ffcc"/>
                </a:solidFill>
                <a:latin typeface="Century Gothic"/>
              </a:rPr>
              <a:t> y le corresponderá la coordinación, supervigilancia o fiscalización de los servicios públicos creados por ley para el cumplimiento de las funciones administrativas que operen en la reg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"/>
          <p:cNvSpPr/>
          <p:nvPr/>
        </p:nvSpPr>
        <p:spPr>
          <a:xfrm>
            <a:off x="4500720" y="333360"/>
            <a:ext cx="4249440" cy="66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entury Gothic"/>
              </a:rPr>
              <a:t>TEXTO APROBA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entury Gothic"/>
              </a:rPr>
              <a:t>Art. 112.-</a:t>
            </a: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i="1" lang="es-ES" sz="2400" spc="-1" strike="noStrike">
                <a:solidFill>
                  <a:srgbClr val="ffffff"/>
                </a:solidFill>
                <a:latin typeface="Century Gothic"/>
              </a:rPr>
              <a:t>Al intendent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Century Gothic"/>
              </a:rPr>
              <a:t>le corresponderá l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Century Gothic"/>
              </a:rPr>
              <a:t>coordinación, supervigilanci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Century Gothic"/>
              </a:rPr>
              <a:t>o fiscalización de lo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Century Gothic"/>
              </a:rPr>
              <a:t>servicios públicos creado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Century Gothic"/>
              </a:rPr>
              <a:t>por ley para el cumplimiento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Century Gothic"/>
              </a:rPr>
              <a:t>de las funcion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Century Gothic"/>
              </a:rPr>
              <a:t>administrativas que opere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Century Gothic"/>
              </a:rPr>
              <a:t>en la reg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1116000" y="907920"/>
            <a:ext cx="72723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"/>
          <p:cNvSpPr/>
          <p:nvPr/>
        </p:nvSpPr>
        <p:spPr>
          <a:xfrm>
            <a:off x="0" y="260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NUEVO ART. 113 APROBADO (LÁMINA III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"/>
          <p:cNvSpPr/>
          <p:nvPr/>
        </p:nvSpPr>
        <p:spPr>
          <a:xfrm>
            <a:off x="250920" y="1484280"/>
            <a:ext cx="8893080" cy="53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Century Gothic"/>
              </a:rPr>
              <a:t>El </a:t>
            </a:r>
            <a:r>
              <a:rPr b="1" i="1" lang="es-ES" sz="2400" spc="-1" strike="noStrike" u="sng">
                <a:solidFill>
                  <a:srgbClr val="ffffff"/>
                </a:solidFill>
                <a:uFillTx/>
                <a:latin typeface="Century Gothic"/>
              </a:rPr>
              <a:t>consejo regional, por mayoría absoluta de sus integrantes en ejercicio, elegirá un presidente de entre sus miembros</a:t>
            </a:r>
            <a:r>
              <a:rPr b="0" i="1" lang="es-ES" sz="2400" spc="-1" strike="noStrike">
                <a:solidFill>
                  <a:srgbClr val="ffffff"/>
                </a:solidFill>
                <a:latin typeface="Century Gothic"/>
              </a:rPr>
              <a:t>. El presidente del consejo durará cuatro años en su cargo y cesará en él en caso de incurrir en alguna de las causales señaladas en el inciso tercero, por remoción acordada por los dos tercios de los consejeros regionales en ejercicio o por renuncia aprobada por la mayoría de ést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Century Gothic"/>
              </a:rPr>
              <a:t>La ley orgánica constitucional determinará las </a:t>
            </a:r>
            <a:r>
              <a:rPr b="1" i="1" lang="es-ES" sz="2400" spc="-1" strike="noStrike" u="sng">
                <a:solidFill>
                  <a:srgbClr val="ffffff"/>
                </a:solidFill>
                <a:uFillTx/>
                <a:latin typeface="Century Gothic"/>
              </a:rPr>
              <a:t>funciones y atribuciones del presidente</a:t>
            </a:r>
            <a:r>
              <a:rPr b="0" i="1" lang="es-ES" sz="2400" spc="-1" strike="noStrike">
                <a:solidFill>
                  <a:srgbClr val="ffffff"/>
                </a:solidFill>
                <a:latin typeface="Century Gothic"/>
              </a:rPr>
              <a:t> del consejo region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1619280" y="549360"/>
            <a:ext cx="68403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"/>
          <p:cNvSpPr/>
          <p:nvPr/>
        </p:nvSpPr>
        <p:spPr>
          <a:xfrm>
            <a:off x="0" y="260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NUEVO ART. 113 APROBA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"/>
          <p:cNvSpPr/>
          <p:nvPr/>
        </p:nvSpPr>
        <p:spPr>
          <a:xfrm>
            <a:off x="250920" y="1484280"/>
            <a:ext cx="8893080" cy="53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Century Gothic"/>
              </a:rPr>
              <a:t>Corresponderá al </a:t>
            </a:r>
            <a:r>
              <a:rPr b="1" i="1" lang="es-ES" sz="3200" spc="-1" strike="noStrike" u="sng">
                <a:solidFill>
                  <a:srgbClr val="ffffff"/>
                </a:solidFill>
                <a:uFillTx/>
                <a:latin typeface="Century Gothic"/>
              </a:rPr>
              <a:t>consejo regional aprobar el proyecto de presupuestos de la respectiva región considerando, para tal efecto, los recursos asignados a ésta por la Ley de Presupuestos de la Nación, sus recursos propios y los que provengan de los convenios de programación.</a:t>
            </a:r>
            <a:r>
              <a:rPr b="0" i="1" lang="es-ES" sz="3200" spc="-1" strike="noStrike">
                <a:solidFill>
                  <a:srgbClr val="ff000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1332000" y="981000"/>
            <a:ext cx="73436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"/>
          <p:cNvSpPr/>
          <p:nvPr/>
        </p:nvSpPr>
        <p:spPr>
          <a:xfrm>
            <a:off x="4932360" y="1484280"/>
            <a:ext cx="3363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"/>
          <p:cNvSpPr/>
          <p:nvPr/>
        </p:nvSpPr>
        <p:spPr>
          <a:xfrm>
            <a:off x="4648320" y="404640"/>
            <a:ext cx="4495680" cy="66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entury Gothic"/>
              </a:rPr>
              <a:t>TEXTO APROBA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entury Gothic"/>
              </a:rPr>
              <a:t>Art. 114.-</a:t>
            </a:r>
            <a:r>
              <a:rPr b="0" i="1" lang="es-ES_tradnl" sz="2400" spc="-1" strike="noStrike">
                <a:solidFill>
                  <a:srgbClr val="ffffff"/>
                </a:solidFill>
                <a:latin typeface="Century Gothic"/>
              </a:rPr>
              <a:t> La ley orgánica constitucional respectiva determinará la forma y el modo en que el Presidente de la República podrá </a:t>
            </a: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Century Gothic"/>
              </a:rPr>
              <a:t>transferir a uno o más gobiernos regionales</a:t>
            </a:r>
            <a:r>
              <a:rPr b="0" i="1" lang="es-ES_tradnl" sz="2400" spc="-1" strike="noStrike">
                <a:solidFill>
                  <a:srgbClr val="ffffff"/>
                </a:solidFill>
                <a:latin typeface="Century Gothic"/>
              </a:rPr>
              <a:t>, en carácter </a:t>
            </a: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Century Gothic"/>
              </a:rPr>
              <a:t>temporal o definitivo</a:t>
            </a:r>
            <a:r>
              <a:rPr b="0" i="1" lang="es-ES_tradnl" sz="2400" spc="-1" strike="noStrike">
                <a:solidFill>
                  <a:srgbClr val="ffffff"/>
                </a:solidFill>
                <a:latin typeface="Century Gothic"/>
              </a:rPr>
              <a:t>, una o más competencias de los ministerios y servicios públicos creados para el cumplimiento de la función administrativa, en materias de  </a:t>
            </a:r>
            <a:r>
              <a:rPr b="1" i="1" lang="es-ES_tradnl" sz="2400" spc="-1" strike="noStrike">
                <a:solidFill>
                  <a:srgbClr val="ffffff"/>
                </a:solidFill>
                <a:latin typeface="Century Gothic"/>
              </a:rPr>
              <a:t>ordenamiento territorial, fomento  de las actividades productivas y desarrollo social y cultural</a:t>
            </a:r>
            <a:r>
              <a:rPr b="0" lang="es-ES_tradnl" sz="2400" spc="-1" strike="noStrike">
                <a:solidFill>
                  <a:srgbClr val="ffffff"/>
                </a:solidFill>
                <a:latin typeface="Century Gothic"/>
              </a:rPr>
              <a:t>.”</a:t>
            </a: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"/>
          <p:cNvSpPr/>
          <p:nvPr/>
        </p:nvSpPr>
        <p:spPr>
          <a:xfrm>
            <a:off x="0" y="333360"/>
            <a:ext cx="4495680" cy="66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1" lang="es-ES_tradnl" sz="1600" spc="-1" strike="noStrike">
                <a:solidFill>
                  <a:srgbClr val="800080"/>
                </a:solidFill>
                <a:latin typeface="Arial"/>
              </a:rPr>
              <a:t>TEXTO VIGENTE</a:t>
            </a:r>
            <a:r>
              <a:rPr b="0" i="1" lang="es-ES_tradnl" sz="1600" spc="-1" strike="noStrike" u="sng">
                <a:solidFill>
                  <a:srgbClr val="800080"/>
                </a:solidFill>
                <a:uFillTx/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1" lang="es-ES_tradnl" sz="1800" spc="-1" strike="noStrike">
                <a:solidFill>
                  <a:srgbClr val="800080"/>
                </a:solidFill>
                <a:latin typeface="Arial"/>
              </a:rPr>
              <a:t>Art. 114.- </a:t>
            </a:r>
            <a:r>
              <a:rPr b="0" i="1" lang="es-ES_tradnl" sz="1800" spc="-1" strike="noStrike">
                <a:solidFill>
                  <a:srgbClr val="800080"/>
                </a:solidFill>
                <a:latin typeface="Arial"/>
              </a:rPr>
              <a:t>La ley deberá determinar las formas en que se descentralizará la administración del Estado, así como la transferencia de competencias a los gobiernos regionale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0" i="1" lang="es-ES_tradnl" sz="1800" spc="-1" strike="noStrike">
                <a:solidFill>
                  <a:srgbClr val="800080"/>
                </a:solidFill>
                <a:latin typeface="Arial"/>
              </a:rPr>
              <a:t>Sin perjuicio de lo anterior, también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0" i="1" lang="es-ES_tradnl" sz="1800" spc="-1" strike="noStrike">
                <a:solidFill>
                  <a:srgbClr val="800080"/>
                </a:solidFill>
                <a:latin typeface="Arial"/>
              </a:rPr>
              <a:t>establecerá, con las excepciones qu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0" i="1" lang="es-ES_tradnl" sz="1800" spc="-1" strike="noStrike">
                <a:solidFill>
                  <a:srgbClr val="800080"/>
                </a:solidFill>
                <a:latin typeface="Arial"/>
              </a:rPr>
              <a:t>procedan, la desconcentración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0" i="1" lang="es-ES_tradnl" sz="1800" spc="-1" strike="noStrike">
                <a:solidFill>
                  <a:srgbClr val="800080"/>
                </a:solidFill>
                <a:latin typeface="Arial"/>
              </a:rPr>
              <a:t>regional de los ministerios y de lo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0" i="1" lang="es-ES_tradnl" sz="1800" spc="-1" strike="noStrike">
                <a:solidFill>
                  <a:srgbClr val="800080"/>
                </a:solidFill>
                <a:latin typeface="Arial"/>
              </a:rPr>
              <a:t>servicios públicos. Asimismo, regulará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0" i="1" lang="es-ES_tradnl" sz="1800" spc="-1" strike="noStrike">
                <a:solidFill>
                  <a:srgbClr val="800080"/>
                </a:solidFill>
                <a:latin typeface="Arial"/>
              </a:rPr>
              <a:t>los procedimientos que aseguren la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0" i="1" lang="es-ES_tradnl" sz="1800" spc="-1" strike="noStrike">
                <a:solidFill>
                  <a:srgbClr val="800080"/>
                </a:solidFill>
                <a:latin typeface="Arial"/>
              </a:rPr>
              <a:t>debida coordinación entre los órgano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0" i="1" lang="es-ES_tradnl" sz="1800" spc="-1" strike="noStrike">
                <a:solidFill>
                  <a:srgbClr val="800080"/>
                </a:solidFill>
                <a:latin typeface="Arial"/>
              </a:rPr>
              <a:t>de la administración del Estado para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0" i="1" lang="es-ES_tradnl" sz="1800" spc="-1" strike="noStrike">
                <a:solidFill>
                  <a:srgbClr val="800080"/>
                </a:solidFill>
                <a:latin typeface="Arial"/>
              </a:rPr>
              <a:t>facilitar el ejercicio de las facultade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0" i="1" lang="es-ES_tradnl" sz="1800" spc="-1" strike="noStrike">
                <a:solidFill>
                  <a:srgbClr val="800080"/>
                </a:solidFill>
                <a:latin typeface="Arial"/>
              </a:rPr>
              <a:t>de las autoridades regional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370160" y="380880"/>
            <a:ext cx="685944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entury Gothic"/>
              </a:rPr>
              <a:t>El Gobierno Regional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371600" y="980640"/>
            <a:ext cx="6858000" cy="496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La naturaleza jurídica del Gobierno Regional es la de una persona jurídica de derecho público que goza de un patrimonio propio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Sus funciones pueden clasificarse en: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a) de ordenamiento territorial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b) de fomento productivo 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c) de desarrollo social y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d) cultural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Para el ejercicio de estas funciones la ley le otorga una serie de funciones que se distribuyen en sus órganos de autoridad del GORE y Consejo Regiona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1332000" y="836640"/>
            <a:ext cx="7632720" cy="613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entury Gothic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Inversión regional para el Desarrollo equilibrado (FND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b) Coordinar la inversión sectori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c) Apoyar técnicamente la gestión de las administraciones loc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d) Articular la planificación en el territorio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e) Prestación de servicios de fomento productiv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f) Promoción del desarrollo económico, social y cultu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g) Representación de los intereses de la comunida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"/>
          <p:cNvSpPr/>
          <p:nvPr/>
        </p:nvSpPr>
        <p:spPr>
          <a:xfrm>
            <a:off x="1835280" y="189000"/>
            <a:ext cx="68403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TAREAS Y DESAFIOS DE LOS GOR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1619280" y="189000"/>
            <a:ext cx="7056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cc"/>
                </a:solidFill>
                <a:latin typeface="Tahoma"/>
              </a:rPr>
              <a:t>Aspectos relevantes Informe OCDE sobre Desarrollo Territorial en Chile 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"/>
          <p:cNvSpPr/>
          <p:nvPr/>
        </p:nvSpPr>
        <p:spPr>
          <a:xfrm>
            <a:off x="1116000" y="2276640"/>
            <a:ext cx="72010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"/>
          <p:cNvSpPr/>
          <p:nvPr/>
        </p:nvSpPr>
        <p:spPr>
          <a:xfrm>
            <a:off x="1403280" y="1125360"/>
            <a:ext cx="7272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ffffff"/>
                </a:solidFill>
                <a:latin typeface="Tahoma"/>
              </a:rPr>
              <a:t>El desempeño regional varía enormemente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ffffff"/>
                </a:solidFill>
                <a:latin typeface="Tahoma"/>
              </a:rPr>
              <a:t>revelando un potencial regional subutiliza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"/>
          <p:cNvSpPr/>
          <p:nvPr/>
        </p:nvSpPr>
        <p:spPr>
          <a:xfrm>
            <a:off x="1547640" y="2276640"/>
            <a:ext cx="720108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Tahoma"/>
              </a:rPr>
              <a:t>Chile sigue estando altamente concentrado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Santiago tiene la mayoría del capital político, económico e intelectual y casi la mitad de la población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La economía depende de unos pocos sectores, ubicados mayoritariamente en un reducido número de regiones, que reciben gran parte de la inversión pública y privad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1476360" y="333360"/>
            <a:ext cx="7488360" cy="484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La minería (23% del PIB en 2006) y los servicios financieros (14% del PIB) se ubican  principalmente en Antofagasta y RM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Antofagasta genera casi un 50% del PIB del sector minero; si se incluye a Tarapacá y Atacama, las otras dos regiones nortinas de producción minera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esta tasa aumenta a 75%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Asimismo, la Región Metropolitana es  responsable de casi un 77% del PIB de los servicios financier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1258920" y="1197000"/>
            <a:ext cx="7561080" cy="467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La pobreza y desigualdad que presenta el país esta asociado a una dimensión espacial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Las disparidades territoriales son amplias  y están fuertemente asociadas a grandes disparidades en la productividad labo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Las desigualdades territoriales también son severas en el acceso a la educación, en investigación e innovación, y en los niveles de pobrez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"/>
          <p:cNvSpPr/>
          <p:nvPr/>
        </p:nvSpPr>
        <p:spPr>
          <a:xfrm>
            <a:off x="1258920" y="404640"/>
            <a:ext cx="7561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ff00"/>
                </a:solidFill>
                <a:latin typeface="Century Gothic"/>
              </a:rPr>
              <a:t>La inequidad se expresa territorialmen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258920" y="620640"/>
            <a:ext cx="763416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entury Gothic"/>
              </a:rPr>
              <a:t>El país no soporta mas desequilibrios territoriales e inequidades para acceder oportunidades de mejoramiento de la calidad de vida: necesidad de un enfoque integrado de Desarrollo Territoria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403280" y="2781360"/>
            <a:ext cx="7345440" cy="31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Gothic"/>
              </a:rPr>
              <a:t>Pero , el avance hacia un enfoque integrado para el desarrollo territorial en Chile requerirá  cambios profundos para establecer un sistema de gobernanza capaz de realizar intervenciones adecuadas a los distintos contextos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1258920" y="692280"/>
            <a:ext cx="7561080" cy="563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ffcc"/>
                </a:solidFill>
                <a:latin typeface="Tahoma"/>
              </a:rPr>
              <a:t>Existen obstáculos institucionales para un Desarrollo Territorial Integrado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entury Gothic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la inversión en las regiones sigue una lógica sectori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entury Gothic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Enfoque de inversión “ proyecto a proyecto” sin concepto planificación sistémica y presupuestos plurianual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entury Gothic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Lo anterior limita seriamente avanzar</a:t>
            </a: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 hacia políticas regionales integrales que puedan movilizar recursos regionales sub-utilizad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entury Gothic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entury Gothic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Un enfoque territorial integrado requerirá de una institucionalidad subnacional más podero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539640" y="836640"/>
            <a:ext cx="8604360" cy="563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Es fundamental incrementar el apoyo institucional a los gobiernos regionales para otorgarles </a:t>
            </a:r>
            <a:r>
              <a:rPr b="0" lang="es-ES" sz="2400" spc="-1" strike="noStrike">
                <a:solidFill>
                  <a:srgbClr val="00ff00"/>
                </a:solidFill>
                <a:latin typeface="Century Gothic"/>
              </a:rPr>
              <a:t>mayores poderes</a:t>
            </a: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 de supervisión, legitimidad y capacidad de influir en la discusión, planificación y coordinación de políticas de desarrollo regional integral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Los gobiernos regionales aún no tienen la suficiente </a:t>
            </a:r>
            <a:r>
              <a:rPr b="0" lang="es-ES" sz="2400" spc="-1" strike="noStrike">
                <a:solidFill>
                  <a:srgbClr val="00ff00"/>
                </a:solidFill>
                <a:latin typeface="Century Gothic"/>
              </a:rPr>
              <a:t>fortaleza institucional</a:t>
            </a: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 como para gestionar y coordinar una estrategia común para la región, que reúna a los diversos organismos y actores que en ella operan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Los diversos actores públicos que intervienen en el proceso de inversión regional </a:t>
            </a:r>
            <a:r>
              <a:rPr b="0" lang="es-ES" sz="2400" spc="-1" strike="noStrike">
                <a:solidFill>
                  <a:srgbClr val="00ff00"/>
                </a:solidFill>
                <a:latin typeface="Century Gothic"/>
              </a:rPr>
              <a:t>no están obligados</a:t>
            </a: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 a seguir los lineamientos establecidas por las Estrategias de Desarrollo Regio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"/>
          <p:cNvSpPr/>
          <p:nvPr/>
        </p:nvSpPr>
        <p:spPr>
          <a:xfrm>
            <a:off x="1763640" y="0"/>
            <a:ext cx="63374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ff00"/>
                </a:solidFill>
                <a:latin typeface="Tahoma"/>
              </a:rPr>
              <a:t>Fortalecimiento Gobiernos Sub Nacion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2T11:30:27Z</dcterms:created>
  <dc:creator>chaefner</dc:creator>
  <dc:description/>
  <cp:keywords/>
  <dc:language>en-US</dc:language>
  <cp:lastModifiedBy>chaefner</cp:lastModifiedBy>
  <dcterms:modified xsi:type="dcterms:W3CDTF">2009-10-28T19:11:25Z</dcterms:modified>
  <cp:revision>38</cp:revision>
  <dc:subject/>
  <dc:title>Desarrollo territorial : Regional y Local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587093082</vt:lpwstr>
  </property>
</Properties>
</file>