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35143-88F3-4650-B070-F671D0158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3243A-EB70-44A6-9BF4-AC50863B8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E4587-93EE-4D0F-84A7-E4B4BE42C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2B73B-BAC8-447C-BFEC-46C751D7E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3C34F-5503-44E1-85DA-462D6809D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337E8-C69F-460E-94F8-44E81D465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4536D-114B-4ACD-8AA5-2027B85E9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9EFDC-8322-4CAC-89F1-E303B9A01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F2E15-91E8-4D13-BB8F-20D495E5E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24178-29E0-4EB4-8ED2-3C300270C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7652E-1CB5-4F25-83B6-62E279773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F9482-1C00-404E-82B0-FA5F9F67E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BA03E-5602-4A9B-B61F-B71A91CF3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8DAC2-6E7D-4E4C-9E7F-F69FCC4B3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94CD3-6397-48B3-B0DC-C053E85D2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B4D1E-2C8E-4F9C-99DB-83939E582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1F051-4576-491C-B16E-E08BF5928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380C1-EC76-461C-A3E5-FA85702B3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B56FF-1322-44BB-8FDD-9B934241D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AA94B-8B8F-43A4-8EDD-C7E8FD354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63B50-C439-417F-9255-BBDF3AA6E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4C104-9910-4799-A53C-7D5E54C77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429E1-C20E-4E52-838B-A101F6590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D033B-2830-4AC1-AD2D-BBB1CBAA9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385D-00E1-4406-A917-0D953021F10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2F6F-397C-40D4-89D3-98A7C4D3125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549360"/>
            <a:ext cx="6781680" cy="213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Cambria"/>
              </a:rPr>
              <a:t>Externalidades en el Transporte Público</a:t>
            </a:r>
            <a:endParaRPr b="1" lang="en-US" sz="4800" spc="-1" strike="noStrike">
              <a:solidFill>
                <a:srgbClr val="330066"/>
              </a:solidFill>
              <a:latin typeface="Arial"/>
            </a:endParaRPr>
          </a:p>
        </p:txBody>
      </p:sp>
      <p:sp>
        <p:nvSpPr>
          <p:cNvPr id="150" name="PlaceHolder 2"/>
          <p:cNvSpPr>
            <a:spLocks noGrp="1"/>
          </p:cNvSpPr>
          <p:nvPr>
            <p:ph type="subTitle"/>
          </p:nvPr>
        </p:nvSpPr>
        <p:spPr>
          <a:xfrm>
            <a:off x="2339640" y="3429000"/>
            <a:ext cx="4686120" cy="19828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María Luisa Maino Vergara</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 </a:t>
            </a:r>
            <a:r>
              <a:rPr b="0" lang="es-ES_tradnl" sz="2000" spc="-1" strike="noStrike">
                <a:solidFill>
                  <a:srgbClr val="000000"/>
                </a:solidFill>
                <a:latin typeface="Cambria"/>
              </a:rPr>
              <a:t>29 de Septiembre de 2009</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pic>
        <p:nvPicPr>
          <p:cNvPr id="167" name="" descr=""/>
          <p:cNvPicPr/>
          <p:nvPr/>
        </p:nvPicPr>
        <p:blipFill>
          <a:blip r:embed="rId1"/>
          <a:stretch/>
        </p:blipFill>
        <p:spPr>
          <a:xfrm>
            <a:off x="1476360" y="1882800"/>
            <a:ext cx="6048360" cy="435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olucione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lternativas para desincentivar el transporte privado</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Cobrar tasas o impuestos proporcionales a la cantidad de externalidades producidas. Ej. Tarificación Vial. (First best)</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Subsidio al transporte público, que logre incentivar el uso de este medio de  transporte.(second best)</a:t>
            </a:r>
            <a:endParaRPr b="0" lang="en-US" sz="2600" spc="-1" strike="noStrike">
              <a:solidFill>
                <a:srgbClr val="000000"/>
              </a:solidFill>
              <a:latin typeface="Arial"/>
            </a:endParaRPr>
          </a:p>
          <a:p>
            <a:pPr marL="39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el caso de la red de transporte público, las externalidades positivas provienen principalmente de los efectos positivos que genera un pasajero adicional sobre los demás pasajeros al densificar la red de transporte </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os costos de realizar un viaje en  transporte público corresponden a:</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         </a:t>
            </a:r>
            <a:r>
              <a:rPr b="0" lang="es-ES_tradnl" sz="2600" spc="-1" strike="noStrike">
                <a:solidFill>
                  <a:srgbClr val="000000"/>
                </a:solidFill>
                <a:latin typeface="Cambria"/>
              </a:rPr>
              <a:t>C= Costos operativos + Tiempos de espe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 aumenta la demanda de una cierta ruta (aumentan pasajeros), aumentara  la oferta de los buses que cubren dicha ruta. Todos los pasajeros involucrados percibirán menores tiempos de espera, debido al  mayor número de buses cubriendo la ruta. Los nuevos usuarios generan así una externalidad positiva sobre los ya existente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osto marginal social de proveer un nuevo viaje será menor al costo marginal privado que enfrenta el operador. (Efecto Mohr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l aumentar la cantidad de nuevos usuarios de una determinada ruta, el operador aumentará la frecuencia de buses y por ende disminuirán en la misma proporción los tiempos de espera para cada individu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Conclusión</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Dada las externalidades del transporte público, las políticas a llevar acabo deben</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sistema publico  para disminuir las externalidades  negativas del transporte privado,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uso del transporte publico para sacarle provecho  a las economías de escala (externalidades positiv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Lectura recomendada</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Morandé, Doña (2297) </a:t>
            </a:r>
            <a:r>
              <a:rPr b="0" i="1" lang="es-CL" sz="3000" spc="-1" strike="noStrike">
                <a:solidFill>
                  <a:srgbClr val="000000"/>
                </a:solidFill>
                <a:latin typeface="Cambria"/>
              </a:rPr>
              <a:t>Transantiago: el remedio que está matando al paciente</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Díaz, Gómez-Lobo, Velasco </a:t>
            </a:r>
            <a:r>
              <a:rPr b="0" lang="es-CL" sz="3000" spc="-1" strike="noStrike">
                <a:solidFill>
                  <a:srgbClr val="000000"/>
                </a:solidFill>
                <a:latin typeface="Cambria"/>
              </a:rPr>
              <a:t>(2004) </a:t>
            </a:r>
            <a:r>
              <a:rPr b="0" i="1" lang="es-CL" sz="3000" spc="-1" strike="noStrike">
                <a:solidFill>
                  <a:srgbClr val="000000"/>
                </a:solidFill>
                <a:latin typeface="Cambria"/>
              </a:rPr>
              <a:t>Micros en Santiago: De Enemigo Público a Servicio Públ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Transantiago…</a:t>
            </a:r>
            <a:endParaRPr b="1" lang="en-US" sz="3900" spc="-1" strike="noStrike">
              <a:solidFill>
                <a:srgbClr val="330066"/>
              </a:solidFill>
              <a:latin typeface="Arial"/>
            </a:endParaRPr>
          </a:p>
        </p:txBody>
      </p:sp>
      <p:pic>
        <p:nvPicPr>
          <p:cNvPr id="152" name="Picture 2" descr=""/>
          <p:cNvPicPr/>
          <p:nvPr/>
        </p:nvPicPr>
        <p:blipFill>
          <a:blip r:embed="rId1"/>
          <a:stretch/>
        </p:blipFill>
        <p:spPr>
          <a:xfrm>
            <a:off x="826920" y="1719360"/>
            <a:ext cx="7274160" cy="44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n países desarrollados se  observa que..</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la mayoría de los países el transporte público se encuentra subsidiado.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stados Unidos  la recuperación de costos operativos en base a las tarifas cobradas es un 29% en promedio para los sistemas de transporte en bu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l Reino Unido, se gastan mil millones de Libras al año en subsidiar los servicios de transporte de buses, sin considerar el sistema de transportes de Lond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Washington D.C. los subsidios cubren cerca del 75% de los costos operativos del sistema de b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8280"/>
            <a:ext cx="7543800" cy="187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 Que justifica este subsidio al Transporte Público?</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ubsidio al Transporte Público</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a justificación para subsidiar tan fuertemente el transporte público en países desarrollados se debe básicamente a dos fenómenos.</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la necesidad de desincentivar el transporte privado, debido a las </a:t>
            </a:r>
            <a:r>
              <a:rPr b="1" lang="en-US" sz="2600" spc="-1" strike="noStrike">
                <a:solidFill>
                  <a:srgbClr val="000000"/>
                </a:solidFill>
                <a:latin typeface="Cambria"/>
              </a:rPr>
              <a:t>externalidades  negativas</a:t>
            </a:r>
            <a:r>
              <a:rPr b="0" lang="en-US" sz="2600" spc="-1" strike="noStrike">
                <a:solidFill>
                  <a:srgbClr val="000000"/>
                </a:solidFill>
                <a:latin typeface="Cambria"/>
              </a:rPr>
              <a:t> que produce</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bido las economías de escala existentes en el transporte público. (</a:t>
            </a:r>
            <a:r>
              <a:rPr b="1" lang="en-US" sz="2600" spc="-1" strike="noStrike">
                <a:solidFill>
                  <a:srgbClr val="000000"/>
                </a:solidFill>
                <a:latin typeface="Cambria"/>
              </a:rPr>
              <a:t>Externalidades positivas</a:t>
            </a:r>
            <a:r>
              <a:rPr b="0" lang="en-US" sz="2600" spc="-1" strike="noStrike">
                <a:solidFill>
                  <a:srgbClr val="000000"/>
                </a:solidFill>
                <a:latin typeface="Cambri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Externalidades negativas imponen costos  a terceros que luego no son compensados</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La totalidad de los costos generados no recaen sobre los agentes que toman las decisiones, el óptimo privado alcanzado es mayor a la cantidad socialmente deseada.</a:t>
            </a:r>
            <a:r>
              <a:rPr b="0" lang="es-ES_tradn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Entre las principales externalidades negativas del transporte se encuentran</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taminación atmosférica y acústica</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ccidentes : </a:t>
            </a:r>
            <a:r>
              <a:rPr b="0" lang="es-ES" sz="2600" spc="-1" strike="noStrike">
                <a:solidFill>
                  <a:srgbClr val="000000"/>
                </a:solidFill>
                <a:latin typeface="Cambria"/>
              </a:rPr>
              <a:t> una parte de los costos que se generan los sufre directamente el propio agente implicado (daños personales y a su vehículo), o tiene que pagarlos a terceros (con indemnizaciones o a través de la contratación de seguros), hay otros costos adicionales que se imponen a la sociedad en su conjun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90000"/>
              </a:lnSpc>
              <a:spcBef>
                <a:spcPts val="649"/>
              </a:spcBef>
              <a:buClr>
                <a:srgbClr val="330066"/>
              </a:buClr>
              <a:buSzPct val="70000"/>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gestión:</a:t>
            </a:r>
            <a:r>
              <a:rPr b="0" lang="es-ES" sz="2600" spc="-1" strike="noStrike">
                <a:solidFill>
                  <a:srgbClr val="000000"/>
                </a:solidFill>
                <a:latin typeface="Cambria"/>
              </a:rPr>
              <a:t> la externalidad se produce porque cada usuario, al tomar su decisión de utilizar una carretera, sólo tiene en cuenta el costo que le supone el tiempo que va a emplear en el viaje, más el costo monetario de utilización del vehículo, pero no valora que al circular con su automóvil está haciendo que el tráfico sea menos fluido para todos los usuarios. Por tanto, el último usuario que entra en una carretera congestionada está imponiendo un coste en términos de tiempo extra al resto de automóviles en la carretera que ese usuario no paga. </a:t>
            </a:r>
            <a:endParaRPr b="0" lang="en-US" sz="2600" spc="-1" strike="noStrike">
              <a:solidFill>
                <a:srgbClr val="000000"/>
              </a:solidFill>
              <a:latin typeface="Arial"/>
            </a:endParaRPr>
          </a:p>
          <a:p>
            <a:pPr marL="66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las  grandes ciudades como Santiago, donde la tasa de motorización es alta, estas  externalidades  juegan un papel muy importante.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l Estado debe ayudar a lograr un nivel socialmente eficiente. Una forma de lograr este nivel socialmente eficiente es incentivando a los individuos a utilizar el transporte público en lugar del transporte privad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as   </a:t>
            </a:r>
            <a:r>
              <a:rPr b="0" lang="es-ES_tradnl" sz="2600" spc="-1" strike="noStrike">
                <a:solidFill>
                  <a:srgbClr val="000000"/>
                </a:solidFill>
                <a:latin typeface="Cambria"/>
              </a:rPr>
              <a:t>externalidades   son mayores en el transporte privado por pasajero transpor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2:04:28Z</dcterms:created>
  <dc:creator>Cecilia Vergara</dc:creator>
  <dc:description/>
  <dc:language>en-US</dc:language>
  <cp:lastModifiedBy>Cecilia Vergara</cp:lastModifiedBy>
  <dcterms:modified xsi:type="dcterms:W3CDTF">2009-09-29T14:18:07Z</dcterms:modified>
  <cp:revision>11</cp:revision>
  <dc:subject/>
  <dc:title>Externalidades en el Transporte Publico</dc:title>
</cp:coreProperties>
</file>