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7D56E-30FB-453C-B5BE-7CD342C11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591CE-BC8A-43A1-B33F-C32CD7A05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2998F-DBD6-4963-8111-309CF48C8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D9F8B-8A31-4674-8DD5-B35B75DCB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48D2CE-E907-4C70-9937-749D1AB8DE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D9B31-7ABD-4C95-A85A-109AEC962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1F05B-F2FA-4692-8C23-E71ADBFBE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610E8-7FF2-4B1F-9208-FC4B82EAC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94D25-16FA-43AF-B33A-2F2516291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8B571A-76AC-4270-AE4A-763B20DA9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6382B-B936-4603-951A-17BAEB62E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B4AE5-1F76-4C62-8C03-13925D9E2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6C954-9687-45C9-8874-59995776E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42E16-E685-4406-8B38-B3950EAC4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40D73C-3C44-4EE4-BCF8-2ECD94ED40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8C6436-167E-4D8E-A3A0-E5B78E7EC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2D0D14-6718-45F4-BAA8-0F0E9BF407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C27FBF-E004-43AF-94C7-ADEE63165B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63EA6D-D1D9-4E71-9F5F-E492243B47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60DA52-7881-4E5F-9C3B-923715EFD3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3BFDC0-E8A0-4D63-BE1F-EC9C0C8AF2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160958-F76E-4518-9845-B92A545C85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43044-EA39-4C2D-AF84-4DDFEB6ED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4C66D1-9D16-4CAA-88A8-A3E0FEEB6B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91913D-BAFE-4C20-A38D-DF4E7A6586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C93E37-C683-4533-BA68-A765FC2EB3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6A67EA-9A90-4550-A9C5-5D87413B5D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910D5F-80B3-45A9-A73F-3937CAFC7F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99F7D3-1B62-49FC-A72E-476FBC5D79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EC792F-62C3-469D-B531-5462AC904F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99FD4A-5209-4D84-B02F-DD1B7D720F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D40A49-EAC1-42D8-9015-9D3857F001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E5E9A8-3426-4F55-B2D4-6A49AEFBA1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6496F-8851-4EA4-A40C-59DA19FD6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9DD7F0-A236-4733-BFBC-FF0AFA025C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E6B3B5-DFB5-4E6D-8469-6C0EBAA5CF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EE784C-67E6-46EB-B813-060CC52CED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F98DF4-DB46-4F75-90CF-1F78656986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2A3031-BADC-4731-AB58-D0F85448E6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000561-DB5C-4AB6-B8F6-6FD35C29F3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6F3FDD-B0D2-467B-8EAA-975232AEEF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B5A632-115C-4F45-BDF5-89861A6816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89CB0A-A742-4DF5-9121-88B7736094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77BC95-9889-4339-AC58-0DB5E798C5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9D5C3-B50C-4854-87DC-58CDD864F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D13EDA-F550-460F-BEAD-7CFA18C69D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2FA46C-A870-4AE4-9B47-84C10F6C3D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BADBD2-C0DC-4AC9-9E50-50D00D0847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D74F09-EEC1-41F6-93B5-9BC5FA66E5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9E1E63-5859-4E05-91BD-631062958E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8A4082-CD39-4AEB-A7F9-763416A445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FC1BA4-D9DB-4B9C-893F-7D4FFD7FE3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25F3D9-C956-42C1-9139-90580EE620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46127F-EEB5-4E59-BBD2-5850E1BC67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A2235F-D88A-40C9-B0C4-A46950B379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6664E-96F1-4CF7-B1C5-E17D6E0B4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63E61C-DA2D-470B-9ADC-CC74C914C7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B7BCF4-A610-4B37-95F9-F733F1F25C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8A0419-2E08-411C-9F8F-3477E95685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B208D1-5D5F-40D5-82D2-355975F4F3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22DBA5-03F7-482A-9443-FCE79430B9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F186EC-DAD6-4892-8680-FCBC0208D0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3F3A67-C69F-4DE2-9A43-69CFFEFEA8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063316-1E0D-4AEB-93F2-8B1E648515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610F0F-F58A-4D96-9E8F-15E0FDAF26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442992-6A46-40A7-AD42-A81FC275D6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E2554-F339-42F3-B1A1-C6B411FE1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EE65BF-5D0B-4F4D-9B02-39B86F613C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29EF74-8EF2-4A12-BEBA-00318CD1C5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F924DD-87A8-4CD0-AE48-DFBE881870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08829F-36E2-4BD6-9ADF-1DDECBB0BE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249597-4332-4AC2-B1B6-F0907F97C1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C532CE-14D5-4A68-AC80-2ACE3FC3D4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42CE5C-6627-454B-85ED-6177C232DF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982CB5-F1C0-4BE9-8418-0BCDC07F09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AE1685-D20D-4A9A-B10A-A43883589B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49E7B1-1CA1-46C0-A2F9-9350834F94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D2A19-BDE2-4E69-B350-384238F3E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D46358-FE3D-4CBA-BFCE-28EDA63593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5ABB59-D394-46BA-B820-4746C74F1E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1BDDD6-94A5-43D9-BE91-1C2A3F51CC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4E960F-D522-497E-BC82-3720CDAD87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C372A6-05F7-48C9-ACF8-4FC73CEDD9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0D7B5-799F-4EEA-B0DA-CEBBC23ABB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074A31-861B-4ED3-8D6C-38E78C500A92}" type="datetime">
              <a:rPr b="0" lang="en-US" sz="1200" spc="-1" strike="noStrike">
                <a:solidFill>
                  <a:srgbClr val="3f3f3f"/>
                </a:solidFill>
                <a:latin typeface="Corbel"/>
              </a:rPr>
              <a:t>07/28/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5EA613-6CF4-40D1-ADF0-4BD757327216}"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DE8909-8053-44A4-AA69-B971E7FDE962}" type="datetime">
              <a:rPr b="0" lang="en-US" sz="1200" spc="-1" strike="noStrike">
                <a:solidFill>
                  <a:srgbClr val="ffffff"/>
                </a:solidFill>
                <a:latin typeface="Corbel"/>
              </a:rPr>
              <a:t>07/28/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ED324D-D8CD-4DCA-9962-94EB9E08340C}"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406808-7B7F-4D61-A1E8-C58DB1EF8CD1}" type="datetime">
              <a:rPr b="0" lang="en-US" sz="1200" spc="-1" strike="noStrike">
                <a:solidFill>
                  <a:srgbClr val="ffffff"/>
                </a:solidFill>
                <a:latin typeface="Corbel"/>
              </a:rPr>
              <a:t>07/28/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DB5F51-1650-4EDF-A3BE-77B4F2B500D5}"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FAFC04-3620-4134-9990-8717E8FD4FBB}" type="datetime">
              <a:rPr b="0" lang="en-US" sz="1200" spc="-1" strike="noStrike">
                <a:solidFill>
                  <a:srgbClr val="3f3f3f"/>
                </a:solidFill>
                <a:latin typeface="Corbel"/>
              </a:rPr>
              <a:t>07/28/26</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1E3CF6-A98E-4385-8FE7-08F3A77F561D}"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ED8204-0E0C-476E-8A3F-9BD687684E72}" type="datetime">
              <a:rPr b="0" lang="en-US" sz="1200" spc="-1" strike="noStrike">
                <a:solidFill>
                  <a:srgbClr val="3f3f3f"/>
                </a:solidFill>
                <a:latin typeface="Corbel"/>
              </a:rPr>
              <a:t>07/28/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184919-E5FA-400A-9D0D-09D6FFAAEADC}"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CDC16D-BD98-42EB-A0C3-17B39AB2C758}" type="datetime">
              <a:rPr b="0" lang="en-US" sz="1200" spc="-1" strike="noStrike">
                <a:solidFill>
                  <a:srgbClr val="3f3f3f"/>
                </a:solidFill>
                <a:latin typeface="Corbel"/>
              </a:rPr>
              <a:t>07/28/26</a:t>
            </a:fld>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36BA61-B030-446B-B071-D269291628BF}"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80808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0495E2-77F5-4C33-9C86-DDF74A6EAB57}" type="datetime">
              <a:rPr b="0" lang="en-US" sz="1200" spc="-1" strike="noStrike">
                <a:solidFill>
                  <a:srgbClr val="3f3f3f"/>
                </a:solidFill>
                <a:latin typeface="Corbel"/>
              </a:rPr>
              <a:t>07/28/26</a:t>
            </a:fld>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E998B7-A7CE-4032-B774-997172042F2C}"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3" name="Title 1" descr=""/>
          <p:cNvPicPr/>
          <p:nvPr/>
        </p:nvPicPr>
        <p:blipFill>
          <a:blip r:embed="rId2"/>
          <a:stretch/>
        </p:blipFill>
        <p:spPr>
          <a:xfrm>
            <a:off x="682560" y="3333600"/>
            <a:ext cx="8083440" cy="170208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20a Clase: Regulación de riesgos</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
        <p:nvSpPr>
          <p:cNvPr id="305" name="TextBox 3"/>
          <p:cNvSpPr/>
          <p:nvPr/>
        </p:nvSpPr>
        <p:spPr>
          <a:xfrm>
            <a:off x="4427280" y="5715000"/>
            <a:ext cx="282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Santiago Montt Oyarzú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10 de diciembre de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450720" y="139680"/>
            <a:ext cx="8242560" cy="1311120"/>
          </a:xfrm>
          <a:prstGeom prst="rect">
            <a:avLst/>
          </a:prstGeom>
          <a:ln w="0">
            <a:noFill/>
          </a:ln>
        </p:spPr>
      </p:pic>
      <p:sp>
        <p:nvSpPr>
          <p:cNvPr id="323" name=""/>
          <p:cNvSpPr txBox="1"/>
          <p:nvPr/>
        </p:nvSpPr>
        <p:spPr>
          <a:xfrm>
            <a:off x="457200" y="1774800"/>
            <a:ext cx="8229600" cy="4626000"/>
          </a:xfrm>
          <a:prstGeom prst="rect">
            <a:avLst/>
          </a:prstGeom>
          <a:noFill/>
          <a:ln w="0">
            <a:noFill/>
          </a:ln>
        </p:spPr>
        <p:txBody>
          <a:bodyPr lIns="54720" tIns="91440" anchor="t">
            <a:normAutofit fontScale="97000"/>
          </a:bodyPr>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odo empezó con el ferrocarril</a:t>
            </a:r>
            <a:endParaRPr b="0" lang="en-US" sz="3200" spc="-1" strike="noStrike">
              <a:solidFill>
                <a:srgbClr val="000000"/>
              </a:solidFill>
              <a:latin typeface="Corbel"/>
            </a:endParaRPr>
          </a:p>
          <a:p>
            <a:pPr lvl="1" marL="708120" indent="-2646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nicio de la modernidad</a:t>
            </a:r>
            <a:endParaRPr b="0" lang="en-US" sz="2800" spc="-1" strike="noStrike">
              <a:solidFill>
                <a:srgbClr val="000000"/>
              </a:solidFill>
              <a:latin typeface="Corbel"/>
            </a:endParaRPr>
          </a:p>
          <a:p>
            <a:pPr lvl="1" marL="708120" indent="-2646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Nueva dimensión de los riesgos: poner a un montón de gente en un vehículo que viaja a alta velocidad</a:t>
            </a:r>
            <a:endParaRPr b="0" lang="en-US" sz="2800" spc="-1" strike="noStrike">
              <a:solidFill>
                <a:srgbClr val="000000"/>
              </a:solidFill>
              <a:latin typeface="Corbel"/>
            </a:endParaRPr>
          </a:p>
          <a:p>
            <a:pPr lvl="2" marL="965520" indent="-221400">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ccidentes ocurren con cierta frequencia</a:t>
            </a:r>
            <a:endParaRPr b="0" lang="en-US" sz="2400" spc="-1" strike="noStrike">
              <a:solidFill>
                <a:srgbClr val="000000"/>
              </a:solidFill>
              <a:latin typeface="Corbel"/>
            </a:endParaRPr>
          </a:p>
          <a:p>
            <a:pPr lvl="2" marL="965520" indent="-221400">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Pero no renunciamos a los beneficios en cuestión, aunque esté en juego la vida humana</a:t>
            </a:r>
            <a:endParaRPr b="0" lang="en-US" sz="2400" spc="-1" strike="noStrike">
              <a:solidFill>
                <a:srgbClr val="000000"/>
              </a:solidFill>
              <a:latin typeface="Corbel"/>
            </a:endParaRPr>
          </a:p>
          <a:p>
            <a:pPr lvl="2" marL="965520" indent="-221400">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ost-benefit analysis</a:t>
            </a:r>
            <a:endParaRPr b="0" lang="en-US" sz="24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Vivimos ahora en la “sociedad del riesgo”</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450720" y="152280"/>
            <a:ext cx="8242560" cy="1262160"/>
          </a:xfrm>
          <a:prstGeom prst="rect">
            <a:avLst/>
          </a:prstGeom>
          <a:ln w="0">
            <a:noFill/>
          </a:ln>
        </p:spPr>
      </p:pic>
      <p:sp>
        <p:nvSpPr>
          <p:cNvPr id="325" name=""/>
          <p:cNvSpPr txBox="1"/>
          <p:nvPr/>
        </p:nvSpPr>
        <p:spPr>
          <a:xfrm>
            <a:off x="457200" y="1774800"/>
            <a:ext cx="8229600" cy="4626000"/>
          </a:xfrm>
          <a:prstGeom prst="rect">
            <a:avLst/>
          </a:prstGeom>
          <a:noFill/>
          <a:ln w="0">
            <a:noFill/>
          </a:ln>
        </p:spPr>
        <p:txBody>
          <a:bodyPr lIns="54720" tIns="91440" anchor="t">
            <a:normAutofit fontScale="96000"/>
          </a:bodyPr>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terminación de qué riesgos son o no aceptables</a:t>
            </a:r>
            <a:endParaRPr b="0" lang="en-US" sz="3200" spc="-1" strike="noStrike">
              <a:solidFill>
                <a:srgbClr val="000000"/>
              </a:solidFill>
              <a:latin typeface="Corbel"/>
            </a:endParaRPr>
          </a:p>
          <a:p>
            <a:pPr lvl="1" marL="700560" indent="-2617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Qué actividades son o no seguras</a:t>
            </a:r>
            <a:endParaRPr b="0" lang="en-US" sz="2800" spc="-1" strike="noStrike">
              <a:solidFill>
                <a:srgbClr val="000000"/>
              </a:solidFill>
              <a:latin typeface="Corbel"/>
            </a:endParaRPr>
          </a:p>
          <a:p>
            <a:pPr lvl="1" marL="700560" indent="-2617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cceptabilidad depende de factores culturales</a:t>
            </a:r>
            <a:endParaRPr b="0" lang="en-US" sz="28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iesgos tecnológicos</a:t>
            </a:r>
            <a:endParaRPr b="0" lang="en-US" sz="3200" spc="-1" strike="noStrike">
              <a:solidFill>
                <a:srgbClr val="000000"/>
              </a:solidFill>
              <a:latin typeface="Corbel"/>
            </a:endParaRPr>
          </a:p>
          <a:p>
            <a:pPr lvl="1" marL="700560" indent="-2617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Muchas veces hay incertidumbre, es decir, no sabemos cuantificar los riesgos</a:t>
            </a:r>
            <a:endParaRPr b="0" lang="en-US" sz="28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Quién/cómo se determinan los riesgo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450720" y="152280"/>
            <a:ext cx="8242560" cy="1262160"/>
          </a:xfrm>
          <a:prstGeom prst="rect">
            <a:avLst/>
          </a:prstGeom>
          <a:ln w="0">
            <a:noFill/>
          </a:ln>
        </p:spPr>
      </p:pic>
      <p:sp>
        <p:nvSpPr>
          <p:cNvPr id="32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iesgos</a:t>
            </a:r>
            <a:endParaRPr b="0" lang="en-US" sz="2400" spc="-1" strike="noStrike">
              <a:solidFill>
                <a:srgbClr val="000000"/>
              </a:solidFill>
              <a:latin typeface="Corbel"/>
            </a:endParaRPr>
          </a:p>
          <a:p>
            <a:pPr lvl="1" marL="730080" indent="-272880">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robabilidad de un resultado (evento adverso) en un cierto lapso de tiempo</a:t>
            </a:r>
            <a:endParaRPr b="0" lang="en-US" sz="2000" spc="-1" strike="noStrike">
              <a:solidFill>
                <a:srgbClr val="000000"/>
              </a:solidFill>
              <a:latin typeface="Corbel"/>
            </a:endParaRPr>
          </a:p>
          <a:p>
            <a:pPr lvl="2" marL="995400" indent="-228600">
              <a:spcBef>
                <a:spcPts val="45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amaño del resultado</a:t>
            </a:r>
            <a:endParaRPr b="0" lang="en-US" sz="1800" spc="-1" strike="noStrike">
              <a:solidFill>
                <a:srgbClr val="000000"/>
              </a:solidFill>
              <a:latin typeface="Corbel"/>
            </a:endParaRPr>
          </a:p>
          <a:p>
            <a:pPr lvl="1" marL="730080" indent="-272880">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fectos personales, multidimensionales</a:t>
            </a: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rchipiélago regulatorio</a:t>
            </a:r>
            <a:endParaRPr b="0" lang="en-US" sz="2400" spc="-1" strike="noStrike">
              <a:solidFill>
                <a:srgbClr val="000000"/>
              </a:solidFill>
              <a:latin typeface="Corbel"/>
            </a:endParaRPr>
          </a:p>
          <a:p>
            <a:pPr lvl="1" marL="730080" indent="-272880">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t>
            </a:r>
            <a:r>
              <a:rPr b="0" lang="en-US" sz="2000" spc="-1" strike="noStrike">
                <a:solidFill>
                  <a:srgbClr val="000000"/>
                </a:solidFill>
                <a:latin typeface="Corbel"/>
              </a:rPr>
              <a:t>For some hazards, government adopt heavy-duty, anticipative, and intrusive regulatory arrangements reminiscent of the draconian measures taken by early modern states to control plagues… For other hazards, such as smoking, much lighter and more reactive approaches are adopted” (Hood et al)</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Title 1" descr=""/>
          <p:cNvPicPr/>
          <p:nvPr/>
        </p:nvPicPr>
        <p:blipFill>
          <a:blip r:embed="rId1"/>
          <a:stretch/>
        </p:blipFill>
        <p:spPr>
          <a:xfrm>
            <a:off x="450720" y="152280"/>
            <a:ext cx="8242560" cy="1262160"/>
          </a:xfrm>
          <a:prstGeom prst="rect">
            <a:avLst/>
          </a:prstGeom>
          <a:ln w="0">
            <a:noFill/>
          </a:ln>
        </p:spPr>
      </p:pic>
      <p:sp>
        <p:nvSpPr>
          <p:cNvPr id="307" name=""/>
          <p:cNvSpPr txBox="1"/>
          <p:nvPr/>
        </p:nvSpPr>
        <p:spPr>
          <a:xfrm>
            <a:off x="457200" y="1774800"/>
            <a:ext cx="8229600" cy="4626000"/>
          </a:xfrm>
          <a:prstGeom prst="rect">
            <a:avLst/>
          </a:prstGeom>
          <a:noFill/>
          <a:ln w="0">
            <a:noFill/>
          </a:ln>
        </p:spPr>
        <p:txBody>
          <a:bodyPr lIns="54720" tIns="91440" anchor="t">
            <a:normAutofit fontScale="99000"/>
          </a:bodyPr>
          <a:p>
            <a:pPr marL="433440" indent="-315720">
              <a:lnSpc>
                <a:spcPct val="7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TC, Píldora II (Rol )</a:t>
            </a:r>
            <a:endParaRPr b="0" lang="en-US" sz="2500" spc="-1" strike="noStrike">
              <a:solidFill>
                <a:srgbClr val="000000"/>
              </a:solidFill>
              <a:latin typeface="Corbel"/>
            </a:endParaRPr>
          </a:p>
          <a:p>
            <a:pPr lvl="1" marL="722520" indent="-270000">
              <a:lnSpc>
                <a:spcPct val="7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Considerando 36</a:t>
            </a:r>
            <a:endParaRPr b="0" lang="en-US" sz="2100" spc="-1" strike="noStrike">
              <a:solidFill>
                <a:srgbClr val="000000"/>
              </a:solidFill>
              <a:latin typeface="Corbel"/>
            </a:endParaRPr>
          </a:p>
          <a:p>
            <a:pPr lvl="2" marL="985320" indent="-226080">
              <a:lnSpc>
                <a:spcPct val="70000"/>
              </a:lnSpc>
              <a:spcBef>
                <a:spcPts val="55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rbel"/>
              </a:rPr>
              <a:t>Así, para estos sentenciadores, como para los que se han citado, la falta de consenso entre los especialistas y, por ende, la falta de certeza acerca de una de las posibles consecuencias de la anticoncepción de emergencia, como es que impida la implantación de un ser humano con las características propias de tal, resulta evidente.</a:t>
            </a:r>
            <a:r>
              <a:rPr b="0" lang="en-US" sz="2200" spc="-1" strike="noStrike">
                <a:solidFill>
                  <a:srgbClr val="000000"/>
                </a:solidFill>
                <a:latin typeface="Corbel"/>
              </a:rPr>
              <a:t> </a:t>
            </a:r>
            <a:endParaRPr b="0" lang="en-US" sz="2200" spc="-1" strike="noStrike">
              <a:solidFill>
                <a:srgbClr val="000000"/>
              </a:solidFill>
              <a:latin typeface="Corbel"/>
            </a:endParaRPr>
          </a:p>
          <a:p>
            <a:pPr lvl="1" marL="722520" indent="-270000">
              <a:lnSpc>
                <a:spcPct val="70000"/>
              </a:lnSpc>
              <a:spcBef>
                <a:spcPts val="6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Considerando 39</a:t>
            </a:r>
            <a:endParaRPr b="0" lang="en-US" sz="2500" spc="-1" strike="noStrike">
              <a:solidFill>
                <a:srgbClr val="000000"/>
              </a:solidFill>
              <a:latin typeface="Corbel"/>
            </a:endParaRPr>
          </a:p>
          <a:p>
            <a:pPr lvl="2" marL="985320" indent="-226080">
              <a:lnSpc>
                <a:spcPct val="70000"/>
              </a:lnSpc>
              <a:spcBef>
                <a:spcPts val="476"/>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orbel"/>
              </a:rPr>
              <a:t>Que de los razonamientos que preceden, esta Magistratura sólo puede constatar que la evidencia científica allegada al presente proceso no permite excluir, en términos categóricos y concluyentes, la posibilidad de que la ingesta de la denominada “píldora del día después”, ya sea en su versión de progestina pura o en la del método combinado o de Yuzpe, no sea capaz de afectar la implantación de un óvulo fecundado o de un embrión o, en definitiva, de un ser humano, en los términos que se han definido por la propia ciencia médica;</a:t>
            </a:r>
            <a:r>
              <a:rPr b="0" lang="en-US" sz="1900" spc="-1" strike="noStrike">
                <a:solidFill>
                  <a:srgbClr val="000000"/>
                </a:solidFill>
                <a:latin typeface="Corbel"/>
              </a:rPr>
              <a:t> </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450720" y="152280"/>
            <a:ext cx="8242560" cy="1262160"/>
          </a:xfrm>
          <a:prstGeom prst="rect">
            <a:avLst/>
          </a:prstGeom>
          <a:ln w="0">
            <a:noFill/>
          </a:ln>
        </p:spPr>
      </p:pic>
      <p:sp>
        <p:nvSpPr>
          <p:cNvPr id="309" name=""/>
          <p:cNvSpPr txBox="1"/>
          <p:nvPr/>
        </p:nvSpPr>
        <p:spPr>
          <a:xfrm>
            <a:off x="457200" y="1774800"/>
            <a:ext cx="8229600" cy="4626000"/>
          </a:xfrm>
          <a:prstGeom prst="rect">
            <a:avLst/>
          </a:prstGeom>
          <a:noFill/>
          <a:ln w="0">
            <a:noFill/>
          </a:ln>
        </p:spPr>
        <p:txBody>
          <a:bodyPr lIns="54720" tIns="91440" anchor="t">
            <a:normAutofit fontScale="99000"/>
          </a:bodyPr>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ay “riesgo” de que el Levonorgestrel  bloquee la anidación</a:t>
            </a:r>
            <a:endParaRPr b="0" lang="en-US" sz="3200" spc="-1" strike="noStrike">
              <a:solidFill>
                <a:srgbClr val="000000"/>
              </a:solidFill>
              <a:latin typeface="Corbel"/>
            </a:endParaRPr>
          </a:p>
          <a:p>
            <a:pPr lvl="1" marL="722520" indent="-2700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res posibles efectos de la droga: 1) Anti-ovulación, 2) Alteración del moco cervical (daña espermatozoides y óvulos), 3) Anti-anidación. </a:t>
            </a:r>
            <a:endParaRPr b="0" lang="en-US" sz="2800" spc="-1" strike="noStrike">
              <a:solidFill>
                <a:srgbClr val="000000"/>
              </a:solidFill>
              <a:latin typeface="Corbel"/>
            </a:endParaRPr>
          </a:p>
          <a:p>
            <a:pPr lvl="1" marL="722520" indent="-2700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odo parece indicar que el riesgo  de anti-anidación es bajo</a:t>
            </a:r>
            <a:endParaRPr b="0" lang="en-US" sz="2800" spc="-1" strike="noStrike">
              <a:solidFill>
                <a:srgbClr val="000000"/>
              </a:solidFill>
              <a:latin typeface="Corbel"/>
            </a:endParaRPr>
          </a:p>
          <a:p>
            <a:pPr lvl="2" marL="985320" indent="-226080">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ecientes experimentos del dr. Croxatto con ratas y monos así parece indicarlo</a:t>
            </a:r>
            <a:endParaRPr b="0" lang="en-US" sz="2400" spc="-1" strike="noStrike">
              <a:solidFill>
                <a:srgbClr val="000000"/>
              </a:solidFill>
              <a:latin typeface="Corbel"/>
            </a:endParaRPr>
          </a:p>
          <a:p>
            <a:pPr lvl="1" marL="722520" indent="-2700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450720" y="152280"/>
            <a:ext cx="8242560" cy="1262160"/>
          </a:xfrm>
          <a:prstGeom prst="rect">
            <a:avLst/>
          </a:prstGeom>
          <a:ln w="0">
            <a:noFill/>
          </a:ln>
        </p:spPr>
      </p:pic>
      <p:sp>
        <p:nvSpPr>
          <p:cNvPr id="311"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Primera pregunta: ¿qué estamos regulando?</a:t>
            </a:r>
            <a:endParaRPr b="0" lang="en-US" sz="2400" spc="-1" strike="noStrike">
              <a:solidFill>
                <a:srgbClr val="000000"/>
              </a:solidFill>
              <a:latin typeface="Corbel"/>
            </a:endParaRPr>
          </a:p>
          <a:p>
            <a:pPr lvl="1" marL="730080" indent="-272880">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nticoncepción de emergencia, y por ello, libre determinación de las personas</a:t>
            </a:r>
            <a:endParaRPr b="0" lang="en-US" sz="2000" spc="-1" strike="noStrike">
              <a:solidFill>
                <a:srgbClr val="000000"/>
              </a:solidFill>
              <a:latin typeface="Corbel"/>
            </a:endParaRPr>
          </a:p>
          <a:p>
            <a:pPr lvl="2" marL="995400" indent="-228600">
              <a:spcBef>
                <a:spcPts val="45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odanovic es el único que repara en este punto! (voto de minoría)</a:t>
            </a:r>
            <a:endParaRPr b="0" lang="en-US" sz="1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Es fundamental saber esto, pues es uno de los valores que está en uno de los brazos de la balanza</a:t>
            </a:r>
            <a:endParaRPr b="0" lang="en-US" sz="2400" spc="-1" strike="noStrike">
              <a:solidFill>
                <a:srgbClr val="000000"/>
              </a:solidFill>
              <a:latin typeface="Corbel"/>
            </a:endParaRPr>
          </a:p>
          <a:p>
            <a:pPr lvl="1" marL="730080" indent="-272880">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E vs. riesgo de aborto</a:t>
            </a: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Qué pasa si fuera otro el valor?</a:t>
            </a:r>
            <a:endParaRPr b="0" lang="en-US" sz="2400" spc="-1" strike="noStrike">
              <a:solidFill>
                <a:srgbClr val="000000"/>
              </a:solidFill>
              <a:latin typeface="Corbel"/>
            </a:endParaRPr>
          </a:p>
          <a:p>
            <a:pPr lvl="1" marL="730080" indent="-272880">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j. Libertad de desplazamiento de las mujeres</a:t>
            </a:r>
            <a:endParaRPr b="0" lang="en-US" sz="2000" spc="-1" strike="noStrike">
              <a:solidFill>
                <a:srgbClr val="000000"/>
              </a:solidFill>
              <a:latin typeface="Corbel"/>
            </a:endParaRPr>
          </a:p>
          <a:p>
            <a:pPr lvl="2" marL="995400" indent="-228600">
              <a:spcBef>
                <a:spcPts val="45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Ej. Se descubre que si, post-coito, las mujeres se quedan en cama, los cigotos se anidan con más éxito</a:t>
            </a:r>
            <a:endParaRPr b="0" lang="en-US" sz="1800" spc="-1" strike="noStrike">
              <a:solidFill>
                <a:srgbClr val="000000"/>
              </a:solidFill>
              <a:latin typeface="Corbel"/>
            </a:endParaRPr>
          </a:p>
          <a:p>
            <a:pPr lvl="2" marL="995400" indent="-228600">
              <a:spcBef>
                <a:spcPts val="45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ería entonces esto razón para prohibir a las mujeres desplazarse?</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450720" y="152280"/>
            <a:ext cx="8242560" cy="1262160"/>
          </a:xfrm>
          <a:prstGeom prst="rect">
            <a:avLst/>
          </a:prstGeom>
          <a:ln w="0">
            <a:noFill/>
          </a:ln>
        </p:spPr>
      </p:pic>
      <p:sp>
        <p:nvSpPr>
          <p:cNvPr id="313"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C</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Larga disquisición acerca del valor de la vida, incluyendo la afirmación que la vida comienza con la concepción</a:t>
            </a:r>
            <a:endParaRPr b="0" lang="en-US" sz="2800" spc="-1" strike="noStrike">
              <a:solidFill>
                <a:srgbClr val="000000"/>
              </a:solidFill>
              <a:latin typeface="Corbel"/>
            </a:endParaRPr>
          </a:p>
          <a:p>
            <a:pPr lvl="2" marL="995400" indent="-228600">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onsiderandos 41-60 </a:t>
            </a:r>
            <a:endParaRPr b="0" lang="en-US" sz="2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Qué se sigue (lógicamente) de lo anterior?</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450720" y="152280"/>
            <a:ext cx="8242560" cy="1262160"/>
          </a:xfrm>
          <a:prstGeom prst="rect">
            <a:avLst/>
          </a:prstGeom>
          <a:ln w="0">
            <a:noFill/>
          </a:ln>
        </p:spPr>
      </p:pic>
      <p:sp>
        <p:nvSpPr>
          <p:cNvPr id="315" name=""/>
          <p:cNvSpPr txBox="1"/>
          <p:nvPr/>
        </p:nvSpPr>
        <p:spPr>
          <a:xfrm>
            <a:off x="457200" y="1774800"/>
            <a:ext cx="8229600" cy="4626000"/>
          </a:xfrm>
          <a:prstGeom prst="rect">
            <a:avLst/>
          </a:prstGeom>
          <a:noFill/>
          <a:ln w="0">
            <a:noFill/>
          </a:ln>
        </p:spPr>
        <p:txBody>
          <a:bodyPr lIns="54720" tIns="91440"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rbel"/>
              </a:rPr>
              <a:t>SEXAGESIMOCUARTO</a:t>
            </a:r>
            <a:r>
              <a:rPr b="0" lang="es-ES" sz="2800" spc="-1" strike="noStrike">
                <a:solidFill>
                  <a:srgbClr val="000000"/>
                </a:solidFill>
                <a:latin typeface="Corbel"/>
              </a:rPr>
              <a:t>: </a:t>
            </a:r>
            <a:endParaRPr b="0" lang="en-US" sz="2800" spc="-1" strike="noStrike">
              <a:solidFill>
                <a:srgbClr val="000000"/>
              </a:solidFill>
              <a:latin typeface="Corbel"/>
            </a:endParaRPr>
          </a:p>
          <a:p>
            <a:pPr lvl="1" marL="664200" indent="-248040">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Que, en ese orden de consideraciones, resulta pertinente recordar que en su informe </a:t>
            </a:r>
            <a:r>
              <a:rPr b="0" i="1" lang="es-ES" sz="2000" spc="-1" strike="noStrike">
                <a:solidFill>
                  <a:srgbClr val="000000"/>
                </a:solidFill>
                <a:latin typeface="Corbel"/>
              </a:rPr>
              <a:t>“La duda razonable en la prohibición del Levonorgestrel 0,75 mg. Análisis lógico y jurídico”</a:t>
            </a:r>
            <a:r>
              <a:rPr b="0" lang="es-ES" sz="2000" spc="-1" strike="noStrike">
                <a:solidFill>
                  <a:srgbClr val="000000"/>
                </a:solidFill>
                <a:latin typeface="Corbel"/>
              </a:rPr>
              <a:t>, del Centro de Estudios para el Derecho y la Ética Aplicada de la Universidad Católica de Chile, acompañado a este proceso, se precisa que “</a:t>
            </a:r>
            <a:r>
              <a:rPr b="0" i="1" lang="es-ES" sz="2000" spc="-1" strike="noStrike">
                <a:solidFill>
                  <a:srgbClr val="000000"/>
                </a:solidFill>
                <a:latin typeface="Corbel"/>
              </a:rPr>
              <a:t>existe duda cuando el entendimiento no es capaz de asentir o negar un enunciado en ausencia de una causa suficiente que lo determine en uno u otro sentido. Se produce equivalencia en la suficiencia de motivos en favor y en contra del enunciado: hay igualdad, tanto en calidad como en cantidad, entre las razones que afirman o niegan el aserto</a:t>
            </a:r>
            <a:r>
              <a:rPr b="0" lang="es-ES" sz="2000" spc="-1" strike="noStrike">
                <a:solidFill>
                  <a:srgbClr val="000000"/>
                </a:solidFill>
                <a:latin typeface="Corbel"/>
              </a:rPr>
              <a:t>” (p. 6).</a:t>
            </a:r>
            <a:endParaRPr b="0" lang="en-US" sz="20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rbel"/>
              </a:rPr>
              <a:t>66:</a:t>
            </a:r>
            <a:endParaRPr b="0" lang="en-US" sz="2400" spc="-1" strike="noStrike">
              <a:solidFill>
                <a:srgbClr val="000000"/>
              </a:solidFill>
              <a:latin typeface="Corbel"/>
            </a:endParaRPr>
          </a:p>
          <a:p>
            <a:pPr lvl="1" marL="664200" indent="-248040">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En tal sentido, parece indeludible tener presente el principio “pro homine” o “favor libertatis” </a:t>
            </a:r>
            <a:endParaRPr b="0" lang="en-US" sz="20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450720" y="152280"/>
            <a:ext cx="8242560" cy="1262160"/>
          </a:xfrm>
          <a:prstGeom prst="rect">
            <a:avLst/>
          </a:prstGeom>
          <a:ln w="0">
            <a:noFill/>
          </a:ln>
        </p:spPr>
      </p:pic>
      <p:sp>
        <p:nvSpPr>
          <p:cNvPr id="317"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PS Agreement: “Acuerdo sobre la Aplicación de Medidas Sanitarias y Fitosanitarias”</a:t>
            </a:r>
            <a:endParaRPr b="0" lang="en-US" sz="2000" spc="-1" strike="noStrike">
              <a:solidFill>
                <a:srgbClr val="000000"/>
              </a:solidFill>
              <a:latin typeface="Corbel"/>
            </a:endParaRPr>
          </a:p>
          <a:p>
            <a:pPr lvl="1" marL="678960" indent="-253440">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1. El presente Acuerdo es aplicable a todas las medidas sanitarias y fitosanitarias que puedan afectar, directa o indirectamente, al comercio internacional. Tales medidas se elaborarán y aplicarán de conformidad con las disposiciones del presente Acuerdo.</a:t>
            </a:r>
            <a:endParaRPr b="0" lang="en-US" sz="1800" spc="-1" strike="noStrike">
              <a:solidFill>
                <a:srgbClr val="000000"/>
              </a:solidFill>
              <a:latin typeface="Corbel"/>
            </a:endParaRPr>
          </a:p>
          <a:p>
            <a:pPr lvl="1" marL="678960" indent="-253440">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2.1. Los Miembros tienen derecho a adoptar las medidas sanitarias y fitosanitarias necesarias para proteger la salud y la vida de las personas y de los animales o para preservar los vegetales, siempre que tales medidas no sean incompatibles con las disposiciones del presente Acuerdo.</a:t>
            </a:r>
            <a:endParaRPr b="0" lang="en-US" sz="1800" spc="-1" strike="noStrike">
              <a:solidFill>
                <a:srgbClr val="000000"/>
              </a:solidFill>
              <a:latin typeface="Corbel"/>
            </a:endParaRPr>
          </a:p>
          <a:p>
            <a:pPr lvl="1" marL="678960" indent="-253440">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2.2. 2. Los Miembros se asegurarán de que cualquier medida sanitaria o fitosanitaria sólo se aplique en cuanto sea necesaria para proteger la salud y la vida de las personas y de los animales o para preservar los vegetales, de que esté basada en principios científicos y de que no se mantenga sin testimonios científicos suficientes, a reserva de lo dispuesto en el párrafo 7 del artículo 5.</a:t>
            </a:r>
            <a:endParaRPr b="0" lang="en-US" sz="1800" spc="-1" strike="noStrike">
              <a:solidFill>
                <a:srgbClr val="000000"/>
              </a:solidFill>
              <a:latin typeface="Corbel"/>
            </a:endParaRPr>
          </a:p>
          <a:p>
            <a:pPr lvl="1" marL="678960" indent="-253440">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450720" y="152280"/>
            <a:ext cx="8242560" cy="1262160"/>
          </a:xfrm>
          <a:prstGeom prst="rect">
            <a:avLst/>
          </a:prstGeom>
          <a:ln w="0">
            <a:noFill/>
          </a:ln>
        </p:spPr>
      </p:pic>
      <p:sp>
        <p:nvSpPr>
          <p:cNvPr id="319" name=""/>
          <p:cNvSpPr txBox="1"/>
          <p:nvPr/>
        </p:nvSpPr>
        <p:spPr>
          <a:xfrm>
            <a:off x="457200" y="1774800"/>
            <a:ext cx="8229600" cy="4626000"/>
          </a:xfrm>
          <a:prstGeom prst="rect">
            <a:avLst/>
          </a:prstGeom>
          <a:noFill/>
          <a:ln w="0">
            <a:noFill/>
          </a:ln>
        </p:spPr>
        <p:txBody>
          <a:bodyPr lIns="54720" tIns="91440" anchor="t">
            <a:normAutofit/>
          </a:bodyPr>
          <a:p>
            <a:pPr lvl="1" marL="730080" indent="-272880">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5.1. 1. Los Miembros se asegurarán de que sus medidas sanitarias o fitosanitarias se basen en una evaluación, adecuada a las circunstancias, de los riesgos existentes para la vida y la salud de las personas y de los animales o para la preservación de los vegetales, teniendo en cuenta las técnicas de evaluación del riesgo elaboradas por las organizaciones internacionales competentes.</a:t>
            </a:r>
            <a:endParaRPr b="0" lang="en-US" sz="1800" spc="-1" strike="noStrike">
              <a:solidFill>
                <a:srgbClr val="000000"/>
              </a:solidFill>
              <a:latin typeface="Corbel"/>
            </a:endParaRPr>
          </a:p>
          <a:p>
            <a:pPr lvl="1" marL="730080" indent="-272880">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5.7. Cuando los testimonios científicos pertinentes sean insuficientes, un Miembro podrá adoptar provisionalmente medidas sanitarias o fitosanitarias sobre la base de la información pertinente de que disponga, con inclusión de la procedente de las organizaciones internacionales competentes y de las medidas sanitarias o fitosanitarias que apliquen otras partes contratantes. En tales circunstancias, los Miembros tratarán de obtener la información adicional necesaria para una evaluación más objetiva del riesgo y revisarán en consecuencia la medida sanitaria o fitosanitaria en un plazo razonable.</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450720" y="152280"/>
            <a:ext cx="8242560" cy="1262160"/>
          </a:xfrm>
          <a:prstGeom prst="rect">
            <a:avLst/>
          </a:prstGeom>
          <a:ln w="0">
            <a:noFill/>
          </a:ln>
        </p:spPr>
      </p:pic>
      <p:sp>
        <p:nvSpPr>
          <p:cNvPr id="321"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SA vs. EU</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Ganado que había sido crecido usando ciertas hormonas fue objeto de una prohibición de importancia en EU</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l Panel y el Organo de Apelacion consideraron que la medida de EU no había sido conforme al artículo 5.1</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01:11:37Z</dcterms:created>
  <dc:creator>Santiago Montt</dc:creator>
  <dc:description/>
  <dc:language>en-US</dc:language>
  <cp:lastModifiedBy>Santiago Montt</cp:lastModifiedBy>
  <dcterms:modified xsi:type="dcterms:W3CDTF">2009-12-13T02:48:06Z</dcterms:modified>
  <cp:revision>87</cp:revision>
  <dc:subject/>
  <dc:title>Nuevas Formas de Intervención Administrativa</dc:title>
</cp:coreProperties>
</file>