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6193-E0DD-4103-88E4-60BB84251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0BC2-027C-4F02-91D8-BBB4FC5D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935F-4B6C-4E2D-87D8-30F02FC6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0E7C-CC55-4289-AD90-B2B32887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D785-7070-484A-839F-113944016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B2AB-EDCB-4CD7-B715-5E3DCC7A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6AEE-5B98-4859-B587-0884CC62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91E9-F7C2-41A2-B02E-AE92A3BD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C0BB-A67E-4BD5-AE4B-197122D9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CEA0-2E42-4895-8E58-122F389B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0517-DA9D-4D21-ABAD-CBFB4B44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2D2A-3AEE-4701-AC7C-9D82615B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5AB1-9E12-4EF2-A385-389AD35C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D49E-E6C4-4231-88EF-34A7BDB0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4F43-1FF9-429C-B633-E5766B9F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692E-0C04-4E30-991A-B5CB9D512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84D9-A0AC-432E-A22A-0B631E74E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BB30B-3DE2-4082-A77D-9B13C724A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2FFED-613E-403D-95A5-D1E4A833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3240A-26FF-4F8D-A061-7841FE4A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29A20-EF10-4303-B1D8-0FE261CF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5E855-487A-4E8C-B403-590B6E56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D9B5-4077-4B4C-858D-B878AF0C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5F595-4410-4BF6-BD88-8BEABF87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2C5D5-A95F-4F67-B083-6EECC69A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2A7F1-04F7-4B5E-8136-44262A03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0ED9A-3A80-4686-9F40-BB3DE9D0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23C1F-9CC7-40AC-A5D3-9815E79D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E3084-A67C-478A-A549-A0F539EA8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C46F2-15FD-400C-AC5B-307B16AA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9FBA1-4578-4101-A80E-C6B5AA8F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2E303-ECF1-4341-88A1-BDC80029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BBB9E-8BD8-43F6-A388-D10F506C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3AA6-5778-42FA-8F46-2BB66F2B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FE91C-6478-48D8-9606-13BBD501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F1EBC-8B01-4B38-AC1C-BF55222C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28D87-D275-4562-B31C-D48AAF90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114D0-0FE1-434D-B99D-CB1EB20C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95977-7AF7-47D5-9393-0836BD28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E4703-E081-4E03-A375-50F719AB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45CC5-1D8F-48FD-BEC3-C9A2160A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717F3-1E53-456B-8E17-B69E920F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0CA1F-6F54-4C2D-9188-02588D3A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0F28A-4143-4DDA-9236-46D6283E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61EC-08F7-4E4A-870D-B256AFAA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8B89F-5B74-4069-8BB4-9EF2437E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E1348-C205-4334-9BDD-335459BB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5A6C0-8D4F-4FBF-8468-DBFE5C8E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1FECF-B176-477E-BEF6-71301C5E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B5A41-AFB2-41E2-8FB1-0887B1F8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29224-1EEA-4D78-B0E4-F0F712EA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C7935-1CD4-4E2C-89CE-A5AD1093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F2030-EFAE-480E-B489-8DC2BE09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4F9E2-B038-499B-80D9-02004376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E973B-DD60-4B20-B158-77DE060F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AADE-B823-45EC-8D5F-613DE258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7897E-7766-425F-BB39-D43BBBF7D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7751A-2404-437E-9575-E5A30C19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6E21E-A578-4FC9-B65B-8C8F448C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BF1A7-6DF1-489C-9383-3BF948CD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F5DDF-27D5-4B9C-B590-FF40717A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CC59D-7B72-4371-9AA0-B050D0BC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CCB4E-18C5-4389-A9C7-F1560C89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97E2B-9157-425E-B6DB-010CE6D3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B3572-CB58-4C23-9F16-AB961B94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FA83A-82C2-4316-84AB-B13F5BD5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57B3-4080-43BA-B825-BC03C5FF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7DDF8-C662-4458-9A86-62CC0322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019CD-1E32-4BC4-877E-1EDD1AF9F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F2871-7FB7-4D6B-AC38-D4D630F81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3F97D-51CF-4E7C-ACD8-3EF806AF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97EDA-5562-45E2-BE8C-66A04219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3FED6-EE37-4CF0-A43B-8EFDD1F2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A14EE-E8B4-4240-94A8-5982F8D8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64ABC-57E1-4CCB-BD49-FAD58C0D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3EFE1-E79E-4FCA-BAC9-CB2ED36D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A25FD-4EFE-4F67-9A45-92E6A326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9D77-0251-4079-A91B-F1E3C6D7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D724A-0138-47ED-BFD2-CDBC3F4B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76675-9963-4DE4-AB30-60F8C594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DA914-B45A-4035-B0DA-0735F52C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FAD95-989D-4D5B-9E9F-4C8B8ADF5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D0D26-EFB8-4CFD-9CA7-CF78BED9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5DEB-F292-442A-8444-B9C4605A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E60CAE-51D9-4385-BB7F-020C64CCC6DE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663009-A659-45D3-8E5E-0F46FB2731A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47B845-63AA-4C24-9FCC-3B52EE3E34E0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7F6FAE-E42E-4904-918F-C56364C29C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4C9439-B616-42F2-8335-9B921988CB35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2EE296-77E5-43A3-83AF-D872065BB6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28F977-63FC-484B-BC26-5319A400E33B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730F70-2339-4967-8DC3-C7A8B2606F9D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657A7C-D9DE-4B52-8769-EB36C151AA67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D61485-69F4-4D39-9288-8585EEB9DAF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BCD717-A883-4A73-BFDC-1D9C55A54E5E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C6611A-369D-4C5C-8B75-E676C21151C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AD2097-3A7F-4F99-8C5B-EDBD851C6163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084ACD-5E28-4302-B9DF-5716732A632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2"/>
          <a:stretch/>
        </p:blipFill>
        <p:spPr>
          <a:xfrm>
            <a:off x="682560" y="3333600"/>
            <a:ext cx="8083440" cy="170208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éptima Clase: Externalidad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4434840" y="5715000"/>
            <a:ext cx="28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antiago Montt Oyarzú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29 de septiembre 2009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380880" y="13939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mpuesto de Pigo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2"/>
          <a:stretch/>
        </p:blipFill>
        <p:spPr>
          <a:xfrm>
            <a:off x="762120" y="2217600"/>
            <a:ext cx="718164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ruber (2007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as externalidades surgen cuando las acciones de una parte hacen que otra parte esté mejor o peor, y no obstante la primera parte no carga el costo ni recibe el beneficio de los efectos de sus acciones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15480" indent="-21024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La clave es que no se reflejen en los precios que las partes enfrenta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as externalidades pueden surgir de la producción de un bien o del consumo de un bien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n un mismo río, aguas arriba, hay una planta de acero que contamina, y más abajo un lodge de pesc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sulta crucial distinguir entre costos y beneficios privados vs. costos y beneficios social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mparar con lo que haría un único dueño en caso de tratarse de una firma integrada (que, en este contexto, es lo mismo que un “panificador social”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"/>
          <p:cNvPicPr/>
          <p:nvPr/>
        </p:nvPicPr>
        <p:blipFill>
          <a:blip r:embed="rId3"/>
          <a:stretch/>
        </p:blipFill>
        <p:spPr>
          <a:xfrm>
            <a:off x="457200" y="1774800"/>
            <a:ext cx="7797960" cy="4626000"/>
          </a:xfrm>
          <a:prstGeom prst="rect">
            <a:avLst/>
          </a:prstGeom>
          <a:ln w="0">
            <a:noFill/>
          </a:ln>
        </p:spPr>
      </p:pic>
      <p:sp>
        <p:nvSpPr>
          <p:cNvPr id="315" name="TextBox 4"/>
          <p:cNvSpPr/>
          <p:nvPr/>
        </p:nvSpPr>
        <p:spPr>
          <a:xfrm>
            <a:off x="2069280" y="640080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Fuente: Gruber (2007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"/>
          <p:cNvPicPr/>
          <p:nvPr/>
        </p:nvPicPr>
        <p:blipFill>
          <a:blip r:embed="rId3"/>
          <a:stretch/>
        </p:blipFill>
        <p:spPr>
          <a:xfrm>
            <a:off x="457200" y="1930320"/>
            <a:ext cx="777564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oluciones que pasan por el mercad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ienvenidos al mundo Coasiano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oluciones pública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stricciones a los preci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mpuestos a-la-Pigou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ubsidio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stricciones a la calida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egulac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ignar derechos de propiedad y dejar que opere el mercad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 los derechos de propiedad están bien definidos, esto conduce a la internalización de la externalida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eorema de Coase: En ausencia de costos de transacción, la externalidad no produce una falla de mercado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Más aún, la asignación de los derechos de propiedad a una u otra parte no afecta el equilibrio eficient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lvl="1"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uatro problema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703440" indent="-3193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l problema de la asignac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9223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signación de culpa y de daño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703440" indent="-3193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l problema del Hold Out y del free rid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9223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Problemas de  oportunismo y acción colectiva si hay varias individuos en alguna de las part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703440" indent="-3193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xistencia de costos de transacc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9223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Especialmente en presencia de un gran número de part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05:14:41Z</dcterms:created>
  <dc:creator>Santiago Montt</dc:creator>
  <dc:description/>
  <dc:language>en-US</dc:language>
  <cp:lastModifiedBy>Santiago Montt</cp:lastModifiedBy>
  <dcterms:modified xsi:type="dcterms:W3CDTF">2009-09-29T06:09:23Z</dcterms:modified>
  <cp:revision>40</cp:revision>
  <dc:subject/>
  <dc:title>Nuevas Formas de Intervención Administrativa</dc:title>
</cp:coreProperties>
</file>