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DB8-7356-4D62-B034-29C60546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6A50-20CB-42D8-8F87-6FC5DB23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C5A-CC4A-4C07-A831-DCE5DD43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4BB-0188-4B05-B596-8B63C7DA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033B-DE6A-450B-8B7F-0CFBF5DD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BC40-979C-44DB-AC72-B74567DA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7EE1-BA8D-4FF2-AE3C-1CD8C66B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70B8-4CC7-4F9B-9C4E-C2A44EA2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EA3A-982E-46D1-AE83-819A3EF0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4556-0EB5-481B-A548-4D1CA8DC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5B50-9BB6-493E-A991-EAEF150C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6B2-1525-4279-8BAD-DB783F63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D21C-48FA-484E-9785-25ADCD93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65F0-EE0C-4301-A2E5-8A7A67A8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A9C4-F882-43E0-909D-2CDFCB37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1507-91E1-46BC-AB24-0D692C02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3ECF-C7B4-4D69-87DA-6989B2FF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5C68-D7AD-48F2-B873-D998DEB3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12957-51B2-4DB5-93E2-B57D6552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07152-7960-46B6-B3A0-37285F65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058FD-E521-470E-B3C7-7E447D4E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9F23-E432-486E-AE50-C36BD202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BA6-BB45-4738-BA75-759740D5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31F9-6F28-4833-9507-CFB079C1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BB601-CB00-49F8-BB2E-FEB835A2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01940-DC4A-4555-BA31-89C31AEC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B53D-98E1-499A-A06C-5B549587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A9713-1A0E-4A46-9583-D28F7134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B6522-76C0-4421-ACCB-DBD375C3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B292F-9AF8-4333-89BF-FB7AC7F3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8826-D0D3-4196-B26A-4193C7BA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76D55-EAFB-4D31-B0E2-2F1DB25B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4229A-C9C9-42C8-8E9A-0DD4579F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045-9521-4D16-933C-808629B8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F374E-38A1-4DA6-83C6-3C880CBB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550F8-9E3D-461B-A2FB-08EDFEE9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D9DDF-FD5B-4517-9B98-9427ADF4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6E8EA-FDE6-43AB-959F-2D01B83A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34246-5699-4D1C-9184-0F948ADA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3EE43-7EE6-4D68-A9F1-E2CD9681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5326B-A7D2-4717-9A46-3C938F4E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D72D5-500C-40F6-8316-70ABE18A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AF4E2-5BBC-4E2B-9A58-2B6B063E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587BE-EF25-4876-8BDC-7797B83F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1B9-A118-4AAD-8E26-33AEF0B1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436A6-AFED-43A6-A24D-A0DC0368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16578-C190-4D72-9388-DB92F700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4B2A8-3037-4E16-AD55-6C3969F7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66500-72C1-4D0D-A05D-99241D8D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7DFF6-553E-4E94-9A16-C697A42A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09C42-CD01-4396-A622-6FDF8981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6D5BC-3D4B-42C5-A561-F5DD6F45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8B38F-80BF-4F68-98A9-09417989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892D4-7FEC-4DEC-80BE-8DA18590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BF85B-1370-4808-AE7E-45F8CD31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E4D-AA5D-4100-AFFE-C9AEC77B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FA840-65BF-4FC8-974F-E0A2F86A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A90D6-3961-4BAD-97D9-745E9E2A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512D6-7FF9-445D-A866-67EECE56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D6602-1019-44E1-86EE-4D393F51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68620-10F0-4C99-BC16-7EA920D9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7517D-FEEC-48A5-97E0-2F297F0A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2E9C7-47DB-4CEF-8960-5C384E71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9DC09-720C-4FB7-BD99-83B21D70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2BA54-493C-4CD2-87D0-3A424E7D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3E4F8-C505-4FC4-9EED-FA4AF95D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275-FB92-4015-92C7-6CC3501B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4CCE2-1A70-4040-BB70-248A7804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6CC82-960A-4EDD-850C-ADC180B7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8F2C6-85AE-4B18-8A23-47D3CD02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EE7A2-66AE-41DA-B667-C3C1070C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20BE8-F619-48B3-9B9E-DDFBC099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EAB62-428B-4A26-B99A-2A92618E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DCCAF-F30C-496B-A9FF-DC1ED294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6DCA7-0B7B-4BAA-ACDB-C9FF5065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0739D-2E6C-4854-B458-30A6842B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2BAEB-1310-4D5F-B467-54491A67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FA6-3C0D-49B6-8890-42D4E6EF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0E5F2-9039-4145-B820-EC33487E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AC974-0956-4BF8-8809-CE98953A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D56FE-62ED-4224-B015-49028F10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0E8CB-2A7A-4A37-BECD-20BA30DA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74D16-4E02-4CEE-9DA7-E4DA54C4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965-77E4-470F-8717-2742244C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F4312-0AC8-493C-9A9C-066D59101668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C12AB-5CF9-4411-B7D5-5755771C12C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77512-20FB-4283-885A-606F9E4EFB6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843E9-DEBA-410B-B3EF-3602D64972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93D97-1D39-4EA5-8C9A-4DD046A10D1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73649-76F8-48ED-9BA3-3E1C7163D3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91B19-919B-47C7-88BD-F9C0745DE0E4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D6DC6-D5FB-4011-AB34-84454B9CDB6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A0F2F-52BD-4A07-ABF5-EC72958AAC32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8BDE8-43B4-4882-B2AC-90DEAD67B3B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8BBBE-F219-426F-A3F3-C0787230B7FC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64C35-D72C-45DC-A2E9-E13AECC345F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89B72-1192-4048-B9A5-C9870A163EC8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62C10-F597-43A7-ADA4-7670E03F957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2"/>
          <a:stretch/>
        </p:blipFill>
        <p:spPr>
          <a:xfrm>
            <a:off x="682560" y="3333600"/>
            <a:ext cx="8083440" cy="17020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éptima Clase: Externalidad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4434840" y="571500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antiago Montt Oyarzú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29 de septiembre 2009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380880" y="13939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mpuesto de Pigo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762120" y="2217600"/>
            <a:ext cx="71816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uber (2007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s externalidades surgen cuando las acciones de una parte hacen que otra parte esté mejor o peor, y no obstante la primera parte no carga el costo ni recibe el beneficio de los efectos de sus acciones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15480" indent="-210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a clave es que no se reflejen en los precios que las partes enfrent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s externalidades pueden surgir de la producción de un bien o del consumo de un bien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 un mismo río, aguas arriba, hay una planta de acero que contamina, y más abajo un lodge de pesc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ulta crucial distinguir entre costos y beneficios privados vs. costos y beneficios socia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parar con lo que haría un único dueño en caso de tratarse de una firma integrada (que, en este contexto, es lo mismo que un “panificador social”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3"/>
          <a:stretch/>
        </p:blipFill>
        <p:spPr>
          <a:xfrm>
            <a:off x="457200" y="1774800"/>
            <a:ext cx="7797960" cy="4626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/>
          <p:cNvSpPr/>
          <p:nvPr/>
        </p:nvSpPr>
        <p:spPr>
          <a:xfrm>
            <a:off x="2069280" y="640080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uente: Gruber (2007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3"/>
          <a:stretch/>
        </p:blipFill>
        <p:spPr>
          <a:xfrm>
            <a:off x="457200" y="1930320"/>
            <a:ext cx="777564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luciones que pasan por el mercad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ienvenidos al mundo Coasiano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luciones públic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tricciones a los preci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mpuestos a-la-Pigo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bsidi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tricciones a la calid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ignar derechos de propiedad y dejar que opere el mercad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 los derechos de propiedad están bien definidos, esto conduce a la internalización de la externalid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orema de Coase: En ausencia de costos de transacción, la externalidad no produce una falla de mercad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ás aún, la asignación de los derechos de propiedad a una u otra parte no afecta el equilibrio eficien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lvl="1"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uatro problema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03440" indent="-319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l problema de la asign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9223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signación de culpa y de dañ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703440" indent="-319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l problema del Hold Out y del free rid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9223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Problemas de  oportunismo y acción colectiva si hay varias individuos en alguna de las part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703440" indent="-319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istencia de costos de transac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9223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specialmente en presencia de un gran número de part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5:14:41Z</dcterms:created>
  <dc:creator>Santiago Montt</dc:creator>
  <dc:description/>
  <dc:language>en-US</dc:language>
  <cp:lastModifiedBy>Santiago Montt</cp:lastModifiedBy>
  <dcterms:modified xsi:type="dcterms:W3CDTF">2009-09-29T06:09:23Z</dcterms:modified>
  <cp:revision>40</cp:revision>
  <dc:subject/>
  <dc:title>Nuevas Formas de Intervención Administrativa</dc:title>
</cp:coreProperties>
</file>