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6B3-DD34-4B57-986B-069F2963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DE7-F0E1-4361-B045-7F5DD056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6DA-D34B-4EF2-94C3-9148D563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DF3-72B5-4C24-A52D-7198B8D0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61DC-87EF-4EB1-A44D-B4CF1758C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4701-5E47-4B3F-BBB7-3FA167D6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625D-2FD6-4F34-BD57-8D7B4FA6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3A38-F912-4A60-8608-87C6E56B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52AB-DECB-482D-834D-3AF6311A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B550-3698-4D4D-8F51-45AEDABF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C09C-1F1B-4BFF-B278-4D6A1E99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D06-067A-4C44-9A30-0A1610A1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3D5F-0F41-4DF6-8096-7A218F04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42CA-F066-4486-9EA4-EB88DD97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111A-E397-49FC-9AEA-6DCC8B2E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A042-7B7B-4ACD-B8A3-3A9AB946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FD57-9FA3-41FE-BF31-5DCB4344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AB8B3-0EFA-407E-943D-2097673D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99D5-EFC9-412D-B586-76C51506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E907-AE4C-4D81-AAA2-6070993C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C1AC-591C-49E7-AF17-35DE3EF2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2162-896B-4010-B58A-2B10A21E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F9F-4933-4EB3-9D99-6C0B4499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B24FE-56F5-437C-98E1-8B00F2B4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2313-6115-49F9-96E1-70C946F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395D-1637-4688-A729-366BE67B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863C5-96BE-4B73-89AF-E4842886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A7874-2D5E-471A-93C6-FF471AF7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5EB2E-DF58-44F2-B3E3-A6D0C3DA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FFBB-4D56-4258-B453-AF506C9B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2B7DC-58E8-4A18-938F-55B79033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FCFD1-F7D7-4AA8-9941-0E1D7013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116EC-09A7-413D-9A33-BF2123D7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F4C-C4D0-41E0-AF69-15B0EA3C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1EA09-83CB-4226-8ED4-52BF700D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0035F-264C-4148-953C-9EB76B3A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E46E-7B70-4CEF-9958-B873BD4D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C5B96-A6F3-4769-BE92-08AA27F2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3BD79-0341-462C-B7E9-F2A04F5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C4289-C508-4B1F-A97F-9AA3AECC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2AA6-30B8-43FB-89E2-21080539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25E2A-0FF8-4FDC-9919-6D8F9F79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6E897-46AC-4788-8764-F76982BE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1B5F9-802A-40EA-A0AC-763DB731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F56-A46E-4E85-B0F4-5CC89C99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BA46F-CC87-4E97-8F01-BCFBEF4E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A017F-6902-495A-B9B0-E133FE63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04EE-5D1D-41CA-A61A-8B04A08B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3F06-5C3B-48D5-B198-C6AF4B98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C76DA-ADE4-4BD8-BF92-4F9BC162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C9398-DF34-434E-9E2B-70306C8B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66540-3B8C-4DDD-874C-44316B34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F5BF2-E5CB-488C-AC78-C462B6E6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486F1-4D0A-476A-B571-567C1690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5818A-B1A1-47BF-8B54-8272E20D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440-AE85-4E29-A8BA-CDA836CC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ED488-FCFC-486F-BBDA-5BFEBEE2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9A275-10B2-4E8C-BC00-683657D9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64197-D2A0-4396-B56B-E0C50846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219F7-4868-4F00-8B52-FBA99359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0DC09-5056-4B70-A9F2-D30FD571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C4915-E617-4DAB-8DFB-B680DBBE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DE1E9-282B-419D-871C-CDFC153B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0B318-C4EB-448D-B324-24F62D29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234AA-26A2-4F53-912F-C93EA93D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A1C5C-69E4-46B5-B093-1B07E1EC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053-501F-4E72-B118-3C1DBE39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42803-F83C-473A-9BC0-879768C2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F6DDA-8657-4374-AECE-7974CDF7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15617-C3EE-4C2E-842C-D6A0E4AF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8AF98-AD50-4DC2-BB15-F76FFAA0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09FB6-F5AF-4FCD-ABD1-34F8FD09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5057D-9842-4146-A710-7AF1E87D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8DE62-40BF-4951-8487-7C48670B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FD385-302F-4440-8B7E-638D4D7A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D87DA-4EF4-4929-B575-7A4F35B5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4DC25-73B2-40A6-8EDD-A8D2486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747-DDCD-419C-864C-3F44E25F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1CB71-58DC-4BAA-882A-56085387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EE13B-72A1-407A-A872-6B5961FB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343EF-69AA-4556-AE93-3C6F698F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1B4B1-E78D-4E4B-9A91-6F365B5D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8E2EF-C554-40B9-B6AA-BBFCEB81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5B3-00C6-407A-8559-A753DCCE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0BE9C-5BC1-4814-9F8B-994088C8F157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70E07-0F14-4696-BB07-C85F69B99B2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21AC6-54B0-41E5-8DD9-326901F0847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B0344-B17E-4D1E-B622-A2AEF958C5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43FF5-FFC8-4554-9F62-7768350B6BC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D36F8-B718-4628-A6A9-01564D82FA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AD769-6A36-439D-AC0E-214D148E8222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8B102-5786-44F5-8054-003EB994EF2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CFDB9C-95C5-4CF8-A512-23295B00DFDB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52C12-C9B5-4C64-999C-1AFC0E2D1E4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A0E83-DE24-4CB6-BF17-110468A7794A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EF1FF-697D-4582-9D4B-E751C857956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893D9-4282-443F-8373-C5BF66687382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C01D9-2AD3-4F1B-A3C6-2F7E3DE7D75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2"/>
          <a:stretch/>
        </p:blipFill>
        <p:spPr>
          <a:xfrm>
            <a:off x="682560" y="3333600"/>
            <a:ext cx="8083440" cy="1702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éptima Clase: Externalidad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4434840" y="571500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ntiago Montt Oyarzú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29 de septiembre 2009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80880" y="13939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puesto de Pigo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762120" y="2217600"/>
            <a:ext cx="71816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uber (2007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s externalidades surgen cuando las acciones de una parte hacen que otra parte esté mejor o peor, y no obstante la primera parte no carga el costo ni recibe el beneficio de los efectos de sus acciones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a clave es que no se reflejen en los precios que las partes enfrent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s externalidades pueden surgir de la producción de un bien o del consumo de un bie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 un mismo río, aguas arriba, hay una planta de acero que contamina, y más abajo un lodge de pes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ulta crucial distinguir entre costos y beneficios privados vs. costos y beneficios socia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arar con lo que haría un único dueño en caso de tratarse de una firma integrada (que, en este contexto, es lo mismo que un “panificador social”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3"/>
          <a:stretch/>
        </p:blipFill>
        <p:spPr>
          <a:xfrm>
            <a:off x="457200" y="1774800"/>
            <a:ext cx="7797960" cy="4626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>
            <a:off x="2069280" y="640080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uente: Gruber (2007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3"/>
          <a:stretch/>
        </p:blipFill>
        <p:spPr>
          <a:xfrm>
            <a:off x="457200" y="1930320"/>
            <a:ext cx="77756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uciones que pasan por el mercad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envenidos al mundo Coasiano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uciones públic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tricciones a los preci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mpuestos a-la-Pigo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sidi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tricciones a la cal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ignar derechos de propiedad y dejar que opere el mercad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 los derechos de propiedad están bien definidos, esto conduce a la internalización de la external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orema de Coase: En ausencia de costos de transacción, la externalidad no produce una falla de merca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ás aún, la asignación de los derechos de propiedad a una u otra parte no afecta el equilibrio eficien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lvl="1"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uatro problema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l problema de la asign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signación de culpa y de dañ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l problema del Hold Out y del free rid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Problemas de  oportunismo y acción colectiva si hay varias individuos en alguna de las par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istencia de costos de transac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specialmente en presencia de un gran número de par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5:14:41Z</dcterms:created>
  <dc:creator>Santiago Montt</dc:creator>
  <dc:description/>
  <dc:language>en-US</dc:language>
  <cp:lastModifiedBy>Santiago Montt</cp:lastModifiedBy>
  <dcterms:modified xsi:type="dcterms:W3CDTF">2009-09-29T06:09:23Z</dcterms:modified>
  <cp:revision>40</cp:revision>
  <dc:subject/>
  <dc:title>Nuevas Formas de Intervención Administrativa</dc:title>
</cp:coreProperties>
</file>