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E49-7FD1-4D26-ADF9-CD5D5069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5F8-3BFF-4669-BA74-FB164A7C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493-C9E4-43CD-892E-5CD303EF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72C-C78E-420B-9503-7696926E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E2E9-65A2-4286-92CF-9694382C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1211-78A2-4B94-A9A1-D0FCC543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C43E-5776-439E-B4C5-831313C3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117C-356B-47E7-B4E6-1F5596AB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7389-CBE2-42FE-A6E6-FB4CA0EA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9D9A-7C04-4651-B239-5170FF50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E5EF-DE42-4C2A-9DDE-4E47B0FB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381-BC9E-4633-B1B9-FE928BE7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3421-D65A-4AFE-A647-EE81D86A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B2DB-9ED2-4808-8AC2-FC64B363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DCA6-1D49-4D61-9662-1F86252F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8EF0-5B62-46D8-8B8D-767E798A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3FE1-130E-4822-8A59-A30585BA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E5C-8128-46CC-AF88-27444F1A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D72-D733-44DB-8894-C42F53CB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9E4-B759-4997-BFC9-1A3F3F3A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2D1-AAD9-4806-86DF-5E9C29B8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E86-6E9F-4FD9-87A6-BD7224E8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467-BA06-412D-8F06-36CD211E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8E6-DF03-4E52-8B26-3E44BE37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A7A5-A5CD-4BC9-A72C-5211153AD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CC77-2A33-4BC4-BB56-F9462D3B472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ección 14:</a:t>
            </a:r>
            <a:br>
              <a:rPr sz="1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retorno de la comunidad  en las teorías del desarro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ia, Raúl y Siles, Marcelo;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social y reducción de la pobreza en América Latina y el Caribe: en búsqueda de un nuevo paradigm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CEPAL; Santiago de Chile; 200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3 CuadroTexto"/>
          <p:cNvSpPr/>
          <p:nvPr/>
        </p:nvSpPr>
        <p:spPr>
          <a:xfrm>
            <a:off x="571680" y="5643720"/>
            <a:ext cx="770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scuela de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ograma del Cur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epública y comunidad en cri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imavera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é necesitan Pedro Machuca y sus amigos para salir adelan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http://3.bp.blogspot.com/_7M1ECWPoE9A/RuMWj8PK5fI/AAAAAAAAACs/JDKXUtEZwzE/s400/machuca_cia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mbas preguntas nos remiten a la teoría del capital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 que necesitamos para desarrollar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171468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tamos el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ísico y financiero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ierra, edificios y maquinarias), el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human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apacidad, habilidades  y conocimientos personales) y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na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diariocasual.com.ar/wp-content/uploads/2007/12/nin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Concepto de capital social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junto de normas informales y valores morales que, restringiendo la libertad individual, amplían el poder, comunicación y coordinación de acciones promoviendo la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onestidad, reciprocidad y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mplimiento de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mesa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ticipado por los cl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m Smith (1759) definió la solidaridad como “nuestra compañía en el sentimiento  de cualquier pasión”, que surge de “ponerse en el lugar del que sufre”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http://www.btinternet.com/~glynhughes/squashed/smith.jpg"/>
          <p:cNvPicPr/>
          <p:nvPr/>
        </p:nvPicPr>
        <p:blipFill>
          <a:blip r:embed="rId1"/>
          <a:stretch/>
        </p:blipFill>
        <p:spPr>
          <a:xfrm>
            <a:off x="0" y="450072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71560" y="609120"/>
            <a:ext cx="488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ticipado por los cl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Hume, la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aridad se basa en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dad de captar y predecir los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samientos y sentimientos de la gente (o por lo menos de generar  la creencia de que lo hacemos), no sólo porque la coherencia esencial de la constitución humana determina que situaciones y estímulos similares provoquen las mismas reacciones internas, sino además porque nuestros pensamientos y sentimientos están interconectados mediante señales visibles y comprens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http://www.btinternet.com/~glynhughes/squashed/hume.jpg"/>
          <p:cNvPicPr/>
          <p:nvPr/>
        </p:nvPicPr>
        <p:blipFill>
          <a:blip r:embed="rId1"/>
          <a:stretch/>
        </p:blipFill>
        <p:spPr>
          <a:xfrm>
            <a:off x="0" y="214200"/>
            <a:ext cx="3333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71560" y="609120"/>
            <a:ext cx="488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ticipado por los cl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314316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suma, la solidaridad es tan inseparable de la interacción social y la percepción personal cómo la vista lo es de la percepción visual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http://www.btinternet.com/~glynhughes/squashed/hume.jpg"/>
          <p:cNvPicPr/>
          <p:nvPr/>
        </p:nvPicPr>
        <p:blipFill>
          <a:blip r:embed="rId1"/>
          <a:stretch/>
        </p:blipFill>
        <p:spPr>
          <a:xfrm>
            <a:off x="0" y="214200"/>
            <a:ext cx="3333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20070820163737-la-pa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Cómo nace el capital so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mos que el capital, como el  capital social se origina en rasgos comunes denominados puntos de coincidencia. Estos rasgos pueden ser adquiridos o heredados, y creemos que son necesarios para el desarrollo del capital soci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La construcción del Est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Francis Fukuya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mement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Qué tipos hay de capital so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social de unión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ede caracterizarse por intensos sentimientos de conexión, que pueden incluir sentimientos de preocupación, afecto e interés por el otro como los que existen entre los miembros de una familia, en las parejas comprometidas, entre las personas que han sido socios comerciales durante mucho tiempo o los miembros de una minoría oprimi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eslatele.com/wp-content/uploads/la-familia-mata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bp3.blogger.com/_504OuFvEm3g/R0ywRetABMI/AAAAAAAAACs/ZiPgX8d9-qA/s400/PeliMachuca.jpg"/>
          <p:cNvPicPr/>
          <p:nvPr/>
        </p:nvPicPr>
        <p:blipFill>
          <a:blip r:embed="rId2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Qué tipos hay de capital so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de vinculación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iénsese en los eslabones de una cadena que tienen el mismo tamaño y resistencia y están sometidos a la misma tensión) existe en relaciones sociales medianamente estrechas y en la mayoría de los casos se basa en puntos de coincidencia adquiridos, a veces derivados de compromisos a mediano pla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www.abc.es/Media/200910/22/union-hace-la-fuerza-11--300x300.jpg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://www.lacoctelera.com/myfiles/zubiaurreart/mon_machuca.jpg"/>
          <p:cNvPicPr/>
          <p:nvPr/>
        </p:nvPicPr>
        <p:blipFill>
          <a:blip r:embed="rId2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Qué tipos hay de capital so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de aproximación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maginemos un puente que conecta dos masas continentales de diferentes superficies, recursos y poblaciones) existe en las relaciones asimétricas entre personas que tienen pocos puntos de coincidencia, un contacto personal limitado y a menudo diferencias importantes en cuanto a los recursos que po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www.catalunya-america.org/images/machuc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www.acc.umu.se/~polarn-p/sas/Cartoon/Sas-maffia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www.cinissimo.com/wp-content/uploads/2008/08/cartel-de-el-padrino-la-obra-maestra-de-francis-ford-coppola.jpg"/>
          <p:cNvPicPr/>
          <p:nvPr/>
        </p:nvPicPr>
        <p:blipFill>
          <a:blip r:embed="rId2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bligoo.com/media/users/3/151939/images/public/16428/20X26_Pituto-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Qué tipos hay de capital so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orma negativa del capital social: los sentimientos de antipatía.  La antipatía suele ser el resultado de la falta de puntos de coincidencia y crea conflictos relacionados con los resultados económicos, los valores, el poder y la información. Este produce la renuencia a compartir, la falta de disposición a prestar ayuda o a participar en intercambios mutuamente beneficiosos, los actos de exclusión, el fraude, la discriminación y la gu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3.bp.blogspot.com/_6isgjoP68xg/Sg4CnfeB95I/AAAAAAAAASA/QMDnu2PWXn8/s320/p-negociac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785960"/>
            <a:ext cx="77724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dos incapaces de recaudar impuestos, son igualmente impotentes para garantizar derechos de propiedad, seguridad jurídica, tribunales imparciales o administraciones decentes. Sabemo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qu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dos que no dan adecuada educación y capacitación, que no invierten en ciencia y tecnología, que no desarrollan infraestructura y que no garantizan una salud de calidad, condenan a sus países a la pobreza. Los que ayer declaraban el “fin de la historia” y el triunfo de la democracia y economías liberales, afirman hoy que Estados débiles o fracasados causan buena parte de los peores males del mundo (terrorismo, pandemias, narcotráfico, etc)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www.semaforoverde.com/Used%20car%20salesman_1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www.cajonevera.com/wp-content/negociacion_poker1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ison y Schmid (1991) descubrieron que sobre los automóviles usados se aplicaba un descuento de hasta 14% a familiares en situación de pobreza,  ninguno a los extraños y se recargaba un 23% a los vecinos desagrad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consecuencias del capital social posi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8588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2571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s personas se comunican entre sí, las situaciones de conflicto se atenúan debido a que se manifiesta una mayor “consideración por el otro”.  Las personas tienden a actuar en forma menos egoísta y toman más en cuenta el interés de los demás particip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de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o de los primeros estudios sobre el capital social demostró que el nivel  de educación alcanzado se relacionaba con el entorno de capital social de los estudiantes (Coleman, 19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aíses con altos niveles de confianza gozan de importantes ventajas económ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omunidades con una fuerte sociedad civil y un alto grado de asociación han prosperado más que las que tienen niveles reducidos de participación cívica (Putnam, Leonardo y Nanetti, 19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de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paridad en el ingreso de los hogares parece disminuir cuando aumentan las variables asociadas a mayores niveles de capital social (Robinson y Siles,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sibilidad de adquirir tierras de buena calidad depende del capital social de cada uno (Perry y robison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a relación positiva entre el crecimiento económico nacional y la confianza (Snack y Keefer, 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de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undan los ejemplos de destrucción y pobreza derivadas de la hostilidad o del capital social negativo, que distorsionan e incrementan el costo de las transacciones, y reducen las posibilidades de especialización.  La guerra, la delincuencia, la corrupción, las amenazas, la discriminación, los actos de terrorismo y la destrucción del medio ambiente son actos de hostilidad que aumentan la pobr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éxito de las maquiladoras de Yucatán (México) depende de su capital social (Biles, Robison y Siles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de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rácticas de conservación de recursos utilizadas en el Altiplano han sido asociadas al capital social  (Swinton,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ormación de capital social trajo aparejada una mejora en el mantenimiento de un sistema de riego y uso compartido del agua (Uphoff, 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han organizado con éxito asociaciones de ahorro e inversión mediante el uso de capital social (Adams y Fitchett, 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dopción de tecnologías depende de los lazos sociales (Islam,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de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dida que aumentan los contactos de intercambio de una persona, también lo hacen sus ingresos  (Fafchamps y Minten, 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se otorga a las comunidades el poder de seleccionar y administrar sus propios proyectos de desarrollo, las inversiones tienen mejores resultados y crece el capital social de las comunidades (Robison, Siles y Owens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almibarimposible.files.wordpress.com/2008/06/cooperar-es-mejor-que-competi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ttp://wsdhgt.grinhost.net/Assasination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Francis Fukuyama cree que fracasamos en construir un Estado fue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Fukuyam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personas o los grupos poseen capital social cuando son objeto de los sentimientos de solidaridad de otras personas o gru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personas o los grupos aportan capital social cuando experimentan sentimientos de solidaridad hacia otras personas o gru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uienes poseen capital social tienen acceso a los recursos de quienes proporcionan ese capital en condiciones más favorables que las que cabría esperar en relaciones más disti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aumento del capital fomenta la cooperación, altera los términos y niveles del intercambio, fomenta los intercambios, reduce el individualismo, internaliza los factores externos y produce un aumento de las inversiones en bienes públicos o con un alto costo de exclusión  realizadas por personas y grupos que poseen capital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pital conduce a la creación y el apoyo de instituciones formales y no formales, así como a la creación de redes entre esas instituciones y el capital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apital social existente dentro de un grupo puede conducir a determinadas personas o grupos a actuar en detrimento de las instituciones y normas sociales que generan gastos públicos en beneficio de los pocos miembros de sus redes ricas en capital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apital social existente dentro de un grupo puede conducir a la discriminación y exclusión de las personas o grupos que no formen parte de é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-633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371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 Social         Estructural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Cognosc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01124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a de: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y organización sociales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uaje y conceptos emoc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festaciones: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 y normas, precedentes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s y valo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procedimientos que respaldan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tudes y creenci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cción colectiva.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favorecen la  acción colec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ados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es sociales de relaciones.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ologías que ponen el énfasis en el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és  comú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ígenes en procesos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dos y relaciones sociales con resultados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iones sociales dese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: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ble y más objetiva;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s observable, y   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ede ser sustituida por otras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ciones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lo tanto es más subjetiva: cuestiones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valo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ción a la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vorece este tipo de acción al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sposición a 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ón colectiva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rla más fácil, reducir los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ón mutu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uamente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de transacción y convertir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a, al hac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a: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mportamiento cooperativo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ste tipo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a cuestión de rutina.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ón sea más deseable y que la gente se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nta más comprometida con ella.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Es cierto que vale más tener amigos que tener diner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flexiones a partir de la teoría del capital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71560" y="713880"/>
            <a:ext cx="48862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tiene el potencial de brindar servicios y, aun así, mantener su identidad (le podemos pedir un favor a un amigo y, aún así, conservar su amistad)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7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0" y="0"/>
            <a:ext cx="3429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5172120" cy="39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se diferencia de los servicios que presta  (distinguimos los sentimientos de solidaridad de un amigo de los favores que éste nos puede hacer)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5929200" y="0"/>
            <a:ext cx="32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71440" y="1143000"/>
            <a:ext cx="6422760" cy="32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es duradero (podemos tener amigos por  largos períodos de tiempo y, a veces, durante toda la vida)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0" y="0"/>
            <a:ext cx="240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22160" y="642960"/>
            <a:ext cx="5135760" cy="585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yoría considera que los servicios que puede prestar el capital social son valiosos (valoramos las muestras de aprobación e interés que intercambian los amigos, y estamos dispuestos a realizar los mayores  esfuerzos para conservarl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2714400" y="2071800"/>
            <a:ext cx="5057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es parcialmente  fungible (podemos pedir a un amigo que ayude a otro amigo nuestro a quien no conoce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0" y="0"/>
            <a:ext cx="240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.- La crítica filosóf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bemos elegir entre libertad o igualdad; entre riesgo o seguridad; responsabilidad o dependencia; entre capitalismo o socialismo; libre empresa o Estado niñera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burocrac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último, el capital social a veces sustituye o complementa otras formas de capital (nuestros amigos pueden ayudarnos a mejorar los servicios que obtenemos  de otras formas de capit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4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0" y="3800520"/>
            <a:ext cx="2400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1928520"/>
            <a:ext cx="495792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es flexible (consideramos  que los servicios de nuestros amigos son valiosos en distintas situacion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7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5786280" y="214200"/>
            <a:ext cx="3357720" cy="66438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 amigo fiel es poderoso protector; el que le encuentra halla un teso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4642920"/>
            <a:ext cx="64008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abiduría 6,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países más ricos no son necesariamente los más fel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ogio de la amistad en Aristóteles </a:t>
            </a:r>
            <a:br>
              <a:rPr sz="44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Etica para Nicómac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4200" y="19810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n amigos nadie querría vivir, aun cuando poseyera todos los demás bienes; hasta los ricos y los que tienen cargos y poder parecen tener necesidad sobre todo de amigos; porque ¿de qué sirve esa clase de prosperidad si se la priva de la facultad de hacer bien, que se ejerce preferentemente y del modo más laudable respecto de los amigos? ¿O cómo podría tal prosperidad guardarse y preservarse sin amigos? Porque cuanto mayor es, tanto más peligra.  En la pobreza y en los demás infortunios se considera a los amigos como el único refugio. Los jóvenes los necesitan para evitar el error; los viejos para su asistencia y como una ayuda que supla las menguas que la debilidad pone a su actividad; los que están en la flor de la vida, para las acciones nobles: “Dos marchando juntos”, así, en efecto, están más capacitados para pensar y actuar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" descr="http://upload.wikimedia.org/wikipedia/commons/5/59/GDP_nominal_per_capita_world_map_IMF_200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3.bp.blogspot.com/_TTUKmXV2Aqk/SsLHw0ev-LI/AAAAAAAADA8/nzHAoiPBA08/s400/World-Happiness-Map.mediumthum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crítica al Estad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- Von Hay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hayek-print-large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Diagram 2"/>
          <p:cNvGrpSpPr/>
          <p:nvPr/>
        </p:nvGrpSpPr>
        <p:grpSpPr>
          <a:xfrm>
            <a:off x="585720" y="505080"/>
            <a:ext cx="7970040" cy="4759560"/>
            <a:chOff x="585720" y="505080"/>
            <a:chExt cx="7970040" cy="4759560"/>
          </a:xfrm>
        </p:grpSpPr>
        <p:sp>
          <p:nvSpPr>
            <p:cNvPr id="100" name="_s1028"/>
            <p:cNvSpPr/>
            <p:nvPr/>
          </p:nvSpPr>
          <p:spPr>
            <a:xfrm>
              <a:off x="3393360" y="1349280"/>
              <a:ext cx="2354760" cy="2417040"/>
            </a:xfrm>
            <a:prstGeom prst="ellipse">
              <a:avLst/>
            </a:prstGeom>
            <a:blipFill rotWithShape="0">
              <a:blip r:embed="rId1">
                <a:alphaModFix amt="50000"/>
              </a:blip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1029"/>
            <p:cNvSpPr/>
            <p:nvPr/>
          </p:nvSpPr>
          <p:spPr>
            <a:xfrm>
              <a:off x="3578040" y="505080"/>
              <a:ext cx="19872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4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1030"/>
            <p:cNvSpPr/>
            <p:nvPr/>
          </p:nvSpPr>
          <p:spPr>
            <a:xfrm>
              <a:off x="4167720" y="2728440"/>
              <a:ext cx="2354400" cy="2417040"/>
            </a:xfrm>
            <a:prstGeom prst="ellipse">
              <a:avLst/>
            </a:prstGeom>
            <a:blipFill rotWithShape="0">
              <a:blip r:embed="rId2">
                <a:alphaModFix amt="50000"/>
              </a:blip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1031"/>
            <p:cNvSpPr/>
            <p:nvPr/>
          </p:nvSpPr>
          <p:spPr>
            <a:xfrm>
              <a:off x="6568560" y="4659840"/>
              <a:ext cx="19872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40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1032"/>
            <p:cNvSpPr/>
            <p:nvPr/>
          </p:nvSpPr>
          <p:spPr>
            <a:xfrm>
              <a:off x="2617560" y="2726280"/>
              <a:ext cx="2354760" cy="2417400"/>
            </a:xfrm>
            <a:prstGeom prst="ellipse">
              <a:avLst/>
            </a:prstGeom>
            <a:blipFill rotWithShape="0">
              <a:blip r:embed="rId3">
                <a:alphaModFix amt="50000"/>
              </a:blip>
              <a:srcRect/>
              <a:stretch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585720" y="4661280"/>
              <a:ext cx="19875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4000" spc="-1" strike="noStrike">
                  <a:solidFill>
                    <a:srgbClr val="000000"/>
                  </a:solidFill>
                  <a:latin typeface="Arial"/>
                </a:rPr>
                <a:t>Comunida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Line 17"/>
          <p:cNvSpPr/>
          <p:nvPr/>
        </p:nvSpPr>
        <p:spPr>
          <a:xfrm>
            <a:off x="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9"/>
          <p:cNvSpPr/>
          <p:nvPr/>
        </p:nvSpPr>
        <p:spPr>
          <a:xfrm flipV="1">
            <a:off x="0" y="2708280"/>
            <a:ext cx="9144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7986240" y="219852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8028000" y="27748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i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2"/>
          <p:cNvSpPr/>
          <p:nvPr/>
        </p:nvSpPr>
        <p:spPr>
          <a:xfrm flipV="1">
            <a:off x="3419640" y="0"/>
            <a:ext cx="4105080" cy="685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2267640" y="615960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ratu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4408560" y="6093000"/>
            <a:ext cx="14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Luc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Por qué el bostezo se contag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artigoo.com/imagenes/tomasmoro/bostez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53:43Z</dcterms:created>
  <dc:creator>Sergio Micco</dc:creator>
  <dc:description/>
  <dc:language>en-US</dc:language>
  <cp:lastModifiedBy>..</cp:lastModifiedBy>
  <dcterms:modified xsi:type="dcterms:W3CDTF">2009-11-23T19:27:02Z</dcterms:modified>
  <cp:revision>29</cp:revision>
  <dc:subject/>
  <dc:title>Presentación de PowerPoint</dc:title>
</cp:coreProperties>
</file>