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E54-3752-4800-8A6B-187794E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8B5-E48D-43A6-A308-02C7EE0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42D-58F2-4043-8968-AA3F9B74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511-F73A-48B2-8877-6E1840E2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A05B-B0A7-4854-85DD-A25B952D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22F-1DBC-4399-B3DC-DAACE73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1D24-FFD3-4A9C-9A9A-9E48EA4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C2B-D531-49F4-BA81-9DC5E30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A967-B5E0-4399-BC61-F1141BA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A25-F304-41B6-80A8-667DC7C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3A47-2AF4-4CEA-AB7B-1377EFA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ED8-0F8B-4595-A4A9-F2D5FC2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2DA2-3E70-4DE0-B507-790AD3E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011-AB72-4393-8903-78D688C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2B5-63E8-481E-B736-2425BC54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FA9-ACDC-4738-BEB2-6039CA91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8D6-3FD0-495A-A018-D2FCA41F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C7A-64FC-4E9B-B1FE-B2F1A517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E96-BC60-481A-802D-C1D4909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6FD-9922-4B96-B9F7-888194B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2AB-6B97-4FDF-A0DE-2B30310C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6D8-DD7F-49D2-A477-B560D59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408-E2CA-4E3A-AC1E-81E0DC9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FBA-F86C-40D2-854F-F31D69A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5E52-E3A5-4212-9499-EF54AF52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D06-EE1D-4898-9B5E-A9059943CC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ción 14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retorno de la comunidad  en las teoría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a, Raúl y Siles, Marcelo;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y reducción de la pobreza en América Latina y el Caribe: en búsqueda de un nuevo paradigm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EPAL; Santiago de Chile; 200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571680" y="5643720"/>
            <a:ext cx="77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scuela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necesitan Pedro Machuca y sus amigos para salir adela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http://3.bp.blogspot.com/_7M1ECWPoE9A/RuMWj8PK5fI/AAAAAAAAACs/JDKXUtEZwzE/s400/machuca_cia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mbas preguntas nos remiten a la teoría del capital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 que necesitamos para desarrollar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tamos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o y financier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ierra, edificios y maquinarias),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human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pacidad, habilidades  y conocimientos personales) y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diariocasual.com.ar/wp-content/uploads/2007/12/nin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Concepto de capital soci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junto de normas informales y valores morales que, restringiendo la libertad individual, amplían el poder, comunicación y coordinación de acciones promoviendo la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nestidad, reciprocidad y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mplimiento d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mesa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m Smith (1759) definió la solidaridad como “nuestra compañía en el sentimiento  de cualquier pasión”, que surge de “ponerse en el lugar del que sufre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http://www.btinternet.com/~glynhughes/squashed/smith.jpg"/>
          <p:cNvPicPr/>
          <p:nvPr/>
        </p:nvPicPr>
        <p:blipFill>
          <a:blip r:embed="rId1"/>
          <a:stretch/>
        </p:blipFill>
        <p:spPr>
          <a:xfrm>
            <a:off x="0" y="450072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Hume, 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aridad se basa en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de captar y predecir lo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amientos y sentimientos de la gente (o por lo menos de generar  la creencia de que lo hacemos), no sólo porque la coherencia esencial de la constitución humana determina que situaciones y estímulos similares provoquen las mismas reacciones internas, sino además porque nuestros pensamientos y sentimientos están interconectados mediante señales visibles y comprens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14316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uma, la solidaridad es tan inseparable de la interacción social y la percepción personal cómo la vista lo es de la percepción visual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20070820163737-la-p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ómo nace el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mos que el capital, como el  capital social se origina en rasgos comunes denominados puntos de coincidencia. Estos rasgos pueden ser adquiridos o heredados, y creemos que son necesarios para el desarrollo del capital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de un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caracterizarse por intensos sentimientos de conexión, que pueden incluir sentimientos de preocupación, afecto e interés por el otro como los que existen entre los miembros de una familia, en las parejas comprometidas, entre las personas que han sido socios comerciales durante mucho tiempo o los miembros de una minoría oprim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eslatele.com/wp-content/uploads/la-familia-mat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bp3.blogger.com/_504OuFvEm3g/R0ywRetABMI/AAAAAAAAACs/ZiPgX8d9-qA/s400/PeliMachuca.jpg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vincul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iénsese en los eslabones de una cadena que tienen el mismo tamaño y resistencia y están sometidos a la misma tensión) existe en relaciones sociales medianamente estrechas y en la mayoría de los casos se basa en puntos de coincidencia adquiridos, a veces derivados de compromisos a median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www.abc.es/Media/200910/22/union-hace-la-fuerza-11--300x300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lacoctelera.com/myfiles/zubiaurreart/mon_machuca.jpg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aproxim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maginemos un puente que conecta dos masas continentales de diferentes superficies, recursos y poblaciones) existe en las relaciones asimétricas entre personas que tienen pocos puntos de coincidencia, un contacto personal limitado y a menudo diferencias importantes en cuanto a los recursos que po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catalunya-america.org/images/machu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acc.umu.se/~polarn-p/sas/Cartoon/Sas-maffia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cinissimo.com/wp-content/uploads/2008/08/cartel-de-el-padrino-la-obra-maestra-de-francis-ford-coppola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bligoo.com/media/users/3/151939/images/public/16428/20X26_Pituto-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 negativa del capital social: los sentimientos de antipatía.  La antipatía suele ser el resultado de la falta de puntos de coincidencia y crea conflictos relacionados con los resultados económicos, los valores, el poder y la información. Este produce la renuencia a compartir, la falta de disposición a prestar ayuda o a participar en intercambios mutuamente beneficiosos, los actos de exclusión, el fraude, la discriminación y la gu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3.bp.blogspot.com/_6isgjoP68xg/Sg4CnfeB95I/AAAAAAAAASA/QMDnu2PWXn8/s320/p-negociac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incapaces de recaudar impuestos, son igualmente impotentes para garantizar derechos de propiedad, seguridad jurídica, tribunales imparciales o administraciones decentes. Sabemo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que no dan adecuada educación y capacitación, que no invierten en ciencia y tecnología, que no desarrollan infraestructura y que no garantizan una salud de calidad, condenan a sus países a la pobreza. Los que ayer declaraban el “fin de la historia” y el triunfo de la democracia y economías liberales, afirman hoy que Estados débiles o fracasados causan buena parte de los peores males del mundo (terrorismo, pandemias, narcotráfico, etc)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semaforoverde.com/Used%20car%20salesman_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cajonevera.com/wp-content/negociacion_poker1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son y Schmid (1991) descubrieron que sobre los automóviles usados se aplicaba un descuento de hasta 14% a familiares en situación de pobreza,  ninguno a los extraños y se recargaba un 23% a los vecinos desagrad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consecuencias del capital social posi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88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571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s personas se comunican entre sí, las situaciones de conflicto se atenúan debido a que se manifiesta una mayor “consideración por el otro”.  Las personas tienden a actuar en forma menos egoísta y toman más en cuenta el interés de los demá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de los primeros estudios sobre el capital social demostró que el nivel  de educación alcanzado se relacionaba con el entorno de capital social de los estudiantes (Coleman, 19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íses con altos niveles de confianza gozan de importantes ventajas econó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munidades con una fuerte sociedad civil y un alto grado de asociación han prosperado más que las que tienen niveles reducidos de participación cívica (Putnam, Leonardo y Nanetti,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paridad en el ingreso de los hogares parece disminuir cuando aumentan las variables asociadas a mayores niveles de capital social (Robinson y Siles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adquirir tierras de buena calidad depende del capital social de cada uno (Perry y robison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positiva entre el crecimiento económico nacional y la confianza (Snack y Keefer,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ndan los ejemplos de destrucción y pobreza derivadas de la hostilidad o del capital social negativo, que distorsionan e incrementan el costo de las transacciones, y reducen las posibilidades de especialización.  La guerra, la delincuencia, la corrupción, las amenazas, la discriminación, los actos de terrorismo y la destrucción del medio ambiente son actos de hostilidad que aumentan la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éxito de las maquiladoras de Yucatán (México) depende de su capital social (Biles, Robison y Siles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ácticas de conservación de recursos utilizadas en el Altiplano han sido asociadas al capital social  (Swinton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ción de capital social trajo aparejada una mejora en el mantenimiento de un sistema de riego y uso compartido del agua (Uphoff, 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n organizado con éxito asociaciones de ahorro e inversión mediante el uso de capital social (Adams y Fitchett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opción de tecnologías depende de los lazos sociales (Islam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dida que aumentan los contactos de intercambio de una persona, también lo hacen sus ingresos  (Fafchamps y Minten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otorga a las comunidades el poder de seleccionar y administrar sus propios proyectos de desarrollo, las inversiones tienen mejores resultados y crece el capital social de las comunidades (Robison, Siles y Owens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almibarimposible.files.wordpress.com/2008/06/cooperar-es-mejor-que-compet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sdhgt.grinhost.net/Assasinati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poseen capital social cuando son objeto de los sentimientos de solidaridad de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aportan capital social cuando experimentan sentimientos de solidaridad hacia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nes poseen capital social tienen acceso a los recursos de quienes proporcionan ese capital en condiciones más favorables que las que cabría esperar en relaciones más dis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umento del capital fomenta la cooperación, altera los términos y niveles del intercambio, fomenta los intercambios, reduce el individualismo, internaliza los factores externos y produce un aumento de las inversiones en bienes públicos o con un alto costo de exclusión  realizadas por personas y grupos que poseen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pital conduce a la creación y el apoyo de instituciones formales y no formales, así como a la creación de redes entre esas instituciones y el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determinadas personas o grupos a actuar en detrimento de las instituciones y normas sociales que generan gastos públicos en beneficio de los pocos miembros de sus redes ricas en capital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la discriminación y exclusión de las personas o grupos que no formen parte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-633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371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 Social         Estructura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Cognos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01124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 de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y organización social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uaje y conceptos emo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festacione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normas, precedent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s y valo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rocedimientos que respalda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tudes y cre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cción colectiv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favorecen la  acción cole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ad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s sociales de relaciones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ologías que ponen el énfasis en el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és  comú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ígenes en proces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s y relaciones sociales con resultad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sociales des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 y más objetiva;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 observable, y   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ser sustituida por otra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on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 es más subjetiva: cuestion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alo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ción a l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ece este tipo de acción al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sposición a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colectiva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rla más fácil, reducir l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mutu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mente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de transacción y convertir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, al ha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mportamiento cooperativo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te tip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a cuestión de rutin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sea más deseable y que la gente se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nta más comprometida con ell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Es cierto que vale más tener amigos que tener din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flexiones a partir de la teoría del capital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71560" y="713880"/>
            <a:ext cx="48862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tiene el potencial de brindar servicios y, aun así, mantener su identidad (le podemos pedir un favor a un amigo y, aún así, conservar su amistad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3429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17212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se diferencia de los servicios que presta  (distinguimos los sentimientos de solidaridad de un amigo de los favores que éste nos puede hacer)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71440" y="1143000"/>
            <a:ext cx="6422760" cy="32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duradero (podemos tener amigos por  largos períodos de tiempo y, a veces, durante toda la vida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22160" y="642960"/>
            <a:ext cx="5135760" cy="585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considera que los servicios que puede prestar el capital social son valiosos (valoramos las muestras de aprobación e interés que intercambian los amigos, y estamos dispuestos a realizar los mayores  esfuerzos para conservarl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714400" y="2071800"/>
            <a:ext cx="5057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parcialmente  fungible (podemos pedir a un amigo que ayude a otro amigo nuestro a quien no cono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.- La crítica filos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mos elegir entre libertad o igualdad; entre riesgo o seguridad; responsabilidad o dependencia; entre capitalismo o socialismo; libre empresa o Estado niñera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burocrac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último, el capital social a veces sustituye o complementa otras formas de capital (nuestros amigos pueden ayudarnos a mejorar los servicios que obtenemos  de otras formas de capit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3800520"/>
            <a:ext cx="2400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1928520"/>
            <a:ext cx="49579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flexible (consideramos  que los servicios de nuestros amigos son valiosos en distintas situaci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86280" y="214200"/>
            <a:ext cx="3357720" cy="6643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amigo fiel es poderoso protector; el que le encuentra halla un teso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abiduría 6,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aíses más ricos no son necesariamente los más fe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ogio de la amistad en Aristóteles </a:t>
            </a:r>
            <a:br>
              <a:rPr sz="44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Etica para Nicóma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amigos nadie querría vivir, aun cuando poseyera todos los demás bienes; hasta los ricos y los que tienen cargos y poder parecen tener necesidad sobre todo de amigos; porque ¿de qué sirve esa clase de prosperidad si se la priva de la facultad de hacer bien, que se ejerce preferentemente y del modo más laudable respecto de los amigos? ¿O cómo podría tal prosperidad guardarse y preservarse sin amigos? Porque cuanto mayor es, tanto más peligra.  En la pobreza y en los demás infortunios se considera a los amigos como el único refugio. Los jóvenes los necesitan para evitar el error; los viejos para su asistencia y como una ayuda que supla las menguas que la debilidad pone a su actividad; los que están en la flor de la vida, para las acciones nobles: “Dos marchando juntos”, así, en efecto, están más capacitados para pensar y actu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http://upload.wikimedia.org/wikipedia/commons/5/59/GDP_nominal_per_capita_world_map_IMF_200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3.bp.blogspot.com/_TTUKmXV2Aqk/SsLHw0ev-LI/AAAAAAAADA8/nzHAoiPBA08/s400/World-Happiness-Map.mediu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rítica al Esta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- Von Ha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hayek-print-large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Diagram 2"/>
          <p:cNvGrpSpPr/>
          <p:nvPr/>
        </p:nvGrpSpPr>
        <p:grpSpPr>
          <a:xfrm>
            <a:off x="585720" y="505080"/>
            <a:ext cx="7970040" cy="4759560"/>
            <a:chOff x="585720" y="505080"/>
            <a:chExt cx="7970040" cy="4759560"/>
          </a:xfrm>
        </p:grpSpPr>
        <p:sp>
          <p:nvSpPr>
            <p:cNvPr id="100" name="_s1028"/>
            <p:cNvSpPr/>
            <p:nvPr/>
          </p:nvSpPr>
          <p:spPr>
            <a:xfrm>
              <a:off x="3393360" y="1349280"/>
              <a:ext cx="2354760" cy="241704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3578040" y="50508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167720" y="2728440"/>
              <a:ext cx="2354400" cy="24170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568560" y="465984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2617560" y="2726280"/>
              <a:ext cx="2354760" cy="24174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585720" y="4661280"/>
              <a:ext cx="198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0" y="2708280"/>
            <a:ext cx="914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986240" y="21985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028000" y="27748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3419640" y="0"/>
            <a:ext cx="4105080" cy="685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267640" y="61596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rat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4408560" y="6093000"/>
            <a:ext cx="14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uc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Por qué el bostezo se contag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artigoo.com/imagenes/tomasmoro/bostez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53:43Z</dcterms:created>
  <dc:creator>Sergio Micco</dc:creator>
  <dc:description/>
  <dc:language>en-US</dc:language>
  <cp:lastModifiedBy>..</cp:lastModifiedBy>
  <dcterms:modified xsi:type="dcterms:W3CDTF">2009-11-23T19:27:02Z</dcterms:modified>
  <cp:revision>29</cp:revision>
  <dc:subject/>
  <dc:title>Presentación de PowerPoint</dc:title>
</cp:coreProperties>
</file>