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E78B-60E9-45E6-B01C-AA3CF74B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B803-8A4A-4724-9CEF-027FA63A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4835-3B69-494F-9424-2B4A6F15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A347-DCDD-4895-A42F-312C671C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8024-981C-43E1-AE25-F2A29DB39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F4B5-A05F-4AEB-B869-9D29D57A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A3B1-EDDD-41ED-99E1-AF0DD7D4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B343-E687-4321-A7A8-8EAFE765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897C-7E73-48F5-84E9-4CC65C1A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5226-F2B3-48AD-871F-7E3C668E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2872-307C-4FF6-BBFA-858ED4A7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DE10-9FAB-4201-BB75-2293B4B4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12DA-FD5B-4E93-885F-9675F35F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ECC0-CB43-4533-9862-3EAFA719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974E-324A-4306-ACE8-3E75073F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26C9-E8F7-47E5-9FAB-2554C778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1E04-4AC8-44F8-B833-F974E106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BE76-9728-43D8-B9B1-96977EAC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F3B4-1958-4453-939A-AC731691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A872-794B-4306-A77A-2BE477A7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BD5D-17CA-499C-A5E3-32322292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1795-70EB-4B5E-A154-32B8D4EA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2AE0-5FDD-4E13-995A-1C0D41EF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DB1E-3846-428F-BE41-95B871C6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F08A-98D8-4F04-AA66-649E3DE96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665E-1AEC-4C54-B15E-6CC877466CD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Lección 14:</a:t>
            </a:r>
            <a:br>
              <a:rPr sz="1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l retorno de la comunidad  en las teorías del desarro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429080"/>
            <a:ext cx="640080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ia, Raúl y Siles, Marcelo;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tal social y reducción de la pobreza en América Latina y el Caribe: en búsqueda de un nuevo paradigm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CEPAL; Santiago de Chile; 200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3 CuadroTexto"/>
          <p:cNvSpPr/>
          <p:nvPr/>
        </p:nvSpPr>
        <p:spPr>
          <a:xfrm>
            <a:off x="571680" y="5643720"/>
            <a:ext cx="770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scuela de Dere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rograma del Cur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República y comunidad en cri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rimavera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¿Qué necesitan Pedro Machuca y sus amigos para salir adelan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" descr="http://3.bp.blogspot.com/_7M1ECWPoE9A/RuMWj8PK5fI/AAAAAAAAACs/JDKXUtEZwzE/s400/machuca_cia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mbas preguntas nos remiten a la teoría del capital so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 que necesitamos para desarrollarn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171468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itamos el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tal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ísico y financiero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ierra, edificios y maquinarias), el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tal human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apacidad, habilidades  y conocimientos personales) y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pital natu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http://diariocasual.com.ar/wp-content/uploads/2007/12/nino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Concepto de capital social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junto de normas informales y valores morales que, restringiendo la libertad individual, amplían el poder, comunicación y coordinación de acciones promoviendo la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onestidad, reciprocidad y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umplimiento de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mesas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nticipado por los clás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m Smith (1759) definió la solidaridad como “nuestra compañía en el sentimiento  de cualquier pasión”, que surge de “ponerse en el lugar del que sufre”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http://www.btinternet.com/~glynhughes/squashed/smith.jpg"/>
          <p:cNvPicPr/>
          <p:nvPr/>
        </p:nvPicPr>
        <p:blipFill>
          <a:blip r:embed="rId1"/>
          <a:stretch/>
        </p:blipFill>
        <p:spPr>
          <a:xfrm>
            <a:off x="0" y="4500720"/>
            <a:ext cx="31431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71560" y="609120"/>
            <a:ext cx="488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nticipado por los clás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Hume, la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daridad se basa en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dad de captar y predecir los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samientos y sentimientos de la gente (o por lo menos de generar  la creencia de que lo hacemos), no sólo porque la coherencia esencial de la constitución humana determina que situaciones y estímulos similares provoquen las mismas reacciones internas, sino además porque nuestros pensamientos y sentimientos están interconectados mediante señales visibles y comprensib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http://www.btinternet.com/~glynhughes/squashed/hume.jpg"/>
          <p:cNvPicPr/>
          <p:nvPr/>
        </p:nvPicPr>
        <p:blipFill>
          <a:blip r:embed="rId1"/>
          <a:stretch/>
        </p:blipFill>
        <p:spPr>
          <a:xfrm>
            <a:off x="0" y="214200"/>
            <a:ext cx="33336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571560" y="609120"/>
            <a:ext cx="488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nticipado por los clás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314316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suma, la solidaridad es tan inseparable de la interacción social y la percepción personal cómo la vista lo es de la percepción visual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http://www.btinternet.com/~glynhughes/squashed/hume.jpg"/>
          <p:cNvPicPr/>
          <p:nvPr/>
        </p:nvPicPr>
        <p:blipFill>
          <a:blip r:embed="rId1"/>
          <a:stretch/>
        </p:blipFill>
        <p:spPr>
          <a:xfrm>
            <a:off x="0" y="214200"/>
            <a:ext cx="33336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20070820163737-la-pa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¿Cómo nace el capital soci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amos que el capital, como el  capital social se origina en rasgos comunes denominados puntos de coincidencia. Estos rasgos pueden ser adquiridos o heredados, y creemos que son necesarios para el desarrollo del capital soci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La construcción del Est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Francis Fukuyam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" descr="memento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¿Qué tipos hay de capital soci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</a:t>
            </a:r>
            <a:r>
              <a:rPr b="0" lang="es-C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tal social de unión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ede caracterizarse por intensos sentimientos de conexión, que pueden incluir sentimientos de preocupación, afecto e interés por el otro como los que existen entre los miembros de una familia, en las parejas comprometidas, entre las personas que han sido socios comerciales durante mucho tiempo o los miembros de una minoría oprimi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ttp://eslatele.com/wp-content/uploads/la-familia-mata-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http://bp3.blogger.com/_504OuFvEm3g/R0ywRetABMI/AAAAAAAAACs/ZiPgX8d9-qA/s400/PeliMachuca.jpg"/>
          <p:cNvPicPr/>
          <p:nvPr/>
        </p:nvPicPr>
        <p:blipFill>
          <a:blip r:embed="rId2"/>
          <a:stretch/>
        </p:blipFill>
        <p:spPr>
          <a:xfrm>
            <a:off x="0" y="0"/>
            <a:ext cx="380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¿Qué tipos hay de capital soci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pital social de vinculación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iénsese en los eslabones de una cadena que tienen el mismo tamaño y resistencia y están sometidos a la misma tensión) existe en relaciones sociales medianamente estrechas y en la mayoría de los casos se basa en puntos de coincidencia adquiridos, a veces derivados de compromisos a mediano plaz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http://www.abc.es/Media/200910/22/union-hace-la-fuerza-11--300x300.jpg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http://www.lacoctelera.com/myfiles/zubiaurreart/mon_machuca.jpg"/>
          <p:cNvPicPr/>
          <p:nvPr/>
        </p:nvPicPr>
        <p:blipFill>
          <a:blip r:embed="rId2"/>
          <a:stretch/>
        </p:blipFill>
        <p:spPr>
          <a:xfrm>
            <a:off x="0" y="0"/>
            <a:ext cx="442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¿Qué tipos hay de capital soci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pital social de aproximación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maginemos un puente que conecta dos masas continentales de diferentes superficies, recursos y poblaciones) existe en las relaciones asimétricas entre personas que tienen pocos puntos de coincidencia, un contacto personal limitado y a menudo diferencias importantes en cuanto a los recursos que pos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http://www.catalunya-america.org/images/machuc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http://www.acc.umu.se/~polarn-p/sas/Cartoon/Sas-maffia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http://www.cinissimo.com/wp-content/uploads/2008/08/cartel-de-el-padrino-la-obra-maestra-de-francis-ford-coppola.jpg"/>
          <p:cNvPicPr/>
          <p:nvPr/>
        </p:nvPicPr>
        <p:blipFill>
          <a:blip r:embed="rId2"/>
          <a:stretch/>
        </p:blipFill>
        <p:spPr>
          <a:xfrm>
            <a:off x="4143240" y="0"/>
            <a:ext cx="500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http://bligoo.com/media/users/3/151939/images/public/16428/20X26_Pituto-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¿Qué tipos hay de capital soci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orma negativa del capital social: los sentimientos de antipatía.  La antipatía suele ser el resultado de la falta de puntos de coincidencia y crea conflictos relacionados con los resultados económicos, los valores, el poder y la información. Este produce la renuencia a compartir, la falta de disposición a prestar ayuda o a participar en intercambios mutuamente beneficiosos, los actos de exclusión, el fraude, la discriminación y la guer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http://3.bp.blogspot.com/_6isgjoP68xg/Sg4CnfeB95I/AAAAAAAAASA/QMDnu2PWXn8/s320/p-negociaci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785960"/>
            <a:ext cx="77724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ados incapaces de recaudar impuestos, son igualmente impotentes para garantizar derechos de propiedad, seguridad jurídica, tribunales imparciales o administraciones decentes. Sabemo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que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ados que no dan adecuada educación y capacitación, que no invierten en ciencia y tecnología, que no desarrollan infraestructura y que no garantizan una salud de calidad, condenan a sus países a la pobreza. Los que ayer declaraban el “fin de la historia” y el triunfo de la democracia y economías liberales, afirman hoy que Estados débiles o fracasados causan buena parte de los peores males del mundo (terrorismo, pandemias, narcotráfico, etc).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www.semaforoverde.com/Used%20car%20salesman_1.jpg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http://www.cajonevera.com/wp-content/negociacion_poker1.jpg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íntesis estudios empír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ison y Schmid (1991) descubrieron que sobre los automóviles usados se aplicaba un descuento de hasta 14% a familiares en situación de pobreza,  ninguno a los extraños y se recargaba un 23% a los vecinos desagrad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s consecuencias del capital social posi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85880" y="2428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25718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las personas se comunican entre sí, las situaciones de conflicto se atenúan debido a que se manifiesta una mayor “consideración por el otro”.  Las personas tienden a actuar en forma menos egoísta y toman más en cuenta el interés de los demás particip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íntesis de estudios empír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o de los primeros estudios sobre el capital social demostró que el nivel  de educación alcanzado se relacionaba con el entorno de capital social de los estudiantes (Coleman, 199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aíses con altos niveles de confianza gozan de importantes ventajas económ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comunidades con una fuerte sociedad civil y un alto grado de asociación han prosperado más que las que tienen niveles reducidos de participación cívica (Putnam, Leonardo y Nanetti, 199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íntesis de estudios empír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isparidad en el ingreso de los hogares parece disminuir cuando aumentan las variables asociadas a mayores niveles de capital social (Robinson y Siles, 19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osibilidad de adquirir tierras de buena calidad depende del capital social de cada uno (Perry y robison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 una relación positiva entre el crecimiento económico nacional y la confianza (Snack y Keefer, 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íntesis de estudios empír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undan los ejemplos de destrucción y pobreza derivadas de la hostilidad o del capital social negativo, que distorsionan e incrementan el costo de las transacciones, y reducen las posibilidades de especialización.  La guerra, la delincuencia, la corrupción, las amenazas, la discriminación, los actos de terrorismo y la destrucción del medio ambiente son actos de hostilidad que aumentan la pobre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éxito de las maquiladoras de Yucatán (México) depende de su capital social (Biles, Robison y Siles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íntesis de estudios empír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rácticas de conservación de recursos utilizadas en el Altiplano han sido asociadas al capital social  (Swinton, 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ormación de capital social trajo aparejada una mejora en el mantenimiento de un sistema de riego y uso compartido del agua (Uphoff, 200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han organizado con éxito asociaciones de ahorro e inversión mediante el uso de capital social (Adams y Fitchett, 199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adopción de tecnologías depende de los lazos sociales (Islam, 19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íntesis de estudios empír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dida que aumentan los contactos de intercambio de una persona, también lo hacen sus ingresos  (Fafchamps y Minten, 199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se otorga a las comunidades el poder de seleccionar y administrar sus propios proyectos de desarrollo, las inversiones tienen mejores resultados y crece el capital social de las comunidades (Robison, Siles y Owens, 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ttp://almibarimposible.files.wordpress.com/2008/06/cooperar-es-mejor-que-competi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http://wsdhgt.grinhost.net/Assasination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Francis Fukuyama cree que fracasamos en construir un Estado fue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Fukuyam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ínt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personas o los grupos poseen capital social cuando son objeto de los sentimientos de solidaridad de otras personas o grup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personas o los grupos aportan capital social cuando experimentan sentimientos de solidaridad hacia otras personas o grup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Quienes poseen capital social tienen acceso a los recursos de quienes proporcionan ese capital en condiciones más favorables que las que cabría esperar en relaciones más distin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ínt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aumento del capital fomenta la cooperación, altera los términos y niveles del intercambio, fomenta los intercambios, reduce el individualismo, internaliza los factores externos y produce un aumento de las inversiones en bienes públicos o con un alto costo de exclusión  realizadas por personas y grupos que poseen capital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capital conduce a la creación y el apoyo de instituciones formales y no formales, así como a la creación de redes entre esas instituciones y el capital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ínt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apital social existente dentro de un grupo puede conducir a determinadas personas o grupos a actuar en detrimento de las instituciones y normas sociales que generan gastos públicos en beneficio de los pocos miembros de sus redes ricas en capital so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apital social existente dentro de un grupo puede conducir a la discriminación y exclusión de las personas o grupos que no formen parte de é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0" y="-633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0" y="3715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tal  Social         Estructural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Cognosc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1011240"/>
            <a:ext cx="9144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va de: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uctura y organización sociales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uaje y conceptos emoc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festaciones: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ones y normas, precedentes 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s y valor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procedimientos que respaldan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tudes y creenci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acción colectiva.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favorecen la  acción colecti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egados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es sociales de relaciones.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ologías que ponen el énfasis en el 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és  comú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ígenes en procesos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ados y relaciones sociales con resultados 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ciones sociales dese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acterísticas: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able y más objetiva;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es observable, y    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ede ser sustituida por otras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ciones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lo tanto es más subjetiva: cuestiones 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valor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ibución a la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vorece este tipo de acción al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isposición a 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ión colectiva 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arla más fácil, reducir los 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ión mutu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tuamente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 de transacción y convertir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osa, al hac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osa: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omportamiento cooperativo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este tipo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una cuestión de rutina.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ión sea más deseable y que la gente se 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nta más comprometida con ella.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¿Es cierto que vale más tener amigos que tener diner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flexiones a partir de la teoría del capital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71560" y="713880"/>
            <a:ext cx="48862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pital social tiene el potencial de brindar servicios y, aun así, mantener su identidad (le podemos pedir un favor a un amigo y, aún así, conservar su amistad)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7" descr="http://www.colegiovirgenmilagrosasevilla.com/ArchivosColegiosHCSVPSevilla_VirgenMilagrosa/Imagenes/marite/cooperar.jpg"/>
          <p:cNvPicPr/>
          <p:nvPr/>
        </p:nvPicPr>
        <p:blipFill>
          <a:blip r:embed="rId1"/>
          <a:stretch/>
        </p:blipFill>
        <p:spPr>
          <a:xfrm>
            <a:off x="0" y="0"/>
            <a:ext cx="342900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5172120" cy="394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pital social se diferencia de los servicios que presta  (distinguimos los sentimientos de solidaridad de un amigo de los favores que éste nos puede hacer)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2" descr="http://www.colegiovirgenmilagrosasevilla.com/ArchivosColegiosHCSVPSevilla_VirgenMilagrosa/Imagenes/marite/cooperar.jpg"/>
          <p:cNvPicPr/>
          <p:nvPr/>
        </p:nvPicPr>
        <p:blipFill>
          <a:blip r:embed="rId1"/>
          <a:stretch/>
        </p:blipFill>
        <p:spPr>
          <a:xfrm>
            <a:off x="5929200" y="0"/>
            <a:ext cx="321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071440" y="1143000"/>
            <a:ext cx="6422760" cy="32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pital social es duradero (podemos tener amigos por  largos períodos de tiempo y, a veces, durante toda la vida)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2" descr="http://www.colegiovirgenmilagrosasevilla.com/ArchivosColegiosHCSVPSevilla_VirgenMilagrosa/Imagenes/marite/cooperar.jpg"/>
          <p:cNvPicPr/>
          <p:nvPr/>
        </p:nvPicPr>
        <p:blipFill>
          <a:blip r:embed="rId1"/>
          <a:stretch/>
        </p:blipFill>
        <p:spPr>
          <a:xfrm>
            <a:off x="0" y="0"/>
            <a:ext cx="240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722160" y="642960"/>
            <a:ext cx="5135760" cy="585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ayoría considera que los servicios que puede prestar el capital social son valiosos (valoramos las muestras de aprobación e interés que intercambian los amigos, y estamos dispuestos a realizar los mayores  esfuerzos para conservarl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2" descr="http://www.colegiovirgenmilagrosasevilla.com/ArchivosColegiosHCSVPSevilla_VirgenMilagrosa/Imagenes/marite/cooperar.jpg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2714400" y="2071800"/>
            <a:ext cx="5057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pital social es parcialmente  fungible (podemos pedir a un amigo que ayude a otro amigo nuestro a quien no conoce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2" descr="http://www.colegiovirgenmilagrosasevilla.com/ArchivosColegiosHCSVPSevilla_VirgenMilagrosa/Imagenes/marite/cooperar.jpg"/>
          <p:cNvPicPr/>
          <p:nvPr/>
        </p:nvPicPr>
        <p:blipFill>
          <a:blip r:embed="rId1"/>
          <a:stretch/>
        </p:blipFill>
        <p:spPr>
          <a:xfrm>
            <a:off x="0" y="0"/>
            <a:ext cx="240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I.- La crítica filosóf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ebemos elegir entre libertad o igualdad; entre riesgo o seguridad; responsabilidad o dependencia; entre capitalismo o socialismo; libre empresa o Estado niñera.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burocrac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último, el capital social a veces sustituye o complementa otras formas de capital (nuestros amigos pueden ayudarnos a mejorar los servicios que obtenemos  de otras formas de capit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4" descr="http://www.colegiovirgenmilagrosasevilla.com/ArchivosColegiosHCSVPSevilla_VirgenMilagrosa/Imagenes/marite/cooperar.jpg"/>
          <p:cNvPicPr/>
          <p:nvPr/>
        </p:nvPicPr>
        <p:blipFill>
          <a:blip r:embed="rId1"/>
          <a:stretch/>
        </p:blipFill>
        <p:spPr>
          <a:xfrm>
            <a:off x="0" y="3800520"/>
            <a:ext cx="24004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685800" y="1928520"/>
            <a:ext cx="495792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pital social es flexible (consideramos  que los servicios de nuestros amigos son valiosos en distintas situacion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7" descr="http://www.colegiovirgenmilagrosasevilla.com/ArchivosColegiosHCSVPSevilla_VirgenMilagrosa/Imagenes/marite/cooperar.jpg"/>
          <p:cNvPicPr/>
          <p:nvPr/>
        </p:nvPicPr>
        <p:blipFill>
          <a:blip r:embed="rId1"/>
          <a:stretch/>
        </p:blipFill>
        <p:spPr>
          <a:xfrm>
            <a:off x="5786280" y="214200"/>
            <a:ext cx="3357720" cy="66438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Un amigo fiel es poderoso protector; el que le encuentra halla un teso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4642920"/>
            <a:ext cx="64008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abiduría 6,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s países más ricos no son necesariamente los más fel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logio de la amistad en Aristóteles </a:t>
            </a:r>
            <a:br>
              <a:rPr sz="4400"/>
            </a:b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Etica para Nicómac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14200" y="1981080"/>
            <a:ext cx="871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in amigos nadie querría vivir, aun cuando poseyera todos los demás bienes; hasta los ricos y los que tienen cargos y poder parecen tener necesidad sobre todo de amigos; porque ¿de qué sirve esa clase de prosperidad si se la priva de la facultad de hacer bien, que se ejerce preferentemente y del modo más laudable respecto de los amigos? ¿O cómo podría tal prosperidad guardarse y preservarse sin amigos? Porque cuanto mayor es, tanto más peligra.  En la pobreza y en los demás infortunios se considera a los amigos como el único refugio. Los jóvenes los necesitan para evitar el error; los viejos para su asistencia y como una ayuda que supla las menguas que la debilidad pone a su actividad; los que están en la flor de la vida, para las acciones nobles: “Dos marchando juntos”, así, en efecto, están más capacitados para pensar y actuar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4" descr="http://upload.wikimedia.org/wikipedia/commons/5/59/GDP_nominal_per_capita_world_map_IMF_2008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http://3.bp.blogspot.com/_TTUKmXV2Aqk/SsLHw0ev-LI/AAAAAAAADA8/nzHAoiPBA08/s400/World-Happiness-Map.mediumthum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 crítica al Estad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1.- Von Hay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hayek-print-large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Diagram 2"/>
          <p:cNvGrpSpPr/>
          <p:nvPr/>
        </p:nvGrpSpPr>
        <p:grpSpPr>
          <a:xfrm>
            <a:off x="585720" y="505080"/>
            <a:ext cx="7970040" cy="4759560"/>
            <a:chOff x="585720" y="505080"/>
            <a:chExt cx="7970040" cy="4759560"/>
          </a:xfrm>
        </p:grpSpPr>
        <p:sp>
          <p:nvSpPr>
            <p:cNvPr id="100" name="_s1028"/>
            <p:cNvSpPr/>
            <p:nvPr/>
          </p:nvSpPr>
          <p:spPr>
            <a:xfrm>
              <a:off x="3393360" y="1349280"/>
              <a:ext cx="2354760" cy="2417040"/>
            </a:xfrm>
            <a:prstGeom prst="ellipse">
              <a:avLst/>
            </a:prstGeom>
            <a:blipFill rotWithShape="0">
              <a:blip r:embed="rId1">
                <a:alphaModFix amt="50000"/>
              </a:blip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_s1029"/>
            <p:cNvSpPr/>
            <p:nvPr/>
          </p:nvSpPr>
          <p:spPr>
            <a:xfrm>
              <a:off x="3578040" y="505080"/>
              <a:ext cx="19872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4000" spc="-1" strike="noStrike">
                  <a:solidFill>
                    <a:srgbClr val="000000"/>
                  </a:solidFill>
                  <a:latin typeface="Arial"/>
                </a:rPr>
                <a:t>Estad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_s1030"/>
            <p:cNvSpPr/>
            <p:nvPr/>
          </p:nvSpPr>
          <p:spPr>
            <a:xfrm>
              <a:off x="4167720" y="2728440"/>
              <a:ext cx="2354400" cy="2417040"/>
            </a:xfrm>
            <a:prstGeom prst="ellipse">
              <a:avLst/>
            </a:prstGeom>
            <a:blipFill rotWithShape="0">
              <a:blip r:embed="rId2">
                <a:alphaModFix amt="50000"/>
              </a:blip>
              <a:srcRect/>
              <a:stretch/>
            </a:blip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_s1031"/>
            <p:cNvSpPr/>
            <p:nvPr/>
          </p:nvSpPr>
          <p:spPr>
            <a:xfrm>
              <a:off x="6568560" y="4659840"/>
              <a:ext cx="198720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4000" spc="-1" strike="noStrike">
                  <a:solidFill>
                    <a:srgbClr val="000000"/>
                  </a:solidFill>
                  <a:latin typeface="Arial"/>
                </a:rPr>
                <a:t>Mercad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_s1032"/>
            <p:cNvSpPr/>
            <p:nvPr/>
          </p:nvSpPr>
          <p:spPr>
            <a:xfrm>
              <a:off x="2617560" y="2726280"/>
              <a:ext cx="2354760" cy="2417400"/>
            </a:xfrm>
            <a:prstGeom prst="ellipse">
              <a:avLst/>
            </a:prstGeom>
            <a:blipFill rotWithShape="0">
              <a:blip r:embed="rId3">
                <a:alphaModFix amt="50000"/>
              </a:blip>
              <a:srcRect/>
              <a:stretch/>
            </a:blip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_s1033"/>
            <p:cNvSpPr/>
            <p:nvPr/>
          </p:nvSpPr>
          <p:spPr>
            <a:xfrm>
              <a:off x="585720" y="4661280"/>
              <a:ext cx="198756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4000" spc="-1" strike="noStrike">
                  <a:solidFill>
                    <a:srgbClr val="000000"/>
                  </a:solidFill>
                  <a:latin typeface="Arial"/>
                </a:rPr>
                <a:t>Comunida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Line 17"/>
          <p:cNvSpPr/>
          <p:nvPr/>
        </p:nvSpPr>
        <p:spPr>
          <a:xfrm>
            <a:off x="0" y="35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8"/>
          <p:cNvSpPr/>
          <p:nvPr/>
        </p:nvSpPr>
        <p:spPr>
          <a:xfrm>
            <a:off x="0" y="306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9"/>
          <p:cNvSpPr/>
          <p:nvPr/>
        </p:nvSpPr>
        <p:spPr>
          <a:xfrm flipV="1">
            <a:off x="0" y="2708280"/>
            <a:ext cx="9144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7986240" y="219852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8028000" y="27748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ri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2"/>
          <p:cNvSpPr/>
          <p:nvPr/>
        </p:nvSpPr>
        <p:spPr>
          <a:xfrm flipV="1">
            <a:off x="3419640" y="0"/>
            <a:ext cx="4105080" cy="685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2267640" y="615960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Gratu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4408560" y="6093000"/>
            <a:ext cx="14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Lucr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¿Por qué el bostezo se contag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artigoo.com/imagenes/tomasmoro/bostez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5:53:43Z</dcterms:created>
  <dc:creator>Sergio Micco</dc:creator>
  <dc:description/>
  <dc:language>en-US</dc:language>
  <cp:lastModifiedBy>..</cp:lastModifiedBy>
  <dcterms:modified xsi:type="dcterms:W3CDTF">2009-11-23T19:27:02Z</dcterms:modified>
  <cp:revision>29</cp:revision>
  <dc:subject/>
  <dc:title>Presentación de PowerPoint</dc:title>
</cp:coreProperties>
</file>