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A1E-8E5D-41E0-B219-62AF1837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A5F-80F3-432B-A39A-54998CD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138-35AE-485D-9111-42EFF638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A0F-BBA3-4313-A415-86D9544F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10B-88DD-42AB-8E26-6C2D4AA8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4A0-B571-4360-B518-43CA1C8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10A-F13D-42B6-964E-3BCFCCB1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95E-1937-4DD0-BE26-A575F44B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37A-10FE-400D-AC56-AF948F4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8C8-52B9-4DA3-B339-A84D1B6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347-0F1C-419B-AA7F-560EE5E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444-264F-41FE-B755-AA78480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F57-5C3B-4C15-8B59-193E9EDB3A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ancisco_I_Mader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cción 13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retorno del Esta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ancis Fukuy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571680" y="4786200"/>
            <a:ext cx="770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pública y comunidad en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a favor de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Pru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Acep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Asesorar no es decid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El Estado tiene el monopolio de la fuerza física legít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.- ¿Quién decide quién es el experto y cómo se le reempla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razonamientos prácticos en contra del tutel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.- La política supone transigir acerca de fines e intereses diversos y legítimos. Esto no resuelve en forma objetiva, clara, neutra, exp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- ¿El experto es bueno éticamente per 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.- ¿No somos capaces de gobernarnos en nuestras v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80438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fundar una sociedad igualmente libre se requiere de un estado efic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omacles.files.wordpress.com/2009/05/la-libertad-guiando-al-puebl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nternacional2_10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/>
          <p:cNvSpPr/>
          <p:nvPr/>
        </p:nvSpPr>
        <p:spPr>
          <a:xfrm>
            <a:off x="6443640" y="189000"/>
            <a:ext cx="2700360" cy="2519280"/>
          </a:xfrm>
          <a:prstGeom prst="cloudCallout">
            <a:avLst>
              <a:gd name="adj1" fmla="val -74634"/>
              <a:gd name="adj2" fmla="val -1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un país tan rico como el Brasil tiene 40 millones de pob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196338819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5508720" y="0"/>
            <a:ext cx="3635280" cy="4797360"/>
          </a:xfrm>
          <a:prstGeom prst="cloudCallout">
            <a:avLst>
              <a:gd name="adj1" fmla="val -56504"/>
              <a:gd name="adj2" fmla="val -6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n tanto petróleo y tan bellas e inteligentes mujeres, qué pasa con la patria de Bolív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225px-Made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inquietante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Alejandra Latapi, ¿por qué a Francisco Madero le  tomó casi un siglo lograr evitar la reelección inmisericorde del partido gobern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rancisco I. Mad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56360" y="1916280"/>
            <a:ext cx="3276720" cy="3068640"/>
          </a:xfrm>
          <a:prstGeom prst="wedgeEllipseCallout">
            <a:avLst>
              <a:gd name="adj1" fmla="val -82074"/>
              <a:gd name="adj2" fmla="val -3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o soy Francisco Madero quien en 1910 pedí elecciones limpias en México. Recién las tuvimos el año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_Brecha_Fukuyama_138x206"/>
          <p:cNvPicPr/>
          <p:nvPr/>
        </p:nvPicPr>
        <p:blipFill>
          <a:blip r:embed="rId1"/>
          <a:stretch/>
        </p:blipFill>
        <p:spPr>
          <a:xfrm>
            <a:off x="0" y="46080"/>
            <a:ext cx="154764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5092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1522440"/>
                <a:gridCol w="1523880"/>
                <a:gridCol w="1522440"/>
                <a:gridCol w="1523880"/>
                <a:gridCol w="1525680"/>
                <a:gridCol w="15256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á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a/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Por qué Estados Unidos nos sacó tanta ventaja a partir de 18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Not_20070308_321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planteamiento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anto a Europa, el Estado moderno que dispone de grandes ejércitos, poderes tributarios y una burocracia centralizada capaz de ejercer una autoridad soberana en un amplio territorio en su capacidad para proporcionar orden, seguridad, leyes y derechos de propiedad fue lo que hizo posible el crecimiento del mundo económico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rancis_fukuyama-the_end_of_history_and_the_last_man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a-construccion-del-estado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13000"/>
          <a:ext cx="8964720" cy="541800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39920"/>
                <a:gridCol w="22417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 de muertes por 100.000 habi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5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éric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tes extrarreg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a occid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1995-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263"/>
          <p:cNvSpPr/>
          <p:nvPr/>
        </p:nvSpPr>
        <p:spPr>
          <a:xfrm>
            <a:off x="324000" y="67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OMICIDIOS DOLOSOS EN AMÉRICA LATINA Y OTRAS PARTES DEL MUNDO, c. 2000                 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la 29 Informe PNUD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7958160"/>
        </p:xfrm>
        <a:graphic>
          <a:graphicData uri="http://schemas.openxmlformats.org/drawingml/2006/table">
            <a:tbl>
              <a:tblPr/>
              <a:tblGrid>
                <a:gridCol w="1481040"/>
                <a:gridCol w="1174680"/>
                <a:gridCol w="1484640"/>
                <a:gridCol w="1117440"/>
                <a:gridCol w="1660680"/>
                <a:gridCol w="1114200"/>
                <a:gridCol w="1111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guardias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.por gu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privado en 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ó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e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am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 del M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rica Economía 18 junio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distinción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s actividades estatales, que consiste en las diferentes funciones y objetivos que asumen los gobiernos, y l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uerz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poder del Estado o la capacidad de los Estados para programar y elaborar políticas y aplicar las leyes con rigor y transpa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lcance y poder del Es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8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90880" y="1844640"/>
            <a:ext cx="393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284720" y="184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763640" y="3141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411280" y="227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932360" y="234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340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932360" y="3789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drant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619280" y="508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262160" y="2421000"/>
            <a:ext cx="393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411280" y="2421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0920" y="429264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erra Le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r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80000" y="2133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867280" y="2637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76720" y="3429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urqu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572000" y="3860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692360" y="501336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es para la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Naturaleza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Te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Razón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Razón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40872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 4. Estatalidad y 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69236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763640" y="177336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763640" y="4869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62160" y="2421000"/>
            <a:ext cx="39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rza del Es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124000" y="24210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95640" y="41497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usi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788000" y="1989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86728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RSS 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211640" y="2781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Japón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19640" y="328464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 Zelanda 19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63640" y="5084640"/>
            <a:ext cx="4753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cance de las instituciones esta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4858920" y="2852640"/>
            <a:ext cx="1368360" cy="129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355640" y="2205000"/>
            <a:ext cx="792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 flipV="1">
            <a:off x="2842920" y="2707920"/>
            <a:ext cx="129708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autocrítica del neolibe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ton Friedman apuntaba el año 2002 que, diez años antes, él habría aconsejado tres cosas a los países que vivían una transición del socialismo: “Privatizar, privatizar y privatizar”. “Pero me equivoqué –añadió-. Seguramente el Estado de derecho sea más importante que la priv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autocrítica vale pues el Estado – alcance y sobre todo fuerza - sí impo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institucional latinoamericana en el siglo X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52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 Ind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5100_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brecha  cultural política latinoameric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5" descr="vargas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he_Fidel_snak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76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618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uestros dictadores militar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250px-Pinochet_y_Videla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inestabilidad política en el siglo 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68360" y="1628640"/>
          <a:ext cx="820728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0" y="5517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seworski, Adam y Curvale, Carolina: ¿Explica la política la brecha económica entre Estados Unidos y América Latin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kuyama, Francis (compilador)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brecha entre América Latina y 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aradoja Robin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existencia de una correlación positiva tan significativa entre la recaudación fiscal y el nivel de desarrollo indica que a medida que crecen económicamente más altos son los tributos para gasto social y desarroll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aturale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Sentido innato de la igual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Sentido innato de simpat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8101080" cy="6870600"/>
        </p:xfrm>
        <a:graphic>
          <a:graphicData uri="http://schemas.openxmlformats.org/drawingml/2006/table">
            <a:tbl>
              <a:tblPr/>
              <a:tblGrid>
                <a:gridCol w="4853160"/>
                <a:gridCol w="3247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gi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xembou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xico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herla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 Zea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w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u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 Republ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r>
                        <a:rPr b="1" lang="es-ES" sz="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r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Kingd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 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CD 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244000" y="0"/>
          <a:ext cx="900000" cy="68580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14200" y="1071720"/>
          <a:ext cx="8464680" cy="4857480"/>
        </p:xfrm>
        <a:graphic>
          <a:graphicData uri="http://schemas.openxmlformats.org/drawingml/2006/table">
            <a:tbl>
              <a:tblPr/>
              <a:tblGrid>
                <a:gridCol w="1452600"/>
                <a:gridCol w="1390680"/>
                <a:gridCol w="1627200"/>
                <a:gridCol w="1274760"/>
                <a:gridCol w="1378080"/>
                <a:gridCol w="1341360"/>
              </a:tblGrid>
              <a:tr h="14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ción del ingreso  20 – 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-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/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 (añ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 Públ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2 CuadroTexto"/>
          <p:cNvSpPr/>
          <p:nvPr/>
        </p:nvSpPr>
        <p:spPr>
          <a:xfrm>
            <a:off x="1357200" y="41580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empeño social de los Estados de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empeño económico Estados de Bien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4200" y="1428840"/>
          <a:ext cx="8715600" cy="5000400"/>
        </p:xfrm>
        <a:graphic>
          <a:graphicData uri="http://schemas.openxmlformats.org/drawingml/2006/table">
            <a:tbl>
              <a:tblPr/>
              <a:tblGrid>
                <a:gridCol w="1868760"/>
                <a:gridCol w="939600"/>
                <a:gridCol w="1192320"/>
                <a:gridCol w="1374840"/>
                <a:gridCol w="1176120"/>
                <a:gridCol w="1177920"/>
                <a:gridCol w="986040"/>
              </a:tblGrid>
              <a:tr h="17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$ p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a 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dades/P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B/H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-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Nór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Estados de Bienestar Europ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s de Bienestar Lib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peru_manifestacion_apoio_velasco_alvarado5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na visión sistémica del cambi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ción institucional entre las democracias capitalistas occid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parti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partidismo vs. Multipartid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lector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orcional vs. Mayori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amblea legisla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cameral vs. Bicam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uctura gubernamental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taria vs. Fed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idad centr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lamentarismo vs. Presidenci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bunal Constitucional vs Revisión pre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obierno loc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ca autonomía vs. mucha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cionari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lientelismo vs. Merit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zas Armad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onales vs. Servicio Militar Oblig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ón Estado-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eral vs. Corpora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om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thstein, Bo; Las instituciones políticas: una visión general; en: Goodin, Robert y Klingeman, Hans-Dieter (editores)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uevo manual de ciencia polí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; Ediciones Istmo; Madrid; España; 2001; pp. 2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resBello"/>
          <p:cNvPicPr/>
          <p:nvPr/>
        </p:nvPicPr>
        <p:blipFill>
          <a:blip r:embed="rId1"/>
          <a:stretch/>
        </p:blipFill>
        <p:spPr>
          <a:xfrm>
            <a:off x="2484360" y="0"/>
            <a:ext cx="37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0,,1_242355845_165,00"/>
          <p:cNvPicPr/>
          <p:nvPr/>
        </p:nvPicPr>
        <p:blipFill>
          <a:blip r:embed="rId2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R7170_pag_xcii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querimos de Estados fue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capacidad de elaboración y ejecución de políticas y de promulgación de leyes; administración eficaz con la mínima burocracia; control del soborno, la corrupción y el cohecho; mantenimiento de un alto nivel de transparencia y rendición de cuentas en las instituciones públicas; y, lo más importante, el cumplimiento de l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.bebesymas.com/2008/09/BebeLloran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teoló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umanidad es un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pueblos del mundo son humano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Adiós Aristóteles! De boca de Cristo, verdad eterna, recibimos el mandamiento de amar al prójimo como a nosotros mism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rtolomé de las Ca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sbib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zonamiento raz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es sois en valor y en fortaleza, el cielo os igualó en el nacimiento; de linaje, de estado y de riqueza hizo a todos igual repartimiento...” “mas ha de haber un capitán primero, que todos por él quieran gobernars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lo Colo, canto Segundo, La Arau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upolic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4:55:39Z</dcterms:created>
  <dc:creator>smicco</dc:creator>
  <dc:description/>
  <dc:language>en-US</dc:language>
  <cp:lastModifiedBy>..</cp:lastModifiedBy>
  <dcterms:modified xsi:type="dcterms:W3CDTF">2009-11-09T21:04:35Z</dcterms:modified>
  <cp:revision>30</cp:revision>
  <dc:subject/>
  <dc:title>Las instituciones electorales sí importan  (pero nunca tanto)</dc:title>
</cp:coreProperties>
</file>