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D08-81C2-4929-8BE9-C55DC458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089-3138-4CB6-B149-BA981BC2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4F8-2D44-47D6-B916-AC8AFBF5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E89-0409-4FCA-90F9-84BE4002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3BF-C78E-487E-BD86-A624762B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A0B-34B2-433F-92E3-C25D48FE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683-3192-4CD3-843D-E95C3B19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831-A0CC-4857-9AAC-57CED801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A0D-A1DD-4CAB-8FD8-854B056F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BA5-97DF-4057-A3A8-4BF259F2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BA4-B554-4A10-9826-5B388294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D03-373D-40DB-BF23-195AA523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0FD1-B8BC-45A5-B0C6-88ED95DC56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Francisco_I_Madero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cción 13:</a:t>
            </a:r>
            <a:br>
              <a:rPr sz="1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retorno del Estad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rancis Fukuy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3 CuadroTexto"/>
          <p:cNvSpPr/>
          <p:nvPr/>
        </p:nvSpPr>
        <p:spPr>
          <a:xfrm>
            <a:off x="571680" y="4786200"/>
            <a:ext cx="770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uela de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pública y comunidad en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imavera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razonamientos prácticos a favor de la igual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Prud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Acep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razonamientos prácticos en contra del tutel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Asesorar no es decid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El Estado tiene el monopolio de la fuerza física legíti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.- ¿Quién decide quién es el experto y cómo se le reempla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razonamientos prácticos en contra del tutel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4.- La política supone transigir acerca de fines e intereses diversos y legítimos. Esto no resuelve en forma objetiva, clara, neutra, expe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- ¿El experto es bueno éticamente per 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6.- ¿No somos capaces de gobernarnos en nuestras vid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80438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ra fundar una sociedad igualmente libre se requiere de un estado efic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somacles.files.wordpress.com/2009/05/la-libertad-guiando-al-pueblo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nternacional2_10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8"/>
          <p:cNvSpPr/>
          <p:nvPr/>
        </p:nvSpPr>
        <p:spPr>
          <a:xfrm>
            <a:off x="6443640" y="189000"/>
            <a:ext cx="2700360" cy="2519280"/>
          </a:xfrm>
          <a:prstGeom prst="cloudCallout">
            <a:avLst>
              <a:gd name="adj1" fmla="val -74634"/>
              <a:gd name="adj2" fmla="val -18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Por qué un país tan rico como el Brasil tiene 40 millones de pob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196338819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>
            <a:off x="5508720" y="0"/>
            <a:ext cx="3635280" cy="4797360"/>
          </a:xfrm>
          <a:prstGeom prst="cloudCallout">
            <a:avLst>
              <a:gd name="adj1" fmla="val -56504"/>
              <a:gd name="adj2" fmla="val -6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on tanto petróleo y tan bellas e inteligentes mujeres, qué pasa con la patria de Bolív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225px-Mader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inquietante 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Alejandra Latapi, ¿por qué a Francisco Madero le  tomó casi un siglo lograr evitar la reelección inmisericorde del partido gobern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rancisco I. Mader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6156360" y="1916280"/>
            <a:ext cx="3276720" cy="3068640"/>
          </a:xfrm>
          <a:prstGeom prst="wedgeEllipseCallout">
            <a:avLst>
              <a:gd name="adj1" fmla="val -82074"/>
              <a:gd name="adj2" fmla="val -35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o soy Francisco Madero quien en 1910 pedí elecciones limpias en México. Recién las tuvimos el año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brecha institucional latinoameric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La_Brecha_Fukuyama_138x206"/>
          <p:cNvPicPr/>
          <p:nvPr/>
        </p:nvPicPr>
        <p:blipFill>
          <a:blip r:embed="rId1"/>
          <a:stretch/>
        </p:blipFill>
        <p:spPr>
          <a:xfrm>
            <a:off x="0" y="46080"/>
            <a:ext cx="1547640" cy="295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250920" y="1600200"/>
          <a:ext cx="9144000" cy="5257800"/>
        </p:xfrm>
        <a:graphic>
          <a:graphicData uri="http://schemas.openxmlformats.org/drawingml/2006/table">
            <a:tbl>
              <a:tblPr/>
              <a:tblGrid>
                <a:gridCol w="1522440"/>
                <a:gridCol w="1523880"/>
                <a:gridCol w="1522440"/>
                <a:gridCol w="1523880"/>
                <a:gridCol w="1525680"/>
                <a:gridCol w="152568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á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a/EE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Por qué Estados Unidos nos sacó tanta ventaja a partir de 18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Not_20070308_3217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 construcción del Est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rancis Fukuya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mement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rancis Fukuyama cree que fracasamos en construir un Estado fu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Fukuyam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planteamiento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cuanto a Europa, el Estado moderno que dispone de grandes ejércitos, poderes tributarios y una burocracia centralizada capaz de ejercer una autoridad soberana en un amplio territorio en su capacidad para proporcionar orden, seguridad, leyes y derechos de propiedad fue lo que hizo posible el crecimiento del mundo económico mod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francis_fukuyama-the_end_of_history_and_the_last_man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la-construccion-del-estado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1413000"/>
          <a:ext cx="8964720" cy="5418000"/>
        </p:xfrm>
        <a:graphic>
          <a:graphicData uri="http://schemas.openxmlformats.org/drawingml/2006/table">
            <a:tbl>
              <a:tblPr/>
              <a:tblGrid>
                <a:gridCol w="2241720"/>
                <a:gridCol w="2241360"/>
                <a:gridCol w="2239920"/>
                <a:gridCol w="22417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 de mue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 de muertes por 100.000 habit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5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érica La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entes extrarreg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opa occi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1995-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Rectangle 263"/>
          <p:cNvSpPr/>
          <p:nvPr/>
        </p:nvSpPr>
        <p:spPr>
          <a:xfrm>
            <a:off x="324000" y="674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OMICIDIOS DOLOSOS EN AMÉRICA LATINA Y OTRAS PARTES DEL MUNDO, c. 2000                                           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bla 29 Informe PNUD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7958160"/>
        </p:xfrm>
        <a:graphic>
          <a:graphicData uri="http://schemas.openxmlformats.org/drawingml/2006/table">
            <a:tbl>
              <a:tblPr/>
              <a:tblGrid>
                <a:gridCol w="1481040"/>
                <a:gridCol w="1174680"/>
                <a:gridCol w="1484640"/>
                <a:gridCol w="1117440"/>
                <a:gridCol w="1660680"/>
                <a:gridCol w="1114200"/>
                <a:gridCol w="11113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guardias priv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.por gu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 privado en segur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lones dól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eamé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o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oamé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rica La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o del Mu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 paí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3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érica Economía 18 junio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distinción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lcanc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as actividades estatales, que consiste en las diferentes funciones y objetivos que asumen los gobiernos, y la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fuerz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l poder del Estado o la capacidad de los Estados para programar y elaborar políticas y aplicar las leyes con rigor y transpar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640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lcance y poder del Est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querimos de Estados fue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 capacidad de elaboración y ejecución de políticas y de promulgación de leyes; administración eficaz con la mínima burocracia; control del soborno, la corrupción y el cohecho; mantenimiento de un alto nivel de transparencia y rendición de cuentas en las instituciones públicas; y, lo más importante, el cumplimiento de las l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64087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atalidad y efic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169236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1763640" y="1773360"/>
            <a:ext cx="0" cy="309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190880" y="1844640"/>
            <a:ext cx="3934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rza de las instituciones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284720" y="1844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1763640" y="3141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411280" y="2276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drant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932360" y="234936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drant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2340000" y="37893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drante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932360" y="378936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drante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1619280" y="5084640"/>
            <a:ext cx="48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cance de las instituciones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408720" cy="2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 4. Estatalidad y efic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169236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1763640" y="1773360"/>
            <a:ext cx="0" cy="309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262160" y="2421000"/>
            <a:ext cx="393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rza del Es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411280" y="2421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ados Un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050920" y="429264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erra Le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788000" y="1989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r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80000" y="21337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Jap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5867280" y="2637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R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076720" y="3429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urqu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4572000" y="3860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1692360" y="5013360"/>
            <a:ext cx="54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cance de las instituciones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zones para la igual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Naturaleza hu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Teoló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- Razón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- Razón prác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408720" cy="2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 4. Estatalidad y efic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169236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1763640" y="1773360"/>
            <a:ext cx="0" cy="309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262160" y="2421000"/>
            <a:ext cx="3934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uerza del Es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124000" y="24210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va Zelanda 19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995640" y="41497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usia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788000" y="1989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Japón 19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867280" y="2637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RSS 19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211640" y="2781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Japón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419640" y="328464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va Zelanda 19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1763640" y="5084640"/>
            <a:ext cx="4753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cance de las instituciones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4858920" y="2852640"/>
            <a:ext cx="1368360" cy="1297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4355640" y="2205000"/>
            <a:ext cx="79236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 flipV="1">
            <a:off x="2842920" y="2707920"/>
            <a:ext cx="129708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autocrítica del neoliber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lton Friedman apuntaba el año 2002 que, diez años antes, él habría aconsejado tres cosas a los países que vivían una transición del socialismo: “Privatizar, privatizar y privatizar”. “Pero me equivoqué –añadió-. Seguramente el Estado de derecho sea más importante que la privatizació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autocrítica vale pues el Estado – alcance y sobre todo fuerza - sí impo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brecha institucional latinoamericana en el siglo X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8229600" cy="5280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 Inde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U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iv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arag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x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zue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brecha  cultural latinoameric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5100_2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brecha  cultural política latinoameric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5" descr="vargas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he_Fidel_snak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376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0" y="6184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uestros dictadores militares latinoameri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250px-Pinochet_y_Videla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inestabilidad política en el siglo 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468360" y="1628640"/>
          <a:ext cx="8207280" cy="44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0728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0" y="5517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seworski, Adam y Curvale, Carolina: ¿Explica la política la brecha económica entre Estados Unidos y América Latina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ukuyama, Francis (compilador);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brecha entre América Latina y Estados Un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paradoja Robin 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existencia de una correlación positiva tan significativa entre la recaudación fiscal y el nivel de desarrollo indica que a medida que crecen económicamente más altos son los tributos para gasto social y desarrollo prod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naturaleza hu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Sentido innato de la igual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Sentido innato de simpat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8101080" cy="6870600"/>
        </p:xfrm>
        <a:graphic>
          <a:graphicData uri="http://schemas.openxmlformats.org/drawingml/2006/table">
            <a:tbl>
              <a:tblPr/>
              <a:tblGrid>
                <a:gridCol w="4853160"/>
                <a:gridCol w="32479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lgiu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ech Republ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mark</a:t>
                      </a:r>
                      <a:r>
                        <a:rPr b="1" lang="es-E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r>
                        <a:rPr b="1" lang="es-E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ng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ce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e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a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xembou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xico</a:t>
                      </a:r>
                      <a:r>
                        <a:rPr b="1" lang="es-E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herla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 Zea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w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ug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vak Republ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</a:t>
                      </a:r>
                      <a:r>
                        <a:rPr b="1" lang="es-E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ed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itzer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rke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 Kingd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 Sta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ECD aver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8244000" y="0"/>
          <a:ext cx="900000" cy="68580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214200" y="1071720"/>
          <a:ext cx="8464680" cy="4857480"/>
        </p:xfrm>
        <a:graphic>
          <a:graphicData uri="http://schemas.openxmlformats.org/drawingml/2006/table">
            <a:tbl>
              <a:tblPr/>
              <a:tblGrid>
                <a:gridCol w="1452600"/>
                <a:gridCol w="1390680"/>
                <a:gridCol w="1627200"/>
                <a:gridCol w="1274760"/>
                <a:gridCol w="1378080"/>
                <a:gridCol w="1341360"/>
              </a:tblGrid>
              <a:tr h="142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ción del ingreso  20 – 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-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r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/PI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ranza de vida al nacer (añ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o 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-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o 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s de Bienestar Nórd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ros Estados de Bienestar Europe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s de Bienestar Liber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2 CuadroTexto"/>
          <p:cNvSpPr/>
          <p:nvPr/>
        </p:nvSpPr>
        <p:spPr>
          <a:xfrm>
            <a:off x="1357200" y="41580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empeño social de los Estados de Bien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empeño económico Estados de Bien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14200" y="1428840"/>
          <a:ext cx="8715600" cy="5000400"/>
        </p:xfrm>
        <a:graphic>
          <a:graphicData uri="http://schemas.openxmlformats.org/drawingml/2006/table">
            <a:tbl>
              <a:tblPr/>
              <a:tblGrid>
                <a:gridCol w="1868760"/>
                <a:gridCol w="939600"/>
                <a:gridCol w="1192320"/>
                <a:gridCol w="1374840"/>
                <a:gridCol w="1176120"/>
                <a:gridCol w="1177920"/>
                <a:gridCol w="986040"/>
              </a:tblGrid>
              <a:tr h="178596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/Ha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$ pp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bie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/P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ta 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dades/P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/Ha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-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/Ha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-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mpl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s de Bienestar Nór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ros Estados de Bienestar Europ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s de Bienestar Libe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peru_manifestacion_apoio_velasco_alvarado5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Una visión sistémica del cambio institu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ariación institucional entre las democracias capitalistas occiden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de partid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ipartidismo vs. Multipartid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electora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porcional vs. Mayori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samblea legislativ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cameral vs. Bicam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ructura gubernamental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taria vs. Fed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toridad centr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lamentarismo vs. Presidenci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ibunal Constitucional vs Revisión pre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obierno loc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ca autonomía vs. mucha aut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ncionariad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lientelismo vs. Meritocr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rzas Armad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ionales vs. Servicio Militar Obliga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lación Estado-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eral vs. Corporat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onomí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othstein, Bo; Las instituciones políticas: una visión general; en: Goodin, Robert y Klingeman, Hans-Dieter (editores);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uevo manual de ciencia polí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; Ediciones Istmo; Madrid; España; 2001; pp. 2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resBello"/>
          <p:cNvPicPr/>
          <p:nvPr/>
        </p:nvPicPr>
        <p:blipFill>
          <a:blip r:embed="rId1"/>
          <a:stretch/>
        </p:blipFill>
        <p:spPr>
          <a:xfrm>
            <a:off x="2484360" y="0"/>
            <a:ext cx="37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0,,1_242355845_165,00"/>
          <p:cNvPicPr/>
          <p:nvPr/>
        </p:nvPicPr>
        <p:blipFill>
          <a:blip r:embed="rId2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R7170_pag_xcii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querimos de Estados fue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 capacidad de elaboración y ejecución de políticas y de promulgación de leyes; administración eficaz con la mínima burocracia; control del soborno, la corrupción y el cohecho; mantenimiento de un alto nivel de transparencia y rendición de cuentas en las instituciones públicas; y, lo más importante, el cumplimiento de las l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img.bebesymas.com/2008/09/BebeLlorand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zonamiento teoló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humanidad es una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los pueblos del mundo son humano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Adiós Aristóteles! De boca de Cristo, verdad eterna, recibimos el mandamiento de amar al prójimo como a nosotros mismo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rtolomé de las Ca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osbib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zonamiento razón na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es sois en valor y en fortaleza, el cielo os igualó en el nacimiento; de linaje, de estado y de riqueza hizo a todos igual repartimiento...” “mas ha de haber un capitán primero, que todos por él quieran gobernarse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lo Colo, canto Segundo, La Arau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aupolic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14:55:39Z</dcterms:created>
  <dc:creator>smicco</dc:creator>
  <dc:description/>
  <dc:language>en-US</dc:language>
  <cp:lastModifiedBy>..</cp:lastModifiedBy>
  <dcterms:modified xsi:type="dcterms:W3CDTF">2009-11-09T21:04:35Z</dcterms:modified>
  <cp:revision>30</cp:revision>
  <dc:subject/>
  <dc:title>Las instituciones electorales sí importan  (pero nunca tanto)</dc:title>
</cp:coreProperties>
</file>