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EE11-BE43-47BE-87A0-3D344A55E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4907-3A4E-48BF-BADC-429835F1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B7F7-1D90-495C-BBE9-EB42BC354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16A4-BE98-43E4-A115-643662D4D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81A5-CBBE-4958-9A29-8B03DE06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4527-5767-4604-8C2E-AB793876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F216-A6C2-4D83-91E1-D6564F8B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1B16-D947-472D-9385-08642AAF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48D3-3405-455E-9417-93DBC42E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49EC-63B8-4F0D-89D1-CF103E8B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4E6A-25AB-41CC-A5C1-0F692468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9BAE-E885-45CA-A902-58C6A2EA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8934-4653-4B49-908A-16A87ED31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130120"/>
            <a:ext cx="8893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No participo en política por…</a:t>
            </a:r>
            <a:br>
              <a:rPr sz="5400"/>
            </a:br>
            <a:br>
              <a:rPr sz="54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Robert Dahl</a:t>
            </a:r>
            <a:br>
              <a:rPr sz="4000"/>
            </a:b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Después de la revol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000" y="4941360"/>
            <a:ext cx="7848360" cy="17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rgio Micc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cuela de Der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a) Es menos probable que uno intervenga en política si asigna un bajo valor a la recompensa que espera obtener de esa actividad, comparada con la que espera de otr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b) Es menos probable que uno intervenga en política si piensa que no hay diferencias significativas en las alternativas que se presentan y, por consiguiente, que lo que haga no contará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c) Es menos probable que uno intervenga en política si piensa que lo que hace no importará porque de todos modos no puede modificar en forma significativa el result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d) Es menos probable que uno intervenga en política si cree que el resultado será relativamente satisfactorio sin su particip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e) Es menos probable que uno intervenga en política si estima que sus conocimientos son demasiado limitados para ser efica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f) Finalmente, cuanto más grandes sean los obstáculos que uno encuentre, menos probable es que intervenga en política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1:40:18Z</dcterms:created>
  <dc:creator>Sergio Mico</dc:creator>
  <dc:description/>
  <dc:language>en-US</dc:language>
  <cp:lastModifiedBy>Sergio Mico</cp:lastModifiedBy>
  <dcterms:modified xsi:type="dcterms:W3CDTF">2009-09-15T12:08:50Z</dcterms:modified>
  <cp:revision>5</cp:revision>
  <dc:subject/>
  <dc:title>No participo en política por… Robert Dahl</dc:title>
</cp:coreProperties>
</file>