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E21EA-0E22-486A-85BB-7D177811D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EC3F9-7949-4C5B-AA82-8DC8DB223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29352-145B-4A36-BABC-7AE204A2C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4E347-5CCE-4CCF-BFCF-03EBD2F58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F686A-6961-42ED-9DB5-3045664BD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93CA4-C02F-4AA3-AEB1-D197CE9F8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ADB22-040E-4F8A-95DC-46385B137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D102A-4913-491D-91A9-E74385008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C4783-0EDB-4CEA-B876-25D560005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3875F-4FED-4D69-88F7-4739B5E6F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35795-AFB4-4B90-B3FC-1BA27B601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CE2DC-F59E-407D-9C80-2624C9397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C38C-5C13-4D88-9348-946F82C399E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609480"/>
            <a:ext cx="815328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de la democracia directa</a:t>
            </a:r>
            <a:br>
              <a:rPr sz="4400"/>
            </a:br>
            <a:endParaRPr b="0" lang="en-US" sz="4400" spc="-1" strike="noStrike">
              <a:solidFill>
                <a:srgbClr val="000000"/>
              </a:solidFill>
              <a:latin typeface="Times New Roman"/>
            </a:endParaRPr>
          </a:p>
        </p:txBody>
      </p:sp>
      <p:sp>
        <p:nvSpPr>
          <p:cNvPr id="42" name="PlaceHolder 2"/>
          <p:cNvSpPr>
            <a:spLocks noGrp="1"/>
          </p:cNvSpPr>
          <p:nvPr>
            <p:ph/>
          </p:nvPr>
        </p:nvSpPr>
        <p:spPr>
          <a:xfrm>
            <a:off x="2438280" y="4267080"/>
            <a:ext cx="6019920" cy="1828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bert Dah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pués de la revolu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6002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críticas de Rousseau</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diputados del pueblo no son sus representantes, ni pueden serlo; sólo son sus mandatarios; no pueden resolver nada definitivamente. Toda ley no ratificada por el pueblo en persona es nula: no es una ley. El pueblo inglés cree ser libre; y mucho se equivoca: lo es solamente durante la elección d</a:t>
            </a:r>
            <a:r>
              <a:rPr b="0" lang="es-ES" sz="2800" spc="-1" strike="noStrike">
                <a:solidFill>
                  <a:srgbClr val="000000"/>
                </a:solidFill>
                <a:latin typeface="Times New Roman"/>
                <a:ea typeface="Times New Roman"/>
              </a:rPr>
              <a:t>e </a:t>
            </a:r>
            <a:r>
              <a:rPr b="0" lang="en-US" sz="2800" spc="-1" strike="noStrike">
                <a:solidFill>
                  <a:srgbClr val="000000"/>
                </a:solidFill>
                <a:latin typeface="Times New Roman"/>
                <a:ea typeface="Times New Roman"/>
              </a:rPr>
              <a:t>los miembros del Parlamento; pero no bien son elegidos, el pueblo es esclavo, ya no es nada.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El contrato social; </a:t>
            </a:r>
            <a:r>
              <a:rPr b="0" lang="en-US" sz="2800" spc="-1" strike="noStrike">
                <a:solidFill>
                  <a:srgbClr val="000000"/>
                </a:solidFill>
                <a:latin typeface="Times New Roman"/>
                <a:ea typeface="Times New Roman"/>
              </a:rPr>
              <a:t>Libro III, capítulo 15).</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5" name="" descr=""/>
          <p:cNvPicPr/>
          <p:nvPr/>
        </p:nvPicPr>
        <p:blipFill>
          <a:blip r:embed="rId1"/>
          <a:stretch/>
        </p:blipFill>
        <p:spPr>
          <a:xfrm>
            <a:off x="0" y="0"/>
            <a:ext cx="206064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experiencia de Robespierre</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obespierre era un admirador de Rousseau, pero cuando llegó al poder olvidó la democracia directa y optó por la representativa.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democracia</a:t>
            </a: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 es un Estado en el que el pueblo, reunido en asamblea permanente, gestiona por sí mismo los asuntos públicos... La democracia es un Estado en el que el pueblo soberano, guiado por leyes que él mismo ha elaborado, hace por sí mismo lo que puede hacer bien, y a través de sus delegados lo que no pued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razones del cambio</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qué tenían los atenienses un Consejo de Quinientos; los Quinientos, un consejo interno de cincuenta; y los cincuenta, un presidente? Por sobre todas las razones, por el tiempo. Los ciudadanos no pueden estar en reunión permanente.</a:t>
            </a: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l tiempo consagrado a la toma de decisiones está limitado tanto porque las personas involucradas no desean dedicar una cantidad desmedida de tiempo a las decisiones como por los plazos determinados por acontecimientos que no pueden esperar.</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apidez e idoneidad</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 </a:t>
            </a:r>
            <a:r>
              <a:rPr b="0" lang="en-US" sz="2800" spc="-1" strike="noStrike">
                <a:solidFill>
                  <a:srgbClr val="000000"/>
                </a:solidFill>
                <a:latin typeface="Times New Roman"/>
                <a:ea typeface="Times New Roman"/>
              </a:rPr>
              <a:t>Dado que los griegos eran un pueblo locuaz, sus capitanes dedicaban mucho tiempo a debatir en conciliábulo acerca de cómo enfrentar la invasión persa. Pero si hubieran seguido debatiendo indefinidamente en Salamina, la historia habría tomado un rumbo muy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No me gustaría ser un paciente quirúrgico en una sala de operaciones en la que rigiera el principio de que la opinión de una persona es tan digna de escucharse como la de otr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azones para participar</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 </a:t>
            </a:r>
            <a:r>
              <a:rPr b="0" lang="en-US" sz="2800" spc="-1" strike="noStrike">
                <a:solidFill>
                  <a:srgbClr val="000000"/>
                </a:solidFill>
                <a:latin typeface="Times New Roman"/>
                <a:ea typeface="Times New Roman"/>
              </a:rPr>
              <a:t>Cuanto más se disfruta de tomar parte.</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Cuanto mayores sean las diferencias entre las opciones a adoptar en las decisiones de la sociedad.</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3.- </a:t>
            </a:r>
            <a:r>
              <a:rPr b="0" lang="en-US" sz="2800" spc="-1" strike="noStrike">
                <a:solidFill>
                  <a:srgbClr val="000000"/>
                </a:solidFill>
                <a:latin typeface="Times New Roman"/>
                <a:ea typeface="Times New Roman"/>
              </a:rPr>
              <a:t>Cuanto más probable sea que a través de la participación pueda cambiarse el resultado en la dirección de la elección propi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4.- </a:t>
            </a:r>
            <a:r>
              <a:rPr b="0" lang="en-US" sz="2800" spc="-1" strike="noStrike">
                <a:solidFill>
                  <a:srgbClr val="000000"/>
                </a:solidFill>
                <a:latin typeface="Times New Roman"/>
                <a:ea typeface="Times New Roman"/>
              </a:rPr>
              <a:t>Cuanto más probable sea un resultado desfavorable al no participar.</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5.- </a:t>
            </a:r>
            <a:r>
              <a:rPr b="0" lang="en-US" sz="2800" spc="-1" strike="noStrike">
                <a:solidFill>
                  <a:srgbClr val="000000"/>
                </a:solidFill>
                <a:latin typeface="Times New Roman"/>
                <a:ea typeface="Times New Roman"/>
              </a:rPr>
              <a:t>Cuanto más idóneo sea uno con respecto al tema en cuestión.</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pátic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un extremo está el miembro inactivo de una sociedad, que no disfruta de tomar parte, está bastante satisfecho con el modo en que ocurren las cosas, piensa que su participación no puede cambiarlas demasiado, ve poca diferencia en las opciones, no se siente muy competente, y quizá cree que lo que la sociedad hace no es muy importante al fin y al cabo. En ese caso, todo tiempo dedicado a los asuntos de la sociedad lo considerará tiempo perdi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ctivista</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el otro extremo está el activista frenético que preferiría hacer política a comer, cree que el futuro del mundo depende de su sociedad, ve infinitos temas incluidos en cada decisión, se siente seguro de su idoneidad, y está igualmente convencido no tan sólo de que puede dar forma al resultado sino de que sobrevendrá el desastre si no participa. Para él, el tiempo dedicado a cualquier otra cosa que no sea la sociedad es tiempo perdido.</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Robert Dahl desconfía de una concepción de la  democracia que se agote en sus formas direct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Sin embargo, su trabajo lo dedicó a lograr cómo hacer más participativas las democracias reales (poliarquía) y cómo lograr que la igualdad se realizara en las sociedades capitalist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9:21:57Z</dcterms:created>
  <dc:creator>Windows</dc:creator>
  <dc:description/>
  <dc:language>en-US</dc:language>
  <cp:lastModifiedBy>Sergio Micco</cp:lastModifiedBy>
  <dcterms:modified xsi:type="dcterms:W3CDTF">2009-09-10T22:44:38Z</dcterms:modified>
  <cp:revision>27</cp:revision>
  <dc:subject/>
  <dc:title>La Teoría de las formas de gobierno en la historia del pensamiento político Noberto Bobbio</dc:title>
</cp:coreProperties>
</file>