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EC7-9D06-4AFE-8C89-4B071FE5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E28-F642-4F15-9EA5-92E19500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8EA-6C24-480C-868F-1AA3E7E1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69C-0AAE-43C1-9B56-529AF84D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D0E-5AAB-4BBC-817C-8561D59F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584-0A5D-4606-B07D-BF39BB44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100-134F-4556-A2CF-6B2C829F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300-9E23-4A7D-845F-3BCCAF27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E7E-1524-463C-8DAE-36EE25A1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800-1B91-4097-8D4D-90BB4D0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7C4-092F-48F6-83C6-9302B2B5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79A-3CC6-4511-9DC3-77FA5DCA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D956-6598-44AF-B80B-5843D831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RIBUCIONES ADMINSITRATIVA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32 Nº 6 a 10,12 y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atribuciones de ejercicio continuo para satisfacer las necesidades corrientes y el funcionamiento de los servicios públicos (diferente de las  llamadas atribuciones guberna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testad Reglamentaria del Pd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: Facultad para dictar decretos, reglamentos e instrucciones para el gobierno y administración del Estado, y para la ejecución de las leyes. (art. 32 Nº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. R. es lo más propio y característico de la función ejecutiva;  el Pdte. se proyecta en  su autoridad de administrador y de gobernante superior del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ceptos de: Decreto, Decreto Supremo, Reglamento,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ribuciones administrativas (continuació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quisitos de los decret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De f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De forma: firma del Pdte. y del Ministro respectivo  es requisito esencial (art. 35). Excepción: “por orden del P. de la R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gunos decretos requieren firma d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od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s Minis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de la C.G.R. : toma de ra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tapas en la tramitación de los decretos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Firma, anotación, toma de razón, transcripción, pub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ribuciones administrativas (continuació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Potestad Reglamentaria en la Constitución de 192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ominio mínimo leg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“Sólo en virtud de una ley se puede…” (art.44). La enumeración de las materias de ley no era taxativo. La ley era la norma de clausura del ordenamient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P. R. en la Constitución de 198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ominio máximo leg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Sólo son materias de ley…” (art. 63). Se determina en forma taxativa  las materias de ley, quedando las restantes entregadas a la potestad reglamentaria. Radica en la potestad reglamentaria del Pdte. la norma de claus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vertir redacción del art. 63 Nº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ribuciones administrativa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ombramiento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rt. 32 Nº 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º 7: Nombrar y remover a su voluntad 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inistros de Estado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aboradores directos e inmediatos del Pdte.; deben ser chilenos, 21 años de edad, y reunir requisitos grales. ingreso a la Administración Públ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bsecretari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laboradores inmediatos del Ministro respectivo; subrog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Intendentes: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resentante natural del Pdte., de su exclusiva confianza,  el gobierno de la Región (ar. 1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obernado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Órgano a cargo del gobierno y administración provincial; territorialmente desconcentrado del int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ribuciones administrativa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mbramient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32 Nº 8,9,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º 8: Designar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bajadores, ministros diplomáticos y representantes ante organismos internaci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 través de ellos conduce las relaciones internacionales, puede también considerarse una atribución de tipo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º 9: Nombrar al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tralor Gral. de la Rep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acuerdo del S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º 10: Nombrar y remover a l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ncionarios que la ley denomina de su exclusiva confianza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y proveer demás empleos civi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conformidad a la ley. Hay cargos de libre designación y de designación ordinaria.Difer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ribuciones administrativa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mbramient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art. 32 Nº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º 12: Nombrar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Magistrados y fiscales judiciales de las Cortes de Apelaciones y jueces letrados, a proposición de la Corte Suprema y Cortes de Apelaciones, respectivamente (art.78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 3 Miembros del Tribunal Constitucional (art. 92 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 Magistrados y fiscales judiciales de la Corte Suprema (art. 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iscal Nacional, a proposición de la Corte Sup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art. 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ribuciones administrativa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mbramient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art. 32 Nº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º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ar por la conducta ministerial de los jueces y demás empleados del Poder Judicial y requerir a la Corte Suprema para que, si procede, declare su mal comportamiento, o al ministerio público, para que reclame medidas disciplinarias del tribunal competente, o para que, si hubiere mérito bastante, entable la correspondiente acus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o podrá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eri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la Corte Supr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Crí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IBUCIONES JUDI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ha considerado que las atribuciones de los Nº11 y 14 son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ácter judi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orque declaran, reconocen o conceden un derecho aplicando la norma general a un caso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11: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nceder jubilaciones, retiros, montepíos y pensiones de gracia, con arreglo a las le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Jubilación es un derecho patrimonial que corresponde al funcionario que se retira de la Administración para percibir una pensión mensual calculada en relación a los años de servicio y las remuneraciones perci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ensión de gracia es un beneficio patrimonial consistente en una cantidad de dinero, mensual o anual que se otorga por méritos, servicios o solo por gracia del que la conc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CPR de 1925 se otorgaban por ley; se quiso restituir el carácter general propio de la ley, y se radicó en el Ejecu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IBUCIONES JUDI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14.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torgar indultos particulares en los casos y forma que determine la ley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lo procede si se ha dictado sentencia condenatoria  ejecutori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acusados  y condenados en juicio político solo pueden ser indultados por el Co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nistía e indulto son forma de extinción de la responsabilidad pe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dult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perdón de la pena o su conmutación por otra menor. Puede ser particular (personas determinadas) o general (todas las personas en una misma situación). Sólo remite o conmuta la p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mnistí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griego: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mnest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tiene el efecto de borrar el delito. La amnístía y los indultos generales son siempre materia de ley (art. 63 Nº 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9:37:52Z</dcterms:created>
  <dc:creator>Ana Maria</dc:creator>
  <dc:description/>
  <dc:language>en-US</dc:language>
  <cp:lastModifiedBy>Ana Maria</cp:lastModifiedBy>
  <dcterms:modified xsi:type="dcterms:W3CDTF">2009-09-29T00:34:38Z</dcterms:modified>
  <cp:revision>37</cp:revision>
  <dc:subject/>
  <dc:title>ATRIBUCIONES ADMINSITRATIVAS</dc:title>
</cp:coreProperties>
</file>