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412-C45B-428F-97C2-20DBED9D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D40-6D4F-4F27-A5F9-481CCDEB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69C-53BB-4619-ABFA-47D59A4F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903-208B-48B4-A43F-D979B3DF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F0D-6D1B-4F6A-BB5A-355651BF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F92-C6D9-4FEF-AB76-31A1A90B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B19-EE99-4C60-9FDF-D3229096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77D-1D6D-4A1A-9CB0-4C3C95D4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779-F7B2-4FAE-A675-EA839CCB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617-8407-4697-A027-BF3EA5A8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3D5-C7F2-484D-ADD9-F059C6AC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7B1-89BC-4806-85A2-D088FBCC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E331-A7EE-41D8-981D-783906BE8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RIBUCIONES ADMINSITRATIVA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32 Nº 6 a 10,12 y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atribuciones de ejercicio continuo para satisfacer las necesidades corrientes y el funcionamiento de los servicios públicos (diferente de las  llamadas atribuciones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testad Reglamentaria del Pd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: Facultad para dictar decretos, reglamentos e instrucciones para el gobierno y administración del Estado, y para la ejecución de las leyes. (art. 32 Nº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. R. es lo más propio y característico de la función ejecutiva;  el Pdte. se proyecta en  su autoridad de administrador y de gobernante superior del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eptos de: Decreto, Decreto Supremo, Reglamento,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ribuciones administrativas (continuació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quisitos de los decret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De f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De forma: firma del Pdte. y del Ministro respectivo  es requisito esencial (art. 35). Excepción: “por orden del P. de la R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decretos requieren firma d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od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s Minis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de la C.G.R. : toma de 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tapas en la tramitación de los decretos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Firma, anotación, toma de razón, transcripción, pub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ribuciones administrativas (continuació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Potestad Reglamentaria en la Constitución de 192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ominio mínimo le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“Sólo en virtud de una ley se puede…” (art.44). La enumeración de las materias de ley no era taxativo. La ley era la norma de clausura del ordenamient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P. R. en la Constitución de 198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ominio máximo le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Sólo son materias de ley…” (art. 63). Se determina en forma taxativa  las materias de ley, quedando las restantes entregadas a la potestad reglamentaria. Radica en la potestad reglamentaria del Pdte. la norma de claus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vertir redacción del art. 63 Nº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ombramiento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rt. 32 Nº 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º 7: Nombrar y remover a su voluntad 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inistros de Estado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aboradores directos e inmediatos del Pdte.; deben ser chilenos, 21 años de edad, y reunir requisitos grales. ingreso a la Administración Públ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bsecretari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laboradores inmediatos del Ministro respectivo; subrog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ntendentes: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resentante natural del Pdte., de su exclusiva confianza,  el gobierno de la Región (ar. 1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obernado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Órgano a cargo del gobierno y administración provincial; territorialmente desconcentrado del int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mbramient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32 Nº 8,9,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8: Designar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bajadores, ministros diplomáticos y representantes ante organismos internaci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 través de ellos conduce las relaciones internacionales, puede también considerarse una atribución de tipo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9: Nombrar al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tralor Gral. de la Rep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acuerdo del S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10: Nombrar y remover a l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ncionarios que la ley denomina de su exclusiva confianza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y proveer demás empleos civi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conformidad a la ley. Hay cargos de libre designación y de designación ordinaria.Difer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mbramient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art. 32 Nº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12: Nombrar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Magistrados y fiscales judiciales de las Cortes de Apelaciones y jueces letrados, a proposición de la Corte Suprema y Cortes de Apelaciones, respectivamente (art.78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 3 Miembros del Tribunal Constitucional (art. 92 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 Magistrados y fiscales judiciales de la Corte Suprema (art. 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iscal Nacional, a proposición de la Corte Sup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art. 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mbramient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art. 32 Nº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º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ar por la conducta ministerial de los jueces y demás empleados del Poder Judicial y requerir a la Corte Suprema para que, si procede, declare su mal comportamiento, o al ministerio público, para que reclame medidas disciplinarias del tribunal competente, o para que, si hubiere mérito bastante, entable la correspondiente acus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o podrá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eri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la Corte Supr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Crí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IBUCIONES JUDI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ha considerado que las atribuciones de los Nº11 y 14 son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ácter jud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orque declaran, reconocen o conceden un derecho aplicando la norma general a un caso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11: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nceder jubilaciones, retiros, montepíos y pensiones de gracia, con arreglo a las le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Jubilación es un derecho patrimonial que corresponde al funcionario que se retira de la Administración para percibir una pensión mensual calculada en relación a los años de servicio y las remuneraciones perci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ensión de gracia es un beneficio patrimonial consistente en una cantidad de dinero, mensual o anual que se otorga por méritos, servicios o solo por gracia del que la conc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CPR de 1925 se otorgaban por ley; se quiso restituir el carácter general propio de la ley, y se radicó en el Ejecu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IBUCIONES JUDI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14.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torgar indultos particulares en los casos y forma que determine la ley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lo procede si se ha dictado sentencia condenatoria  ejecutori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acusados  y condenados en juicio político solo pueden ser indultados por el Co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nistía e indulto son forma de extinción de la responsabilidad pe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ult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perdón de la pena o su conmutación por otra menor. Puede ser particular (personas determinadas) o general (todas las personas en una misma situación). Sólo remite o conmuta la p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mnistí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griego: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mnest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tiene el efecto de borrar el delito. La amnístía y los indultos generales son siempre materia de ley (art. 63 Nº 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9:37:52Z</dcterms:created>
  <dc:creator>Ana Maria</dc:creator>
  <dc:description/>
  <dc:language>en-US</dc:language>
  <cp:lastModifiedBy>Ana Maria</cp:lastModifiedBy>
  <dcterms:modified xsi:type="dcterms:W3CDTF">2009-09-29T00:34:38Z</dcterms:modified>
  <cp:revision>37</cp:revision>
  <dc:subject/>
  <dc:title>ATRIBUCIONES ADMINSITRATIVAS</dc:title>
</cp:coreProperties>
</file>