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4E7-4970-4DA0-8515-DC65B9DC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4A6-A51E-47ED-A364-2CB1DF23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9FB-5691-4F1F-A44A-43D23B25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3E1-51EF-4628-8941-DA4E3F77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FD9-069D-4E83-99A5-77FD2441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175-E96A-489E-A0FE-63D5A8F7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093-AF62-4B60-9ECB-A66A5C19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631-56EA-495D-8708-CBB7DC20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4F2-250F-4DCB-A30C-99B88D39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9B6-80F6-4881-BC13-3A3C85B4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DB8-80D8-463C-9F6B-F231C41C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2C4-0196-44AD-9636-A38A33E9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01D0-E5D2-47DA-A632-E2C7F77424E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lasificaciones de Constitu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43120" y="4357800"/>
            <a:ext cx="52149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898989"/>
                </a:solidFill>
                <a:latin typeface="Calibri"/>
              </a:rPr>
              <a:t>Augusto Quintana Benavi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rofesor de Derecho Constitu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1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Aparente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Material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(o Real) (</a:t>
            </a:r>
            <a:r>
              <a:rPr b="0" i="1" lang="es-CL" sz="3000" spc="-1" strike="noStrike">
                <a:solidFill>
                  <a:srgbClr val="000000"/>
                </a:solidFill>
                <a:latin typeface="Calibri"/>
              </a:rPr>
              <a:t>Ferdinand Lassalle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scrit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uetudinari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3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Brev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ulcras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xtens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Lata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4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Rígi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lexibl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Semirrígidas – Semiflexibl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5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torg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Pact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mocrátic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6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Neutr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Utilitaria) e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Ideológic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rogramátic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7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tiv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minal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Semán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Karl Löwenstein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8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Histór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Vigente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9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olí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len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José L. Ce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3:41:48Z</dcterms:created>
  <dc:creator>FIS.AQB</dc:creator>
  <dc:description/>
  <dc:language>en-US</dc:language>
  <cp:lastModifiedBy>FIS.AQB</cp:lastModifiedBy>
  <dcterms:modified xsi:type="dcterms:W3CDTF">2009-10-02T14:44:18Z</dcterms:modified>
  <cp:revision>5</cp:revision>
  <dc:subject/>
  <dc:title>Clasificaciones de Constituciones</dc:title>
</cp:coreProperties>
</file>