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5A2-F35B-4A40-BF2A-FDCC34B5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DFB-4CFE-4869-BFCF-AFFD4DB1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0A0-2A23-4995-AE4E-D8C74795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C4F-5608-4ECE-9F7B-4063FD5E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D4B-854D-49DF-B08E-265612D6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312-0DD4-48AC-AA04-450CCC3A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961-1F4C-4DBB-AF92-9C47AD34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227-B99F-4343-AA8A-2E1D66BF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ABE-4B37-4C90-A02E-1D68FED9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9F3-FE0E-4686-A6D9-90C5C528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57A-7F64-4758-9F08-0FC882C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54A-57B7-4A51-AAD7-BECC07FB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B898-B328-46F5-A776-8F54CF375ED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lasificaciones de Constitu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3120" y="4357800"/>
            <a:ext cx="52149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898989"/>
                </a:solidFill>
                <a:latin typeface="Calibri"/>
              </a:rPr>
              <a:t>Augusto Quintana Benavi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esor de Derecho Co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Aparente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Material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(o Real) (</a:t>
            </a:r>
            <a:r>
              <a:rPr b="0" i="1" lang="es-CL" sz="3000" spc="-1" strike="noStrike">
                <a:solidFill>
                  <a:srgbClr val="000000"/>
                </a:solidFill>
                <a:latin typeface="Calibri"/>
              </a:rPr>
              <a:t>Ferdinand Lassalle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scrit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uetudinari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3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Brev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ulcras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xtens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Lat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4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Rígi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lexibl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Semirrígidas – Semiflexibl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5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torg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Pact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mocrátic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6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Neutr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Utilitaria) e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Ideológic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rogramátic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7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tiv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minal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Semán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Karl Löwenstein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8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Histór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Vigente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9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olí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len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José L. Ce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41:48Z</dcterms:created>
  <dc:creator>FIS.AQB</dc:creator>
  <dc:description/>
  <dc:language>en-US</dc:language>
  <cp:lastModifiedBy>FIS.AQB</cp:lastModifiedBy>
  <dcterms:modified xsi:type="dcterms:W3CDTF">2009-10-02T14:44:18Z</dcterms:modified>
  <cp:revision>5</cp:revision>
  <dc:subject/>
  <dc:title>Clasificaciones de Constituciones</dc:title>
</cp:coreProperties>
</file>