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8F7-1EB2-4161-8EF3-72A0FF15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DAC-E7CE-45E6-938B-AA674E13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4E9-A716-48B8-919D-70097523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425-40C5-4C29-9130-7A52464E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2D5-2702-4DF8-B14D-0DB1DEA8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AD2-574F-49D4-B950-C8E65CA2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97E-313E-4E46-AC60-79964403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DA5-474E-4FB8-A5D9-EBD83DBA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A2C-F5E8-4153-BA00-A36FCC51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EA0-D2EB-4236-930E-9DE6BE9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90D-8037-41EE-BAEB-790B5ADD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654-3B1C-4AAC-B85C-96EE13FC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938E-5F30-4861-AD8C-7F0AF7F9052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lasificaciones de Constitu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43120" y="4357800"/>
            <a:ext cx="52149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898989"/>
                </a:solidFill>
                <a:latin typeface="Calibri"/>
              </a:rPr>
              <a:t>Augusto Quintana Benavi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rofesor de Derecho Constitu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1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Aparente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Material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(o Real) (</a:t>
            </a:r>
            <a:r>
              <a:rPr b="0" i="1" lang="es-CL" sz="3000" spc="-1" strike="noStrike">
                <a:solidFill>
                  <a:srgbClr val="000000"/>
                </a:solidFill>
                <a:latin typeface="Calibri"/>
              </a:rPr>
              <a:t>Ferdinand Lassalle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scrit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uetudinari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3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Brev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ulcras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xtens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Lata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4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Rígi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lexibl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Semirrígidas – Semiflexibl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5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torg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Pact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mocrátic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6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Neutr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Utilitaria) e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Ideológic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rogramátic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7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tiv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minal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Semán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Karl Löwenstein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8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Histór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Vigente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9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olí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len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José L. Ce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3:41:48Z</dcterms:created>
  <dc:creator>FIS.AQB</dc:creator>
  <dc:description/>
  <dc:language>en-US</dc:language>
  <cp:lastModifiedBy>FIS.AQB</cp:lastModifiedBy>
  <dcterms:modified xsi:type="dcterms:W3CDTF">2009-10-02T14:44:18Z</dcterms:modified>
  <cp:revision>5</cp:revision>
  <dc:subject/>
  <dc:title>Clasificaciones de Constituciones</dc:title>
</cp:coreProperties>
</file>