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687-210B-45A2-9AD9-EFFD8679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819-9C4C-4834-9475-EE4D399E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EDC-D27A-441C-901C-62AA81DF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DAB-731F-479F-BFA7-B791517E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DA6-32DE-4895-9E3A-39C98DCB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9E0-EA8B-4C52-BD59-6E8D379F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9C7-B2F6-4996-AAF4-7B50DC4B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47F-AB1A-4D3F-81EB-5C4494F7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1D8-7F99-4D64-BC70-47077998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104-5564-458D-908D-3AD7F6D5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1A5-E775-4BCF-BB0C-631F22F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A85-E068-4150-A44F-D7238D8E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A620-9460-4354-8237-B43E999952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untes de Derecho Constitucional 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del Es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oría clásica de los Elementos del Est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Las personas (pueblo, población) como subordin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Territorio “del”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Poder de do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(Fin del Esta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rít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fusión entre “Teoría del Estado” y “Teoría de la Constit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Reminiscencias constitucion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rt. 1° inc. tercero; ex art. 3°, ¿art. 19 N°14?; Art. 19 N°24 inciso s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Estado como sujeto del derecho constitucion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Las personas como titulares del poder y de su ejercicio (en la esfera públi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Territorialidad y supraterritorialidad del Estado y d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“Fines”, funciones, atribuciones y deberes del Estado. Servicialidad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2:41:17Z</dcterms:created>
  <dc:creator>fis.aqb</dc:creator>
  <dc:description/>
  <dc:language>en-US</dc:language>
  <cp:lastModifiedBy>FIS.AQB</cp:lastModifiedBy>
  <dcterms:modified xsi:type="dcterms:W3CDTF">2009-09-24T14:24:05Z</dcterms:modified>
  <cp:revision>13</cp:revision>
  <dc:subject/>
  <dc:title>    Apuntes de Derecho Constitucional I         Elementos del Estado</dc:title>
</cp:coreProperties>
</file>