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A47-85D5-40E1-8E3D-5A0156D0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765-EA2B-453E-8714-EF1CDE04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889-215A-468F-904E-2D375C1B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157-1AC1-4F0E-8D8B-F624080E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BE0-AE75-4E9D-A80B-53FD0ADF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4E0-0120-4206-A6CB-05302FAB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17F-2684-40E1-A4F6-8FFC82EB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AF5-BAFC-4A09-B7DD-34801AC5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684-7193-4ADF-9EB7-83DFED18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08A-7831-4F34-B1CD-2BDD119A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A1D-5A02-4CF2-B85C-419ECD7E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339-C0F5-4214-8131-690B3EFA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4566-62C0-41C9-A382-AB4CCA2BAA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untes de Derecho Constitucional I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ementos del Est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ugusto Quintana Bena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oría clásica de los Elementos del Est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Las personas (pueblo, población) como subordin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Territorio “del”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Poder de domin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(Fin del Estad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rític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fusión entre “Teoría del Estado” y “Teoría de la Constitu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Reminiscencias constitucion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rt. 1° inc. tercero; ex art. 3°, ¿art. 19 N°14?; Art. 19 N°24 inciso s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l Estado como sujeto del derecho constituciona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Las personas como titulares del poder y de su ejercicio (en la esfera públi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Territorialidad y supraterritorialidad del Estado y del Derecho esta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“Fines”, funciones, atribuciones y deberes del Estado. Servicialidad del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2:41:17Z</dcterms:created>
  <dc:creator>fis.aqb</dc:creator>
  <dc:description/>
  <dc:language>en-US</dc:language>
  <cp:lastModifiedBy>FIS.AQB</cp:lastModifiedBy>
  <dcterms:modified xsi:type="dcterms:W3CDTF">2009-09-24T14:24:05Z</dcterms:modified>
  <cp:revision>13</cp:revision>
  <dc:subject/>
  <dc:title>    Apuntes de Derecho Constitucional I         Elementos del Estado</dc:title>
</cp:coreProperties>
</file>