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31F-82C8-40B4-A13A-5998DDEF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1D-2437-4233-9EB4-A55B772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14C-A5CE-462B-8411-174B4B38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7BC-D582-4EBB-9803-F90E043E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C5A-41CD-460E-BCB9-C3DAA410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874-3F8F-43F9-89D1-50B3F44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76C-0C0A-4C92-8CAF-D18F1DD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447-4AB8-4841-A0D9-C9297CF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5AE-DE9E-40F6-AED7-9072602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21D-F305-4C01-B7D3-EEFEA76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C1B-9DFC-47C0-A988-F56DA15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DA2-AFB7-4E4D-A148-53E4415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435-79B8-4B24-84D2-A63E3A6F49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untes de Derecho Constitucional 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del Es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eoría clásica de los Elementos del Est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(pueblo, población) como subordin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o “del”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oder de do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(Fin del Esta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rít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usión entre “Teoría del Estado” y “Teoría de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Reminiscencias constitucion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rt. 1° inc. tercero; ex art. 3°, ¿art. 19 N°14?; Art. 19 N°24 inciso s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stado como sujeto del derecho constitucion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Las personas como titulares del poder y de su ejercicio (en la esfera públi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Territorialidad y supraterritorialidad del Estado y d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“Fines”, funciones, atribuciones y deberes del Estado. Servicialidad d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2:41:17Z</dcterms:created>
  <dc:creator>fis.aqb</dc:creator>
  <dc:description/>
  <dc:language>en-US</dc:language>
  <cp:lastModifiedBy>FIS.AQB</cp:lastModifiedBy>
  <dcterms:modified xsi:type="dcterms:W3CDTF">2009-09-24T14:24:05Z</dcterms:modified>
  <cp:revision>13</cp:revision>
  <dc:subject/>
  <dc:title>    Apuntes de Derecho Constitucional I         Elementos del Estado</dc:title>
</cp:coreProperties>
</file>