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B93-651E-41C1-A956-FC539C7D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B1C-F261-4E73-9F7C-195C351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F38-CCF1-4DC0-9362-75929785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582-EA8D-4FCC-8AD2-840B947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DE8-9E93-484B-9302-30BF35D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236-8B20-451C-96C0-5C07ADA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475-72DB-4EC1-BBC2-648E8BA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E12-AA24-49D0-BB3A-40B0592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2E6-943D-4935-8721-A5771384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FD2-A282-421A-AD21-62CE344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5AD-AA7E-4F05-B850-7625A70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FF9-676C-40DD-89DF-F9ECC5D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9F1-9CE9-4054-AB81-53BE3CE07D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 democrático y constitucional de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4797000"/>
            <a:ext cx="41371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log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Estado (liberal)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incipios de juridicidad, control y responsabilidad: Arts. 6 y 7 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Derechos individuales  (Primera Generación) como límite d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Habeas Corp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formal) ante la ley: Artículo 19 N°2 inciso primero.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 Estado social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 Derechos sociales y económicos (Segunda Generac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sustantiva) ante la ley: Artículos 1° inciso primero y 19 N°2 inciso seg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Expansión de  la esfera estatal: Estado de Bienestar y Estado Empr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. Estado democrático y constitucional de der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rincipio de supremacía constitucional y controles de constitucionalidad sobre normas y conducta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rechos de la Tercera Generación (derechos culturales + derechos colectiv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sarrollo de Acciones de “Amparo”, Acciones Públicas, “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lass Action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” y Acciones ante Organismos Supra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spacios públicos abiertos y delib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03:23Z</dcterms:created>
  <dc:creator>fis.aqb</dc:creator>
  <dc:description/>
  <dc:language>en-US</dc:language>
  <cp:lastModifiedBy>FIS.AQB</cp:lastModifiedBy>
  <dcterms:modified xsi:type="dcterms:W3CDTF">2009-09-25T14:01:14Z</dcterms:modified>
  <cp:revision>2</cp:revision>
  <dc:subject/>
  <dc:title>Estado democrático y constitucional de derecho</dc:title>
</cp:coreProperties>
</file>