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96AC-2649-4BF8-BAAE-D9CCD7F2B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EF11-A02B-4270-8CA2-F9D45905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456F-6A5C-41E3-83EE-7CAF391E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7EF4-06C2-40E9-8DCC-82DB54240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FA70-6BC9-4289-B600-456E835D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02F4-8CD4-4D2D-998E-4AFBB34A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CF5B-3348-4C2E-AD85-E90024CE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F05A-C47D-476A-AE4D-994C5C95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937D-C781-4D5C-A20B-BAC4C7B9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2D83-B46A-4811-A984-5BCD7912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457E-3784-4468-8125-0326BE7C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0C41-17E9-4613-B768-C31CC6E8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9D0C-6F8D-4B26-B727-CF66261473F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stado democrático y constitucional de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5280" y="4797000"/>
            <a:ext cx="413712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ugusto Quintana Bena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fesor de Derecho Constitu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ipologí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. Estado (liberal) de derec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Principios de juridicidad, control y responsabilidad: Arts. 6 y 7 C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Derechos individuales  (Primera Generación) como límite del Est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Habeas Corp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Igualdad (formal) ante la ley: Artículo 19 N°2 inciso primero.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. Estado social de derec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 Derechos sociales y económicos (Segunda Generació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Igualdad (sustantiva) ante la ley: Artículos 1° inciso primero y 19 N°2 inciso segund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Expansión de  la esfera estatal: Estado de Bienestar y Estado Empresa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3. Estado democrático y constitucional de derec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Principio de supremacía constitucional y controles de constitucionalidad sobre normas y conductas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Derechos de la Tercera Generación (derechos culturales + derechos colectivo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Desarrollo de Acciones de “Amparo”, Acciones Públicas, “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Class Action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” y Acciones ante Organismos Supranacion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Espacios públicos abiertos y deliberativ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3:03:23Z</dcterms:created>
  <dc:creator>fis.aqb</dc:creator>
  <dc:description/>
  <dc:language>en-US</dc:language>
  <cp:lastModifiedBy>FIS.AQB</cp:lastModifiedBy>
  <dcterms:modified xsi:type="dcterms:W3CDTF">2009-09-25T14:01:14Z</dcterms:modified>
  <cp:revision>2</cp:revision>
  <dc:subject/>
  <dc:title>Estado democrático y constitucional de derecho</dc:title>
</cp:coreProperties>
</file>