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939-4F48-4382-915B-6EDB1DE3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2C2-E6AE-4121-B1CB-D4FB8E2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55E-529E-492B-8494-D24B10CD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23C-5DC5-4900-82B2-FEDDFFF3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C91-99D7-4395-B9EE-3F46A82F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B36-6698-4C5B-BF03-D0ECFA8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94F-0864-412D-8006-5FB9DA8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CE1-4A72-4BDA-B407-1BA4FFD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552-B620-4DBA-8BFD-C3E075C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C81-B3B4-4249-BB1C-E791694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005-C0EF-451F-8D19-119DE07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985-3D1D-44A1-8F66-5AC13AB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947-7962-400D-B5B1-6541D768E3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 democrático y constitucional de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4797000"/>
            <a:ext cx="41371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log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Estado (liberal)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incipios de juridicidad, control y responsabilidad: Arts. 6 y 7 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Derechos individuales  (Primera Generación) como límite d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Habeas Corp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formal) ante la ley: Artículo 19 N°2 inciso primero.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 Estado social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 Derechos sociales y económicos (Segunda Generac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sustantiva) ante la ley: Artículos 1° inciso primero y 19 N°2 inciso seg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Expansión de  la esfera estatal: Estado de Bienestar y Estado Empr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. Estado democrático y constitucional de der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rincipio de supremacía constitucional y controles de constitucionalidad sobre normas y conducta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rechos de la Tercera Generación (derechos culturales + derechos colectiv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sarrollo de Acciones de “Amparo”, Acciones Públicas, “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lass Action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” y Acciones ante Organismos Supra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spacios públicos abiertos y delib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03:23Z</dcterms:created>
  <dc:creator>fis.aqb</dc:creator>
  <dc:description/>
  <dc:language>en-US</dc:language>
  <cp:lastModifiedBy>FIS.AQB</cp:lastModifiedBy>
  <dcterms:modified xsi:type="dcterms:W3CDTF">2009-09-25T14:01:14Z</dcterms:modified>
  <cp:revision>2</cp:revision>
  <dc:subject/>
  <dc:title>Estado democrático y constitucional de derecho</dc:title>
</cp:coreProperties>
</file>