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F0B-F18E-487A-A289-40256A6C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FB9-402B-487D-BCE1-1F1F277C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ABE-F853-4392-A5F5-8E22E5A3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5E5-9E8C-401F-AB44-8FE14A7A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92B-F2F3-48C7-A48B-FAF9EEC3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D76-4B6F-478A-86DD-2452EB3A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2C3-59D1-4461-BE4A-642FF60B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5D5-2AC1-4187-BD2E-1F0E140A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827-16F1-4B1B-AC0C-3F9271D5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680-D36C-4F3F-9F5B-FE376262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F59-5141-4868-B32C-A6FA14B6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BD8-8DC9-4FCD-B9FB-1E4423D4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C1DD-6541-44CA-A7A9-935D00EC9B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ado democrático y constitucional de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5280" y="4797000"/>
            <a:ext cx="413712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ugusto Quintana Bena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fesor de Derecho Co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pologí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. Estado (liberal) de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Principios de juridicidad, control y responsabilidad: Arts. 6 y 7 C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Derechos individuales  (Primera Generación) como límite del Es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Habeas Corp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Igualdad (formal) ante la ley: Artículo 19 N°2 inciso primero.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. Estado social de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 Derechos sociales y económicos (Segunda Generac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Igualdad (sustantiva) ante la ley: Artículos 1° inciso primero y 19 N°2 inciso seg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Expansión de  la esfera estatal: Estado de Bienestar y Estado Empre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. Estado democrático y constitucional de dere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rincipio de supremacía constitucional y controles de constitucionalidad sobre normas y conducta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erechos de la Tercera Generación (derechos culturales + derechos colectiv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esarrollo de Acciones de “Amparo”, Acciones Públicas, “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lass Action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” y Acciones ante Organismos Supra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Espacios públicos abiertos y delibera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03:23Z</dcterms:created>
  <dc:creator>fis.aqb</dc:creator>
  <dc:description/>
  <dc:language>en-US</dc:language>
  <cp:lastModifiedBy>FIS.AQB</cp:lastModifiedBy>
  <dcterms:modified xsi:type="dcterms:W3CDTF">2009-09-25T14:01:14Z</dcterms:modified>
  <cp:revision>2</cp:revision>
  <dc:subject/>
  <dc:title>Estado democrático y constitucional de derecho</dc:title>
</cp:coreProperties>
</file>