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984-505C-4479-B719-1131B5EF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625-AC68-447E-89A1-17DA2424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621-C2AB-446C-8080-39485452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56C-01D3-45B6-B0DA-21DBA349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A06-BC01-41F3-83D3-7CB1BC3F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5D8-1CE1-4AE7-8EDF-A5DF2359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78E-CFFB-4393-978C-001F215F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0FF-5065-41FF-8120-44CFB515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A03-C482-4805-856E-C341DFCD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E68-129E-4926-8FFD-47909ABB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343-CD78-48AE-87EA-6A2EE7E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269-9BEB-47CD-8ABE-A4E7C00C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3233-2F55-49E3-83C9-C4D12847972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lasificaciones de Constitu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43120" y="4357800"/>
            <a:ext cx="52149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898989"/>
                </a:solidFill>
                <a:latin typeface="Calibri"/>
              </a:rPr>
              <a:t>Augusto Quintana Benavi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Profesor de Derecho Constitu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1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Aparente)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Material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(o Real) (</a:t>
            </a:r>
            <a:r>
              <a:rPr b="0" i="1" lang="es-CL" sz="3000" spc="-1" strike="noStrike">
                <a:solidFill>
                  <a:srgbClr val="000000"/>
                </a:solidFill>
                <a:latin typeface="Calibri"/>
              </a:rPr>
              <a:t>Ferdinand Lassalle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Escrit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uetudinari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3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Brev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Pulcras)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Extens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Lata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4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Rígi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lexibl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Semirrígidas – Semiflexibl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5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torga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Pactad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mocrátic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6.-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Neutra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Utilitaria) e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Ideológica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 (o Programátic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7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tiv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minal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Semánt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Karl Löwenstein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8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Histór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Vigente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9.-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olític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len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s-CL" sz="3200" spc="-1" strike="noStrike">
                <a:solidFill>
                  <a:srgbClr val="000000"/>
                </a:solidFill>
                <a:latin typeface="Calibri"/>
              </a:rPr>
              <a:t>José L. Cea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3:41:48Z</dcterms:created>
  <dc:creator>FIS.AQB</dc:creator>
  <dc:description/>
  <dc:language>en-US</dc:language>
  <cp:lastModifiedBy>FIS.AQB</cp:lastModifiedBy>
  <dcterms:modified xsi:type="dcterms:W3CDTF">2009-10-02T14:44:18Z</dcterms:modified>
  <cp:revision>5</cp:revision>
  <dc:subject/>
  <dc:title>Clasificaciones de Constituciones</dc:title>
</cp:coreProperties>
</file>