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AAF-FE7C-47A2-8526-E40330E1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B321-D5A9-4950-A66D-89A2F2DE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4AF-5956-4D12-8299-5009B9AD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3987-1D7E-4A5E-8032-2012BB8C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7EC-4105-4699-AA77-0CA2E90D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805-F76F-4406-B5B6-27FD25AA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645-80AB-4751-A955-6AD01F04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EC5-7CA0-4D1F-A537-206E724F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AE9-F962-4254-BC1B-9E6F6A21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5C9-3E54-4A6B-A068-31965F22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27F-57D7-423E-9DD4-FD78233B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AA9E-BF5B-48EE-9C71-27473423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E818-63B3-431A-94DD-169E7B734B66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lasificaciones de Constitu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43120" y="4357800"/>
            <a:ext cx="521496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898989"/>
                </a:solidFill>
                <a:latin typeface="Calibri"/>
              </a:rPr>
              <a:t>Augusto Quintana Benavid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Calibri"/>
              </a:rPr>
              <a:t>Profesor de Derecho Constitu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Calibri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1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Formal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Aparente)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Material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(o Real) (</a:t>
            </a:r>
            <a:r>
              <a:rPr b="0" i="1" lang="es-CL" sz="3000" spc="-1" strike="noStrike">
                <a:solidFill>
                  <a:srgbClr val="000000"/>
                </a:solidFill>
                <a:latin typeface="Calibri"/>
              </a:rPr>
              <a:t>Ferdinand Lassalle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2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Escrit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Consuetudinari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3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Breve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Pulcras)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Extens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Lata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4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Rígid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Flexible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Semirrígidas – Semiflexibl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5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Otorgad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Pactad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emocrátic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6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Neutra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Utilitaria) e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Ideológica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Programática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7.-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rmativ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minal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Semántic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s-CL" sz="3200" spc="-1" strike="noStrike">
                <a:solidFill>
                  <a:srgbClr val="000000"/>
                </a:solidFill>
                <a:latin typeface="Calibri"/>
              </a:rPr>
              <a:t>Karl Löwenstein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8.-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Históric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Vigente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9.-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Polític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Plen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s-CL" sz="3200" spc="-1" strike="noStrike">
                <a:solidFill>
                  <a:srgbClr val="000000"/>
                </a:solidFill>
                <a:latin typeface="Calibri"/>
              </a:rPr>
              <a:t>José L. Ce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3:41:48Z</dcterms:created>
  <dc:creator>FIS.AQB</dc:creator>
  <dc:description/>
  <dc:language>en-US</dc:language>
  <cp:lastModifiedBy>FIS.AQB</cp:lastModifiedBy>
  <dcterms:modified xsi:type="dcterms:W3CDTF">2009-10-02T14:44:18Z</dcterms:modified>
  <cp:revision>5</cp:revision>
  <dc:subject/>
  <dc:title>Clasificaciones de Constituciones</dc:title>
</cp:coreProperties>
</file>