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E38-DD8B-4077-9817-256160A1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6E6-02A2-4A9C-8D64-2B1BC27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20A-0C7B-4C87-B419-BEBA8AE4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5C9-9D46-42CB-9957-8C39BD71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A2C-2945-4529-B6E9-BA397BE1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A22-AF26-45AA-9DD8-213DDC03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3F2-096A-483E-90A5-CC9A5C2C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052-C8CC-4578-A60E-D42B30A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476-8035-4C53-84FD-E0AFD41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3FA-490A-422C-BF20-FA5A4AE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C52-2665-4FD3-AA5A-9CC1C35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A0B-AC65-43BD-AB97-4D8BCA9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DAA-75F7-45A4-AD71-D018220C921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lasificaciones de Constitu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3120" y="4357800"/>
            <a:ext cx="52149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898989"/>
                </a:solidFill>
                <a:latin typeface="Calibri"/>
              </a:rPr>
              <a:t>Augusto Quintana Benavi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esor de Derecho Co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Aparente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Material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(o Real) (</a:t>
            </a:r>
            <a:r>
              <a:rPr b="0" i="1" lang="es-CL" sz="3000" spc="-1" strike="noStrike">
                <a:solidFill>
                  <a:srgbClr val="000000"/>
                </a:solidFill>
                <a:latin typeface="Calibri"/>
              </a:rPr>
              <a:t>Ferdinand Lassalle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scrit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uetudinari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3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Brev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ulcras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xtens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Lat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4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Rígi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lexibl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Semirrígidas – Semiflexibl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5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torg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Pact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mocrátic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6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Neutr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Utilitaria) e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Ideológic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rogramátic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7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tiv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minal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Semán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Karl Löwenstein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Histór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igente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9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olí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len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José L. Ce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41:48Z</dcterms:created>
  <dc:creator>FIS.AQB</dc:creator>
  <dc:description/>
  <dc:language>en-US</dc:language>
  <cp:lastModifiedBy>FIS.AQB</cp:lastModifiedBy>
  <dcterms:modified xsi:type="dcterms:W3CDTF">2009-10-02T14:44:18Z</dcterms:modified>
  <cp:revision>5</cp:revision>
  <dc:subject/>
  <dc:title>Clasificaciones de Constituciones</dc:title>
</cp:coreProperties>
</file>