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1BB-1D0A-47AB-9372-51932BB5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695-27A3-462C-9957-8BC21155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A39-3AC1-456B-B610-C4E08A2B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56C6-9E13-406B-8FCA-A938F6A4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862-4B6E-485B-99FE-03F9DFEE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46D-436A-4F08-8315-D89224F4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6A6-B2A8-44ED-B699-9C2F27D3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781-4832-4147-A572-BB8A906F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355-C9E8-47A0-AA9C-0F8995A4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FF34-25C9-4FBF-951C-22C5FCA1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BB6-5909-4592-85B1-DFECC9C7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F80C-EE67-4AA3-8F16-168CC33D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41B3-4C2D-44E0-89B7-FF7115F903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l Fenómeno Constitucional Contemporá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ugusto Quintana Benav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rofesor de Derecho Constitu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Orígenes Hist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Inglaterra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Revolución Gloriosa (1688-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terpretación liberal y conservad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Estados Unidos de América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stitución de Filadelf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“estado social preexistente” (Tocquevil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Francia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claración de los Derechos del Hombre y del Ciudadano (17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Jacobinismo, “voluntad general”, virtud ciudadana y estados de excep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Influencias Filósof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ractualismo anglosaj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h. Hob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J. Loc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Ingeniería Constitucional s. X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h. Montesqu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Hamilton-Madison (“</a:t>
            </a: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Federalist Papers”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ractualismo francé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J.J. Rouss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ractualismo contemporáne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J. Raw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. Gauth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aracterísticas del Constitucionalismo Contemporán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écnica o Pacto para limitar y/o controlar el poder polí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écnica o Pacto para asegurar y promover los derechos fundame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écnica o Pacto para favorecer la “gobernabilidad” de un terri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écnica o Pacto para favorecer la cohesión social y/o el pluralismo y la divers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lelo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Entre el constitucionalismo anglosajón y el europeo continental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s. XIX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Diferencias radicales entre los sistemas jurídic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torno a la supremacía constitucional. Relevancia del caso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Marbury v. Madison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(180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torno a la existencia de una justicia constitu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torno a la exigibilidad de los derech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lelo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Entre el constitucionalismo anglosajón y europeo continental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s. XX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Diferencias relativas entre los sistemas juríd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rol constitucional difuso versus control concent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relación al carácter universal o nacional de los derechos fundamen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relación con poderes supra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lelo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Entre el contractualismo abstracto y el contractualismo constitucional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Constitución se pacta en un momento histórico preciso o determi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Constitución se pacta por y para sujetos concr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Constitución se pacta en un marco territorial espe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S.AQB</cp:lastModifiedBy>
  <dcterms:modified xsi:type="dcterms:W3CDTF">2009-09-04T14:34:4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