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4243-D419-4D77-9EDF-DF6B486B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A0A-18F6-4BFD-A8C8-20781225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CE7C-2AA8-46D7-B707-9DA028E7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A90-787F-42B3-BC48-3A2D39B3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485-C1B4-40A2-9D5C-354076ED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0428-7BEF-4FD2-9182-74C524A5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D74-F6AB-4AF9-B3DC-DB0BF9BF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1107-4D50-40C5-95B9-4C8AE248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ED0-F4B6-46D2-9B7D-22C48644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455-BE4F-43EA-9631-278FFA9A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DEB-200B-42B6-9CA8-2F649994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48E-71A1-46E0-A2D6-4CC66846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834A-070F-49B0-A9C6-6DD5674DED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l Fenómeno Constitucional Contemporán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ugusto Quintana Benav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rofesor de Derecho Constitu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Orígenes Hist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Inglaterra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Revolución Gloriosa (1688-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nterpretación liberal y conservad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Estados Unidos de América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stitución de Filadelf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“estado social preexistente” (Tocquevil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Francia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claración de los Derechos del Hombre y del Ciudadano (17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Jacobinismo, “voluntad general”, virtud ciudadana y estados de excep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Influencias Filósof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tractualismo anglosaj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h. Hobb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J. Loc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Ingeniería Constitucional s. X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h. Montesqu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Hamilton-Madison (“</a:t>
            </a: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Federalist Papers”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tractualismo francé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J.J. Rouss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tractualismo contemporáne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J. Raw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. Gauth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aracterísticas del Constitucionalismo Contemporán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Técnica o Pacto para limitar y/o controlar el poder polí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Técnica o Pacto para asegurar y promover los derechos fundamen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Técnica o Pacto para favorecer la “gobernabilidad” de un territo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Técnica o Pacto para favorecer la cohesión social y/o el pluralismo y la divers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lelo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Entre el constitucionalismo anglosajón y el europeo continental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s. XIX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(Diferencias radicales entre los sistemas jurídic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torno a la supremacía constitucional. Relevancia del caso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Marbury v. Madison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(180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torno a la existencia de una justicia constitu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torno a la exigibilidad de los derech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lelo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Entre el constitucionalismo anglosajón y europeo continental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s. XX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(Diferencias relativas entre los sistemas juríd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trol constitucional difuso versus control concent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relación al carácter universal o nacional de los derechos fundament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relación con poderes supra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lelo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Entre el contractualismo abstracto y el contractualismo constitucional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 Constitución se pacta en un momento histórico preciso o determin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 Constitución se pacta por y para sujetos concr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 Constitución se pacta en un marco territorial espec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IS.AQB</cp:lastModifiedBy>
  <dcterms:modified xsi:type="dcterms:W3CDTF">2009-09-04T14:34:4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