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9975-AF30-469C-BF4C-4D8E243ED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10D8-AD46-4AE0-8118-2B44E3433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31F4-079F-4CB4-B47C-BA75AD9C7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A2F7-2A4B-48FF-BF4E-DEB456FA7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CF93-70F4-46CB-BA1F-60F908A9A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8D4C-CD4F-49E1-9371-03DC969E9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1256-2603-471F-AD10-39F7BF5EB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2B4A-1362-4277-959E-47E8CAA41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780C-8353-4EE2-AC75-E68C37C91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3C31-DE1E-4175-8545-E976D346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2C49-86BD-4B0B-92D7-1D572EA0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AF4A-08F3-42BF-9334-375FB869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59DD0-246B-4E91-B796-37BD5972D22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El Fenómeno Constitucional Contemporáne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432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Augusto Quintana Benav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Profesor de Derecho Constitu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Orígenes Histór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Inglaterra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 Revolución Gloriosa (1688-8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Interpretación liberal y conservado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Estados Unidos de América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Constitución de Filadelf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l “estado social preexistente” (Tocquevil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Francia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Declaración de los Derechos del Hombre y del Ciudadano (178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Jacobinismo, “voluntad general”, virtud ciudadana y estados de excep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Influencias Filósof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Contractualismo anglosaj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Th. Hobb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J. Lock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Ingeniería Constitucional s. XV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Ch. Montesqui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Hamilton-Madison (“</a:t>
            </a:r>
            <a:r>
              <a:rPr b="0" i="1" lang="es-AR" sz="2400" spc="-1" strike="noStrike">
                <a:solidFill>
                  <a:srgbClr val="000000"/>
                </a:solidFill>
                <a:latin typeface="Arial"/>
              </a:rPr>
              <a:t>Federalist Papers”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Contractualismo francé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J.J. Rousse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Contractualismo contemporáne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J. Raw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D. Gauth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Características del Constitucionalismo Contemporáne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Técnica o Pacto para limitar y/o controlar el poder polít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Técnica o Pacto para asegurar y promover los derechos fundament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Técnica o Pacto para favorecer la “gobernabilidad” de un territor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Técnica o Pacto para favorecer la cohesión social y/o el pluralismo y la divers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Paralelo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 u="sng">
                <a:solidFill>
                  <a:srgbClr val="000000"/>
                </a:solidFill>
                <a:uFillTx/>
                <a:latin typeface="Arial"/>
              </a:rPr>
              <a:t>Entre el constitucionalismo anglosajón y el europeo continental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s-AR" sz="3200" spc="-1" strike="noStrike" u="sng">
                <a:solidFill>
                  <a:srgbClr val="000000"/>
                </a:solidFill>
                <a:uFillTx/>
                <a:latin typeface="Arial"/>
              </a:rPr>
              <a:t>s. XIX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(Diferencias radicales entre los sistemas jurídic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En torno a la supremacía constitucional. Relevancia del caso </a:t>
            </a:r>
            <a:r>
              <a:rPr b="0" i="1" lang="es-AR" sz="2800" spc="-1" strike="noStrike">
                <a:solidFill>
                  <a:srgbClr val="000000"/>
                </a:solidFill>
                <a:latin typeface="Arial"/>
              </a:rPr>
              <a:t>Marbury v. Madison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 (1803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En torno a la existencia de una justicia constituci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En torno a la exigibilidad de los derech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Paralelo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 u="sng">
                <a:solidFill>
                  <a:srgbClr val="000000"/>
                </a:solidFill>
                <a:uFillTx/>
                <a:latin typeface="Arial"/>
              </a:rPr>
              <a:t>Entre el constitucionalismo anglosajón y europeo continental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s-AR" sz="3200" spc="-1" strike="noStrike" u="sng">
                <a:solidFill>
                  <a:srgbClr val="000000"/>
                </a:solidFill>
                <a:uFillTx/>
                <a:latin typeface="Arial"/>
              </a:rPr>
              <a:t>s. XX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(Diferencias relativas entre los sistemas jurídico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Control constitucional difuso versus control concentr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En relación al carácter universal o nacional de los derechos fundament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En relación con poderes supranacion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Paralelo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 u="sng">
                <a:solidFill>
                  <a:srgbClr val="000000"/>
                </a:solidFill>
                <a:uFillTx/>
                <a:latin typeface="Arial"/>
              </a:rPr>
              <a:t>Entre el contractualismo abstracto y el contractualismo constitucional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La Constitución se pacta en un momento histórico preciso o determin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La Constitución se pacta por y para sujetos concre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La Constitución se pacta en un marco territorial específ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IS.AQB</cp:lastModifiedBy>
  <dcterms:modified xsi:type="dcterms:W3CDTF">2009-09-04T14:34:45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