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4C8-7B82-4A50-AB61-4310E25F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FBA-C0CB-441B-A865-941E0A43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EB41-5740-49FE-9FDD-9165842C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7AB8-8317-4788-B88E-17AC2DB6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2D6-3175-4BC6-93DE-D51172E7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1F0-A94B-4878-9F6A-E563B7E7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4863-FBC7-42E8-AAB4-35F57661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0B5-9AAF-497A-8292-FB16E0EC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63DB-1BB7-465B-9125-B306EF2E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2FE-11FA-4C9E-A8BB-CF088061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8459-F148-4820-BEAA-E59AB367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FECC-CB5D-429C-A1D1-F6B2A49A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62E3-3C35-4A33-B75A-03C501B8D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IDAD ESTRI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28800" y="1447920"/>
          <a:ext cx="7143480" cy="3400200"/>
        </p:xfrm>
        <a:graphic>
          <a:graphicData uri="http://schemas.openxmlformats.org/drawingml/2006/table">
            <a:tbl>
              <a:tblPr/>
              <a:tblGrid>
                <a:gridCol w="714348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SPONSABILIDAD ESTRICTA, POR RIESGO U OBJE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responsabilidad estricta está establecida por ley (no existe una categoría gene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pretación restringida de la prueba liberatoria en el caso de presunciones de cul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ción de causalidad: elemento determin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abilidad estricta calificada (productos defectuosos y falta de servici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 peligrosas, responsabilidad vicaria, derecho de los consumidores, productos defectuosos, daños ambientale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IDAD ESTRI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28800" y="1562040"/>
          <a:ext cx="7143480" cy="2628720"/>
        </p:xfrm>
        <a:graphic>
          <a:graphicData uri="http://schemas.openxmlformats.org/drawingml/2006/table">
            <a:tbl>
              <a:tblPr/>
              <a:tblGrid>
                <a:gridCol w="714348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SOS CHIL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C: Animales fieros,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as que caen desde un edificio, ruina de edific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hículos motorizados, explotador de aeronaves, plaguicidas, daño ambiental, instalaciones nucle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isitos: a) alcance de la norma; b) relación causal (culpa de la víctima y caso fortui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¿Daño moral, daños punitivos? ¿límit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7:09:32Z</dcterms:created>
  <dc:creator>ASTRID SCHUDECK</dc:creator>
  <dc:description/>
  <dc:language>en-US</dc:language>
  <cp:lastModifiedBy>ASTRID SCHUDECK</cp:lastModifiedBy>
  <dcterms:modified xsi:type="dcterms:W3CDTF">2009-11-05T19:47:09Z</dcterms:modified>
  <cp:revision>6</cp:revision>
  <dc:subject/>
  <dc:title>RESPONSABILIDAD ESTRICTA</dc:title>
</cp:coreProperties>
</file>