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715-E0A6-454A-9872-1B07CF16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C59-F9FF-4819-8654-3C4BD63D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3C8-75FD-4DB2-A396-298507D8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6FC-757C-42A0-8B49-51165541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23C-8A50-4BA1-BFB4-7632C0F2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2ED-EF14-47C6-AB27-92DF7652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A411-67E5-4884-B6D1-52EE8A17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FFA-0A9D-4A9F-858B-860AAE2D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0E4-0200-464A-81E6-1A2AA668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245-DD49-45EB-AFFC-DE1E62AA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2A1-CCBE-4ECB-969C-9DCE3BDA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DAB-06EF-416C-8097-41D51119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F1AE-D7D6-40A2-A1F7-157AE3478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ESTRI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28800" y="1447920"/>
          <a:ext cx="7143480" cy="3400200"/>
        </p:xfrm>
        <a:graphic>
          <a:graphicData uri="http://schemas.openxmlformats.org/drawingml/2006/table">
            <a:tbl>
              <a:tblPr/>
              <a:tblGrid>
                <a:gridCol w="714348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PONSABILIDAD ESTRICTA, POR RIESGO U OBJE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responsabilidad estricta está establecida por ley (no existe una categoría gene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pretación restringida de la prueba liberatoria en el caso de presunciones de cul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ción de causalidad: elemento determin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abilidad estricta calificada (productos defectuosos y falta de servici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 peligrosas, responsabilidad vicaria, derecho de los consumidores, productos defectuosos, daños ambientale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IDAD ESTRI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28800" y="1562040"/>
          <a:ext cx="7143480" cy="2628720"/>
        </p:xfrm>
        <a:graphic>
          <a:graphicData uri="http://schemas.openxmlformats.org/drawingml/2006/table">
            <a:tbl>
              <a:tblPr/>
              <a:tblGrid>
                <a:gridCol w="714348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SOS CHIL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C: Animales fieros, 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as que caen desde un edificio, ruina de edifi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hículos motorizados, explotador de aeronaves, plaguicidas, daño ambiental, instalaciones nucle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isitos: a) alcance de la norma; b) relación causal (culpa de la víctima y caso fortui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¿Daño moral, daños punitivos? ¿límit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7:09:32Z</dcterms:created>
  <dc:creator>ASTRID SCHUDECK</dc:creator>
  <dc:description/>
  <dc:language>en-US</dc:language>
  <cp:lastModifiedBy>ASTRID SCHUDECK</cp:lastModifiedBy>
  <dcterms:modified xsi:type="dcterms:W3CDTF">2009-11-05T19:47:09Z</dcterms:modified>
  <cp:revision>6</cp:revision>
  <dc:subject/>
  <dc:title>RESPONSABILIDAD ESTRICTA</dc:title>
</cp:coreProperties>
</file>