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FE8-8184-4CC7-8F03-2A26A29A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1D4-87A4-4319-8CF3-AF0395C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866-306F-4B1F-AB50-E8F1ABBE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D61-D2A0-4E5F-8D25-D8FA6C72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AEE-B402-449B-9E08-3A661EB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257-8CAA-4A26-B9F7-9B1D26B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1DE-E482-4D02-9294-4479556F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412-4BAC-44E6-9242-80A18E4F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AB7-DE2F-47AF-8361-C0637CBE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05A-8113-413B-9EB9-FED893CA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425-192A-4E85-8808-5A3689C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3E5-8D9E-4C4E-B463-0668FAD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C5DA-8AB0-40B5-A045-A20E0B50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28800" y="1447920"/>
          <a:ext cx="7143480" cy="340020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ABILIDAD ESTRICTA, POR RIESGO U OBJE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sponsabilidad estricta está establecida por ley (no existe una categoría gen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 restringida de la prueba liberatoria en el caso de presunciones de cul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ón de causalidad: elemento determi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estricta calificada (productos defectuosos y falta de servic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 peligrosas, responsabilidad vicaria, derecho de los consumidores, productos defectuosos, daños ambientale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562040"/>
          <a:ext cx="7143480" cy="262872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: Animales fieros,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as que caen desde un edificio, ruina de edif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ículos motorizados, explotador de aeronaves, plaguicidas, daño ambiental, instalaciones nucle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sitos: a) alcance de la norma; b) relación causal (culpa de la víctima y caso fortui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Daño moral, daños punitivos? ¿límit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7:09:32Z</dcterms:created>
  <dc:creator>ASTRID SCHUDECK</dc:creator>
  <dc:description/>
  <dc:language>en-US</dc:language>
  <cp:lastModifiedBy>ASTRID SCHUDECK</cp:lastModifiedBy>
  <dcterms:modified xsi:type="dcterms:W3CDTF">2009-11-05T19:47:09Z</dcterms:modified>
  <cp:revision>6</cp:revision>
  <dc:subject/>
  <dc:title>RESPONSABILIDAD ESTRICTA</dc:title>
</cp:coreProperties>
</file>