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F42FC-9F79-46B0-8CB6-CB0C1E8E1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0476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1A74-4246-4F97-812F-C88FEAF4B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87D64-142E-46B5-9DA3-8B193330E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28788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88996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28788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88996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10461-AFBA-44B0-8982-F73534738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04760"/>
            <a:ext cx="769608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EC4C-0976-4FFE-9908-EFBBB7E23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04760"/>
            <a:ext cx="76960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FD08B-6997-4827-9D67-5854D4C35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FC8B1-DC8F-4D9F-B8E3-D8496A39A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71BF-D9C2-43A8-9073-404774575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696080" cy="374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E4BBC-DDA9-4093-A511-6718C95A3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DD9B-52D4-4383-8AD1-4193B0F15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11A3-0E36-47E9-9F0A-602D70D3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3968D-991C-4E74-8BD1-C0EBA9C19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04760"/>
            <a:ext cx="7696080" cy="38098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761760" y="6095520"/>
            <a:ext cx="1600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0955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4D9A-6CFE-43A4-B6C4-78B6473FE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A120-6327-43B0-ACC6-FCF8926CB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3" name=""/>
          <p:cNvGraphicFramePr/>
          <p:nvPr/>
        </p:nvGraphicFramePr>
        <p:xfrm>
          <a:off x="785880" y="1741320"/>
          <a:ext cx="7500960" cy="2548080"/>
        </p:xfrm>
        <a:graphic>
          <a:graphicData uri="http://schemas.openxmlformats.org/drawingml/2006/table">
            <a:tbl>
              <a:tblPr/>
              <a:tblGrid>
                <a:gridCol w="7500960"/>
              </a:tblGrid>
              <a:tr h="33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NÁLISIS ECONÓMICO DEL DERECH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3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HE PROBLEM OF THE SOCIAL COST, RONALD CO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ISFACCIÒN DE OBJETIVOS DEL MODO MENOS COSTOSO POSI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6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AS SON COSTOS O SUBSID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que medida una norma de responsabilidad evita accidentes o influye en el costo final del servi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9"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999D-CC07-4B97-8CC5-D1E18DE539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 name=""/>
          <p:cNvGraphicFramePr/>
          <p:nvPr/>
        </p:nvGraphicFramePr>
        <p:xfrm>
          <a:off x="785880" y="1643040"/>
          <a:ext cx="7500960" cy="33544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28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TERCI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recho procesal al que deben someterse las par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gla de no responsabilidad-responsabilidad estricta-responsabilidad por cul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centivos para demandar: RE </a:t>
                      </a:r>
                      <a:r>
                        <a:rPr b="0" lang="es-CL" sz="1600" spc="-1" strike="noStrike">
                          <a:solidFill>
                            <a:srgbClr val="000000"/>
                          </a:solidFill>
                          <a:latin typeface="Times New Roman"/>
                          <a:ea typeface="Times New Roman"/>
                        </a:rPr>
                        <a:t>&gt; RC &g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 de adjudicar: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cremento de costos primarios: -R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s reglas de responsabilidad no pueden tener por objeto la redistribución de la riqueza, todos, ricos y pobres, pueden daña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E371-54EF-4CB8-806A-B102E2626E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 name=""/>
          <p:cNvGraphicFramePr/>
          <p:nvPr/>
        </p:nvGraphicFramePr>
        <p:xfrm>
          <a:off x="785880" y="1965240"/>
          <a:ext cx="7500960" cy="246852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FICIENCIA PRODUCTIVA: a) Es imposible producir más cantidad de un bien tras emplear la misma cantidad de recursos; o, b) es imposible producir la misma cantidad de un bien tras emplear menos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PERIORIDAD DE PARETO: Una situación social es óptima cuando no es posible mejorar el bienestar de ninguna persona sin empeorar el de alguien más. S1 es superior a S2 cuando en S1 hay al menos una persona que está mejor en S2 y nadie se encuentra pe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ficiencias: envidia, justicia distributiva, preferencias externa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8"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5033-CE1F-458A-8DFE-DC6C220247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9" name=""/>
          <p:cNvGraphicFramePr/>
          <p:nvPr/>
        </p:nvGraphicFramePr>
        <p:xfrm>
          <a:off x="785880" y="1706400"/>
          <a:ext cx="7500960" cy="22258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ALDOR-HICKS (compensación potencial): cambio social es eficiente si quienes resultan beneficiados ganan más de lo que pierden quienes resultan perjudicados, de modo que los primeros pueden compensar a los segundos. No se requiere efectiva compensación (Pareto superior). Influyen preferencias extern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LABRESI critica superioridad de Pareto en virtud de consideraciones distributivas y de los costos de transacción (problemas de información y racionalidad). Siempre entonces se está en un óptimo de Paret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50" name=""/>
          <p:cNvGraphicFramePr/>
          <p:nvPr/>
        </p:nvGraphicFramePr>
        <p:xfrm>
          <a:off x="822240" y="4365720"/>
          <a:ext cx="7500960" cy="76176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Fenómeno de la contratación se explica en base a la superioridad de Paret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tras figuras pueden explicarse en función del criterio KALDOR-HIC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5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094B-F6AB-4873-BCCC-E7B574332A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 name=""/>
          <p:cNvGraphicFramePr/>
          <p:nvPr/>
        </p:nvGraphicFramePr>
        <p:xfrm>
          <a:off x="785880" y="1741320"/>
          <a:ext cx="7500960" cy="320040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79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SNER (maximización de la riqueza): La riqueza se maximiza cuando los bienes quedan en manos de aquellos que más los valoran, y valora más un bien quien está dispuesto a pagar más por él y puede hacerlo. Criterio compatible con respeto de los derechos individu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 compatible con preferencias irracion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más importante: dependencia de la asignación de derechos de propiedad y de la distribución de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AWLS (justicia como equidad/principio de la diferencia): El aumento de la desigualdad está permitido siempre que mejore la situación de los que menos tienen (movimiento que es Pareto superior en sentido fuer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desigualdad se justifica por un 1 extr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EMA DE COASE</a:t>
            </a:r>
            <a:endParaRPr b="0" lang="en-US" sz="2400" spc="-1" strike="noStrike">
              <a:solidFill>
                <a:srgbClr val="000000"/>
              </a:solidFill>
              <a:latin typeface="Times New Roman"/>
            </a:endParaRPr>
          </a:p>
        </p:txBody>
      </p:sp>
      <p:sp>
        <p:nvSpPr>
          <p:cNvPr id="5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F1D8-25FD-4AF2-9D53-0FAD48041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6" name=""/>
          <p:cNvGraphicFramePr/>
          <p:nvPr/>
        </p:nvGraphicFramePr>
        <p:xfrm>
          <a:off x="785880" y="155736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tección de las víctimas a través de reglas de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igou: Una regla es eficiente cuando el agente dañador equipara su costo marginal al costo marginal social (mediante una indemnización o un impuesto). Si un empresario produce daños por 100 y se establece una regla de responsabilidad estricta, sólo realizará su actividad cuando le reporte beneficios mayores a 100 (intervención esta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eorema de Coase (The Problem of Social Cost): a) Naturaleza recíproca del problema (siempre hay dos partes dañadas, ej. Problemas entre vecinos) b) No siempre es necesaria la intervención estatal, en ausencia de costos de transacción da lo mismo la asignación de derechos de propiedad, el resultado es el mismo (se le asigne el derecho al agricultor o al ganadero, la actividad siempre se detendrá en 2) Las transacciones voluntarias de las partes conducen a una asignación eficiente de recursos c) Cuando existen costos de transacción debe otorgarse el derecho de propiedad a quien más lo valora, transferencias forzadas de derechos mediante reglas de responsabilidad y no de propiedad (se permite realizar la actividad menos valiosa siempre que se compense a las vícti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6960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OREMA DE COASE</a:t>
            </a:r>
            <a:endParaRPr b="0" lang="en-US" sz="2800" spc="-1" strike="noStrike">
              <a:solidFill>
                <a:srgbClr val="000000"/>
              </a:solidFill>
              <a:latin typeface="Times New Roman"/>
            </a:endParaRPr>
          </a:p>
        </p:txBody>
      </p:sp>
      <p:graphicFrame>
        <p:nvGraphicFramePr>
          <p:cNvPr id="58" name=""/>
          <p:cNvGraphicFramePr/>
          <p:nvPr/>
        </p:nvGraphicFramePr>
        <p:xfrm>
          <a:off x="685800" y="1905120"/>
          <a:ext cx="7696080" cy="1884240"/>
        </p:xfrm>
        <a:graphic>
          <a:graphicData uri="http://schemas.openxmlformats.org/drawingml/2006/table">
            <a:tbl>
              <a:tblPr/>
              <a:tblGrid>
                <a:gridCol w="1100160"/>
                <a:gridCol w="1098360"/>
                <a:gridCol w="1100160"/>
                <a:gridCol w="1098720"/>
                <a:gridCol w="1100160"/>
                <a:gridCol w="1098360"/>
                <a:gridCol w="1100160"/>
              </a:tblGrid>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idades de gan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agricul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ganad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margin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0"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D6BD-0EDC-4B7C-87CE-97C06B23F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 name=""/>
          <p:cNvGraphicFramePr/>
          <p:nvPr/>
        </p:nvGraphicFramePr>
        <p:xfrm>
          <a:off x="785880" y="1820880"/>
          <a:ext cx="7500960" cy="31082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9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BJETIVOS: A) Reducción de costos primarios (valor de los accidentes y costo medidas precautorias adoptadas). B) Reducción de costos secundarios o sociales (que sean unos pocos los que carguen con el costo de los accidentes o que lo asuman los que están en peores condiciones de hacerlo). C) Reducción de costos terciarios o administrativos (costos judiciales por ejemp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objetivos deben ser combinados (un objetivo puede perjudicar a otro): </a:t>
                      </a:r>
                      <a:r>
                        <a:rPr b="0" lang="es-CL" sz="1400" spc="-1" strike="noStrike">
                          <a:solidFill>
                            <a:srgbClr val="000000"/>
                          </a:solidFill>
                          <a:latin typeface="Times New Roman"/>
                        </a:rPr>
                        <a:t>Por ejemplo si se establece un seguro estatal que reduce costos sociales, aumentan los costos primarios porque no hay un incentivo para evitar accid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objetivo no es prevenir daños a cualquier costo: nivel razonable (por ejemplo, la sociedad está dispuesta a construir obras que van a generar eventuales dañ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3"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6E30-0F6A-48E6-BF6E-A084CB392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 name=""/>
          <p:cNvGraphicFramePr/>
          <p:nvPr/>
        </p:nvGraphicFramePr>
        <p:xfrm>
          <a:off x="785880" y="150012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PRIMARIOS</a:t>
                      </a:r>
                      <a:endParaRPr b="0" lang="en-US" sz="1600" spc="-1" strike="noStrike">
                        <a:solidFill>
                          <a:srgbClr val="000000"/>
                        </a:solidFill>
                        <a:latin typeface="Arial"/>
                      </a:endParaRPr>
                    </a:p>
                    <a:p>
                      <a:pPr algn="ctr">
                        <a:lnSpc>
                          <a:spcPct val="100000"/>
                        </a:lnSpc>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ISUACIÓN GENERAL O MÉTODO DE MERCADO: Incorporar el costo del accidente al costo de realizar la actividad (externalidades negativas se incluyen en el costo marginal privado del agente). Nadie realizará la actividad causando más perjuicios que beneficios sociales (se confía en la decisión de los individu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e esperan dos tipos de reacciones: a) que los individuos realicen actividades más seguras (andar a pie o en bicicleta); b) que realicen la actividad adoptando medidas precautorias (instalar frenos de mejor calidad o conduzcan lentam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ste objetivo por sí solo no permite reducir los costos secund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B) DISUACIÓN ESPECÍFICA: Se prohíbe o se restringe la actividad (se prohíbe la pirotecnia o sólo se permite a mayores de 18 años, se prohíbe conducir a más de 80 km/h). Se asume que los individuos no saben lo que les conviene y que el deber de indemnizar es insuficiente cuando el costo del accidente es indetermin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6"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8143-60A8-4DF9-BFCD-0EC6CA38B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 name=""/>
          <p:cNvGraphicFramePr/>
          <p:nvPr/>
        </p:nvGraphicFramePr>
        <p:xfrm>
          <a:off x="785880" y="1643040"/>
          <a:ext cx="7500960" cy="35146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SECUND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n razón de la ley de utilidad marginal decreciente es mejor que un daño de 300 lo cargue quien tiene un ingreso de 1000 antes que uno que tiene un ingreso de 700. Un daño de 1000 es mejor que lo soporten 100 individuos que uno so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costo de los accidentes se distribuye entre una mayor cantidad de personas mediante el método de la DISPERSIÓN (ejemplo, seguros general estatal, que incrementa los costos primarios dada la ausencia de incentivos, o haciendo responsable a quienes pueden tomar un seguro a menor costo, a quienes pueden auto-asegurarse o a quienes pueden trasladar el costo de los accidentes a los consumidores mediante un aumento del pre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ISTRIBUCIÓN DEL DAÑO entre los que tienen mayor capacidad contributiva soportarlos (hechos involunt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28:19Z</dcterms:created>
  <dc:creator>PwC</dc:creator>
  <dc:description/>
  <dc:language>en-US</dc:language>
  <cp:lastModifiedBy>Olidata </cp:lastModifiedBy>
  <dcterms:modified xsi:type="dcterms:W3CDTF">2009-11-05T12:41:09Z</dcterms:modified>
  <cp:revision>52</cp:revision>
  <dc:subject/>
  <dc:title>DAÑO</dc:title>
</cp:coreProperties>
</file>