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EE6-356D-448E-A587-AAEBB407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61C-1418-4DDA-8F83-0DD3EC7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9DF-C61D-455D-85BE-6E81EAEC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A81-B79F-4036-B06B-D2D767B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DC1-B2C9-4B6A-BE4E-A231BA3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A1-A89C-4D08-BE97-04CBBC2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9A4-AC63-4DED-8952-0FDFEAD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F9D-7789-4921-AA4F-228C549C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82B-33FF-4A36-91C6-334009A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B65-BD31-4C32-8F45-CB42EC6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073-88D1-45EB-BAC8-FD704F5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C31-57FC-40F7-90E3-8C95A75B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37B-90BC-4894-8173-197243297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POR EL HECHO AJ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28800" y="1689120"/>
          <a:ext cx="7143480" cy="309708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T. 2320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a persona es responsable no sólo de sus propias acciones, sino del hecho de aquellos que estuvieren a su cuid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ién es una responsabilidad por el hecho propio (negligencia en el cuidado y vigila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 culpable del autor y relación de dependencia analizada en el caso concr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 señala casos específicos, arts. 2320, 2321 y 2322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1557360"/>
          <a:ext cx="7143480" cy="260496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ITERIOS JURISPRUDEN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ños causados en el ejercicio o con ocasión de las funciones, incluso en abuso de las 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POR EL HECHO AJ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714680"/>
          <a:ext cx="7143480" cy="344304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sará la obligación de esas personas si con la autoridad y el cuidado que su respectiva calidad les confiere y prescribe, no hubieren podido impedir el h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s necesario demandar al autor de daño. Víctima puede elegir y demandar a cualquiera por el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. 2325 CC: Las personas obligadas a la reparación de los daños causados por las que de ellas depende, tendrán derecho para ser indemnizadas sobre los bienes de éstas, si los hubiere, y si el que perpetró el daño lo hizo sin orden de la persona a quien debe obediencia, y era capaz de delito o cuasidel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REEMBOLSO TOT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8800" y="1714680"/>
          <a:ext cx="7143480" cy="295740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ALEZA JURÍ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PA IN ELIGENDO VEL VIGIL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pa del empresario en elegir, vigilar, dirigir o controlar al empleado causante del d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mente su culpa se pres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liberatoria: con la autoridad y cuidado que su calidad le confiere y prescribe no ha podido impedir el h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 una responsabilidad directa, no subsid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e requiere culpa del dependiente, tampoco es necesario que sea cap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28800" y="1714680"/>
          <a:ext cx="7143480" cy="253188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ALEZA JURÍ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VICARIA, REFLEJA O SUBSTITUTA (CC FRANCÉ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estricta del empresario por el hecho doloso o culposo de sus dependientes. Especie de garante o fi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e le concede al empresario la prueba libe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tima debe probar culpa en el dependiente. Dependiente debe ser cap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sponsabilidad del empresario puede ser directa o subsidi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28800" y="1714680"/>
          <a:ext cx="7143480" cy="240804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ALEZA JURÍ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POR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ulpa del dependiente es irrelevante. El empresario es quien está en mejores condiciones para asumir el costo de los accidentes o distribuirlos entre sus potenciales 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estricta en casos especiales (productos defectuos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28800" y="1413000"/>
          <a:ext cx="7143480" cy="439092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DENAMIENTO JURÍDICO CHIL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S. 2320 Y 2322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lo o culpa del dependiente. Dependiente y empresario deben ser capaces. Prueba de cargo de la víc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nculo de subordinación y dependencia entre dependiente y empres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ño causado en el ejercicio o con ocasión de las funciones del depend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: Omisión en la diligencia exigible en la selección, vigilancia, control y dirección de los empleados. Se concede la prueba libe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ados los requisitos de esta responsabilidad, se presume la culpa del empres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28800" y="1844640"/>
          <a:ext cx="7143480" cy="287964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EMAS PRÁC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es una responsabilidad por la omisión en la vigilancia y control, es una responsabilidad por el hecho propio (Arts. 2314 y 2329 CC) y no por el hecho aj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. 2325 CC no debiera contemplar un derecho a repetición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ítulo del deber de indemnizar en caso de personas juríd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ción del dependiente y prueba de la cul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28800" y="1557360"/>
          <a:ext cx="7143480" cy="360684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ITERIOS JURISPRUDEN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cia una responsabilidad estri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icultad para alegar la prueba liberatoria (no bastan instrucciones generales, sino que se requieren ordenes concretas/instrucciones no fueron suficientes si se produjo el daño-res ipsa loquit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pa in ommittendo: empresario es civilmente responsable de los daños causados por la negligencia de los empleados al no vigilar el estado de las co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pa anónima o difusa, dependiente desconoc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s necesario identificar al dependiente, basta con acreditar que el hecho dañoso no se habría producido sin la culpa o negligencia del depend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28800" y="1557360"/>
          <a:ext cx="7143480" cy="306072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ITERIOS JURISPRUDEN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pa en la organización, culpa empresarial, falta de servicio. La culpa del dependiente es irrelevante, responsabilidad por el hecho propio (responsabilidad por ries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contractual por estipulación a favor de terceros respecto del dependiente a efectos de presumir la cul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Se puede demandar a cualquiera por el total? ¿solidarid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 amplia de la relación de depend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1:24:24Z</dcterms:created>
  <dc:creator>PwC</dc:creator>
  <dc:description/>
  <dc:language>en-US</dc:language>
  <cp:lastModifiedBy>Olidata </cp:lastModifiedBy>
  <dcterms:modified xsi:type="dcterms:W3CDTF">2009-10-27T12:38:22Z</dcterms:modified>
  <cp:revision>20</cp:revision>
  <dc:subject/>
  <dc:title>Slide 1</dc:title>
</cp:coreProperties>
</file>