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74A0-2AF9-47A5-9EC8-777C2FE4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90C3-0121-4A08-87BF-A7EE4F6E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1C5A-7096-4066-B5BE-F209DBC9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88FE-1603-48E5-B498-9C57BB81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D4DB-5CDF-4F04-B470-AE611B37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8747-610A-498E-9204-C5D3EC29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5329-3FB0-40A7-86EA-8414503C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29C8-B5FD-49CD-98B4-66D999E4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6A40-DB5B-481C-ADB2-9975AE69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938F-A6B0-4E58-ACB0-783A3AEC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F8A5-E1A0-4F81-8753-3728111F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2F1-ED15-4EAB-8E81-8473907E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A66C-ADC8-4C41-BFBD-651FBEFF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2356-84ED-46FB-B149-AD50C57F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5006-A9C1-4019-A393-64D3DE53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0BA9-B0BB-4712-A23B-97AB3230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6F72-664C-476B-BF4F-307A2879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678-BEF3-4760-AA6E-F1891785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290-FB4C-4539-A37C-EEAEE855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305-B6CA-420F-96AE-E60CB827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5F3-3186-4506-BAE9-2DE10450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E786-A51C-4FF7-843B-BB9ADAC4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F89-F4AD-49FD-8091-BD610F0C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917-B284-4D20-A32C-33D47560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5385-6300-470A-9F36-8B4644420A6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A949-C3CE-4351-B08F-5875F71F8F84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Times New Roman"/>
              </a:rPr>
              <a:t>Paralelo entre Pr. Intelectual y Pr. Industrial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657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</a:rPr>
              <a:t>Derecho de Au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) Derecho exclusivo y excluy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00"/>
                </a:solidFill>
                <a:uFillTx/>
                <a:latin typeface="Times New Roman"/>
              </a:rPr>
              <a:t>Propiedad Indus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) Derecho exclusivo y excluy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62120" y="4038480"/>
            <a:ext cx="3657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) Duración limitad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4572000" y="4038480"/>
            <a:ext cx="38098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) Duración limitada que difiere según se trate de marcas comerciales, diseños industriales, patentes de invención y modelos de ut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62120" y="3048120"/>
            <a:ext cx="3962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) Equilibrio Interés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úblico/Pri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spcBef>
                <a:spcPts val="1500"/>
              </a:spcBef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648320" y="30481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) Equilibrio Interés público/Pri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 Sujeto protegido: el autor. Sin embargo, también se protege el interés público al determinar los plazos de protección y establecer excep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24280" y="685440"/>
            <a:ext cx="41911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) Sujeto protegido: el creador. Sin embargo, también se protege el interés público al determinar los plazos de protección y establecer excep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685800" y="304812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) Origen del derecho: la Constitución y la ley reconocen un derecho preexistente a través de la “creación de la ob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4724280" y="3048120"/>
            <a:ext cx="38102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) El nacimiento del derecho de propiedad industrial se basa, por regla general, en el “principio registral”, según el cual el derecho no existe sin un registro previo, salvas las excepciones leg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160" y="2282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) La función del registro es accesoria: sólo sirve para la preconstitución de prueba y para el contrato de lic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0" y="1522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) la función del registro es principal, ya que crea el derecho. Además, sirve también para el contrato de lic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33520" y="228600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) El Departamento de Propiedad Intelectual depende de la Dirección de Bibliotecas, Archivos y Museos, M Edu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572000" y="2286000"/>
            <a:ext cx="419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) El Departamento de Propiedad Industrial depende del Ministerio de Economía, Fomento y Reconstrucció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33520" y="43434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8) Es un organismo administra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572000" y="434340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8) Es un órgano administrativo que, ante eventuales oposiciones y nulidades puede trasformarse en tribunal espec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38102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9) Posee protección mund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533520"/>
            <a:ext cx="42670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9) La protección es país por paí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09480" y="3505320"/>
            <a:ext cx="3810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2760" indent="-482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) Las infracciones pueden acarrear penas privativas de libertad y mult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914400" y="1219320"/>
            <a:ext cx="3809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37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Se protegen derechos patrimoniales y mor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09480" y="5105520"/>
            <a:ext cx="3810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2760" indent="-482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1) Porcentaje de multa en beneficio del denunciante o querell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4648320" y="3581280"/>
            <a:ext cx="4190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0) Las infracciones se sancionan únicamente con mult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4876920" y="1219320"/>
            <a:ext cx="4267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8000" indent="-37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) Solo otorga derechos patrimoni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648320" y="5105520"/>
            <a:ext cx="4267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2760" indent="-482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1) Multa íntegramente a     beneficio fisca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914400" y="21337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) Sanción penal y posibilidad de acción civi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876920" y="2209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) Acción penal y civi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33520" y="533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2) Tribunales ordin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876920" y="5335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2) Tribunales especiales para nulidad. Estructura de dos instanc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33520" y="190512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3) Tipos de obras proteg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876920" y="19051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3) Tipos de obras proteg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676520" y="3048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Times New Roman"/>
              </a:rPr>
              <a:t>La distinción por finalidad se atenú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33520" y="41911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4) Caso especial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876920" y="41911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4) ___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33520" y="51814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5) __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876920" y="52578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15) Relevancia instituciones Antimonopol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80880" y="3049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9900"/>
                </a:solidFill>
                <a:latin typeface="Times New Roman"/>
              </a:rPr>
              <a:t>POSIBLES  MODIF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09480" y="1752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Uso no relev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343400" y="17524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 establecería requisito de u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09480" y="274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_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343400" y="28195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e tiende a unificación de procesos de registro y luego a derechos transnaci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3962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_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755640" y="5084640"/>
            <a:ext cx="7777080" cy="1368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OBLEMAS DE CUMPLIMIENTO O “ENFORCEMEN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590920" y="24382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867280" y="54338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® RCoop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20:57:05Z</dcterms:created>
  <dc:creator>Danyel Vega</dc:creator>
  <dc:description/>
  <dc:language>en-US</dc:language>
  <cp:lastModifiedBy>WINDOWS</cp:lastModifiedBy>
  <dcterms:modified xsi:type="dcterms:W3CDTF">2009-08-20T02:47:18Z</dcterms:modified>
  <cp:revision>15</cp:revision>
  <dc:subject/>
  <dc:title>Paralelo entre Pr. Intelectual y Pr. Industrial</dc:title>
</cp:coreProperties>
</file>