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7B2-7E1B-429C-80BC-823ED4A6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BEA-8722-4D30-BEE8-9EEFC73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1A0-7362-4E55-AD36-8AEBFA0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42D-0C89-44B1-B8F8-599996A4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5977-0801-4215-A27C-147E8506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E81-C1CD-40F8-96C8-62CFD31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B202-B17B-469A-AD3F-4FF4025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CDDC-8ED2-4E6E-8F8F-F68A7DE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099A-68F8-4FA9-809B-6A4B0D9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A0BB-4D8C-4BDB-A6F2-D11F659B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365-6F0D-41AD-9187-9FE4AB3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015-B500-4EA2-80CE-B4E0E59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C970-0995-4FFC-8E35-916A3BB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69D-46B8-40A4-8D40-2542901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0814-C845-4042-B7FF-4CBCA3CA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19E4-1B67-440C-AE87-ED61804B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CED3-026C-48B7-8C52-AB0F0612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6F1-07A9-4C4F-BC38-8AB6BE36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907-B3AA-4A6E-A8B3-526EC39D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F36-7C6C-4661-9793-D1E3B037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5A5-AB82-4D74-8633-F6C806A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E2B-168F-4419-BB8C-556D1C1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6CA-FE47-42FC-9E74-ABA9503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912-6350-4614-843F-2A67865C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049-236B-418F-B515-52C3B31088D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45F-D208-496B-A79C-2DE46BED404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Paralelo entre Pr. Intelectual y Pr. Industrial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657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recho de A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Derecho exclusivo y excluy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piedad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Derecho exclusivo y excluy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62120" y="403848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Duración limit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572000" y="4038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Duración limitada que difiere según se trate de marcas comerciales, diseños industriales, patentes de invención y modelo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2120" y="3048120"/>
            <a:ext cx="396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Equilibrio Interés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úblico/Pri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48320" y="3048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Equilibrio Interés público/Pri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Sujeto protegido: el autor. Sin embargo, también se protege el interés público al determinar los plazos de protección y establecer excep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24280" y="68544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Sujeto protegido: el creador. Sin embargo, también se protege el interés público al determinar los plazos de protección y establecer excep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5800" y="304812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Origen del derecho: la Constitución y la ley reconocen un derecho preexistente a través de la “creación de la ob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724280" y="3048120"/>
            <a:ext cx="381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El nacimiento del derecho de propiedad industrial se basa, por regla general, en el “principio registral”, según el cual el derecho no existe sin un registro previo, salvas las excepciones leg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2282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La función del registro es accesoria: sólo sirve para la preconstitución de prueba y para el contrato de lic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52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la función del registro es principal, ya que crea el derecho. Además, sirve también para el contrato de lic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33520" y="22860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) El Departamento de Propiedad Intelectual depende de la Dirección de Bibliotecas, Archivos y Museos, M 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228600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) El Departamento de Propiedad Industrial depende del Ministerio de Economía, Fomento y Reconstruc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3520" y="43434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8) Es un organismo administr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0" y="43434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8) Es un órgano administrativo que, ante eventuales oposiciones y nulidades puede trasformarse en tribunal espe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) Posee protección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5335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) La protección es país por paí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9480" y="3505320"/>
            <a:ext cx="3810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) Las infracciones pueden acarrear penas privativas de libertad y mul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14400" y="12193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Se protegen derechos patrimoniales y m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09480" y="510552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) Porcentaje de multa en beneficio del denunciante o querell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648320" y="3581280"/>
            <a:ext cx="419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) Las infracciones se sancionan únicamente con mul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876920" y="12193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Solo otorga derechos patrimon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648320" y="51055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) Multa íntegramente a     beneficio fisc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91440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) Sanción penal y posibilidad de acción civ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876920" y="2209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) Acción penal y civi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2) Tribunales ordi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8769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2) Tribunales especiales para nulidad. Estructura de dos in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19051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3) Tipos de obras proteg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876920" y="1905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3) Tipos de obras proteg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676520" y="3048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Times New Roman"/>
              </a:rPr>
              <a:t>La distinción por finalidad se atenú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3520" y="4191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4) Caso especia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876920" y="4191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4) 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33520" y="51814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5) 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876920" y="5257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5) Relevancia instituciones Antimonopol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Times New Roman"/>
              </a:rPr>
              <a:t>POSIBLES  MODIF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so no relev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343400" y="17524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establecería requisi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09480" y="274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43400" y="2819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tiende a unificación de procesos de registro y luego a derechos transna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755640" y="5084640"/>
            <a:ext cx="777708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BLEMAS DE CUMPLIMIENTO O “ENFORCEM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90920" y="2438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867280" y="54338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® RCoop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20:57:05Z</dcterms:created>
  <dc:creator>Danyel Vega</dc:creator>
  <dc:description/>
  <dc:language>en-US</dc:language>
  <cp:lastModifiedBy>WINDOWS</cp:lastModifiedBy>
  <dcterms:modified xsi:type="dcterms:W3CDTF">2009-08-20T02:47:18Z</dcterms:modified>
  <cp:revision>15</cp:revision>
  <dc:subject/>
  <dc:title>Paralelo entre Pr. Intelectual y Pr. Industrial</dc:title>
</cp:coreProperties>
</file>