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0BA1-EE82-4A39-8308-7A7E66FF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954E-FAAE-46AD-B404-A22ABCDE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EE53-0426-47CD-BC2D-7AB1F805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12C5-94E6-4AE3-8747-3D25C081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1FD0-3849-4D4D-A4CA-6F395B0F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3ED0-179E-4FA0-A1C6-CCC67EB4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549E-E8DB-4302-8E1B-88C6B39B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37ED-C3AE-446E-97FA-EF0D3E46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A168-58E7-4063-8B9E-4B031DB6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A5C1-0389-4C2D-85E6-25DDAF1A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59D2-3D20-42EA-9246-6BBF5A30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797F-5504-45CC-84EB-5B839842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4BB7-D363-4257-AC40-EFAD2BEE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F39F-BACF-4084-917A-E3F36223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C04C-5BD9-48B2-B97C-8B7247AD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3751-6B79-4301-B1ED-5B9ABA25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B018-268D-4A0B-BB09-A6F3EA82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A4557-042C-42B3-A92A-967D4AFB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6CEAB-B939-4E23-82ED-1638A212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099A9-8701-4932-9B6E-A0EB0316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43F25-0033-4544-863C-20253363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FEAB1-CE35-4C2D-9C78-D5FB9673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DF6F-7F26-41E0-8842-8B552EDC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92BCC-E3E2-4F27-A54E-F0FCD8E0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B67C1-5961-42DD-886B-896BC4DA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3B6E8-931D-46C1-88B5-CBE4A3D9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5C351-D28A-42DC-8178-2CCFF0CE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82B55-26B1-4C2B-9281-0ACFA680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37533-7EBB-4698-BD22-52C867392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DDD56-F796-4698-A173-3234D9F2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06584-5677-4654-A2CE-8E0A03A6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991AE-4C70-44F6-A332-8163E650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744A5-15A0-4CCA-8BDD-467E65D5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4D6D-C4D8-4077-A263-7B820EEB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2649F-F6F0-4E9F-9DF0-69E2A6B9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94078-7182-46C4-AB1B-28735893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43049-7257-4119-B32F-2D561483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0F621-5DA9-4D24-A88A-5A661C0A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61155-E5B2-452B-B9EE-C7D71C19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0D795-8373-44E1-99FC-969ADA27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CF1D5-06B5-4489-8D6F-678FCD72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DCEEC-C747-451E-BAE9-9A64772B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59C45-9511-4915-B2F9-1E607FF9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FCD47-A80D-445D-B6D9-5793C8B8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C9AC-D28C-432E-A3F3-76057276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E6BED-207F-4080-993B-8FB13FF2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4C0CD-33B8-40DB-848D-4FC9BD55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401DB-A311-4E77-9C19-8A4D8B89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EA8E5-B85B-4E58-97BB-FEE15E34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7477F-B449-4A7E-B10A-D59733C5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DD2C6-97F4-4084-ACDE-E7559DB6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B800E-E785-4028-9CBB-56B3B43E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ADC2B-8CFD-47F0-A676-725D7121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977EB-82B8-43EC-87AB-4D18A7D3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196E0-31E0-43BB-B424-42C740CE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C674-13C1-4F55-A24D-AE580063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97F8F-983B-405C-842E-DD5E7AB6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FA817-7284-478C-9128-0186F7A1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48099-6450-4F3F-8AD6-6CD4385F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7D681-0236-4642-A482-4FE59459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1E014-3E6A-4A40-8A20-98212611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3E2BD-7EE7-44DA-B00C-DD1852DF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D7C37-D7B0-4F7B-9779-F0BC29BC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B8979-C9E0-49FB-A048-D168DD3A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F2541-F6B1-442D-8BBB-A8EE6833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F523B-403D-4CB5-927F-29E5B40F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EC9C-AE9B-4ADD-9FA0-E9EB1C2E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28A9F-8381-4CF9-83C9-184EF512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CC6A2-76EA-478A-AE14-13F95E35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F8B99-FB0D-4D48-AD7B-4F8F1428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87548-460C-47F2-B8A7-33DA102C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36EE4-06E8-4A23-954C-CC4BF45F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644EC-671F-4985-8932-83BEA479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BF6FE-2325-468E-BAF6-7C5A0E60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8BC5E-D091-4E65-93F1-EF166F14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5B135-3539-4AEC-9473-F73D3ACF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B5C11-D4DA-4546-ADF4-4E86C6DF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24B8-3ACB-45B3-9A23-96D17A74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419A2-9518-4762-82B4-1ECBE96A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965F3-1849-4A56-8CE3-7999CA25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A664C-6A8D-45C9-8F17-31CAA491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0C16E-322C-4C8C-B2E8-F999115C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D6D76-AA80-411A-BE20-43048F40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823B-1427-4FD0-AE05-DF002769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f6f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caf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3b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caf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2ce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caf0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caf0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8d89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A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96F3-D4B0-46C6-86CB-B82699556CE2}" type="slidenum">
              <a:rPr b="0" lang="es-PA" sz="12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f6f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7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18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20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23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24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caf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25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3b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27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caf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2ce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caf0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caf0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8d89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A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CB48-F0B6-4EED-9570-9DFE46E0DFE8}" type="slidenum">
              <a:rPr b="0" lang="es-PA" sz="12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f6f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caf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3b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caf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17 Forma libre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ccaf0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18 Forma libre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ccaf0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19 Forma libre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5555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20 Forma libre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555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23 Forma libre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555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24 Forma libre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555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25 Forma libre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555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26 Forma libre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555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27 Forma libre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555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28 Forma libre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555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29 Forma libre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555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30 Forma libre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555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31 Forma libre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555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32 Forma libre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555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33 Forma libre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5555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34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5555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35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36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37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38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39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2ce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caf0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caf0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8d89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A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F2F3-C66E-4761-AEA0-30F858B38617}" type="slidenum">
              <a:rPr b="0" lang="es-PA" sz="12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f6f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2ce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caf0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caf0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8d89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A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7565-45A7-49BB-B2E5-B46DE48E441A}" type="slidenum">
              <a:rPr b="0" lang="es-PA" sz="12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f6f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7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5555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18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3b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19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3b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20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3b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23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3b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24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3b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25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3b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26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3b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27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3b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28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3b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2ce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caf0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caf0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8d89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A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2477-7E3F-42F0-B78C-0363FD7EEAC1}" type="slidenum">
              <a:rPr b="0" lang="es-PA" sz="12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f6f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2ce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caf0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caf0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8d89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A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3AC6-2AB3-47B9-8EEB-3529C45C433F}" type="slidenum">
              <a:rPr b="0" lang="es-PA" sz="12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f6f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caf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3b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caf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1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1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19 Grupo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20 Conector recto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23 Conector recto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24 Conector recto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25 Grupo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26 Conector recto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27 Conector recto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28 Conector recto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29 Grupo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30 Conector recto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31 Conector recto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32 Conector recto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2ce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caf0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caf0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8d89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A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30C4-C116-43B6-B5B1-29FD77A089C4}" type="slidenum">
              <a:rPr b="0" lang="es-PA" sz="12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1 Título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-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rbel"/>
              </a:rPr>
              <a:t>Segunda Parte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rbel"/>
              </a:rPr>
              <a:t>Formación del Contrato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rbel"/>
              </a:rPr>
              <a:t>§ 2.El período precontractual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rbel"/>
              </a:rPr>
              <a:t>A. </a:t>
            </a:r>
            <a:r>
              <a:rPr b="0" lang="es-ES" sz="1600" spc="-1" strike="noStrike">
                <a:solidFill>
                  <a:srgbClr val="ffffff"/>
                </a:solidFill>
                <a:latin typeface="Corbel"/>
              </a:rPr>
              <a:t>Obligaciones de información y confidencialidad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rbel"/>
              </a:rPr>
              <a:t>B. </a:t>
            </a:r>
            <a:r>
              <a:rPr b="0" lang="es-ES" sz="1600" spc="-1" strike="noStrike">
                <a:solidFill>
                  <a:srgbClr val="ffffff"/>
                </a:solidFill>
                <a:latin typeface="Corbel"/>
              </a:rPr>
              <a:t>Acuerdos preliminares (Remisión a Derecho Civil VII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rbel"/>
              </a:rPr>
              <a:t>C. </a:t>
            </a:r>
            <a:r>
              <a:rPr b="0" lang="es-ES" sz="1600" spc="-1" strike="noStrike">
                <a:solidFill>
                  <a:srgbClr val="ffffff"/>
                </a:solidFill>
                <a:latin typeface="Corbel"/>
              </a:rPr>
              <a:t>La promesa de celebrar un contrato (Remisión a Derecho Civil VII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rbel"/>
              </a:rPr>
              <a:t>§ 3.Condiciones de validez del contrato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rbel"/>
              </a:rPr>
              <a:t>A. </a:t>
            </a:r>
            <a:r>
              <a:rPr b="0" lang="es-ES" sz="1600" spc="-1" strike="noStrike">
                <a:solidFill>
                  <a:srgbClr val="ffffff"/>
                </a:solidFill>
                <a:latin typeface="Corbel"/>
              </a:rPr>
              <a:t>Capacidad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rbel"/>
              </a:rPr>
              <a:t>(i) Incapacidad absoluta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rbel"/>
              </a:rPr>
              <a:t>(ii) Incapacidad relativa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rbel"/>
              </a:rPr>
              <a:t>(iii) Incapacidades especiales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rbel"/>
              </a:rPr>
              <a:t>B. Co</a:t>
            </a:r>
            <a:r>
              <a:rPr b="0" lang="es-ES" sz="1600" spc="-1" strike="noStrike">
                <a:solidFill>
                  <a:srgbClr val="ffffff"/>
                </a:solidFill>
                <a:latin typeface="Corbel"/>
              </a:rPr>
              <a:t>nsentimiento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rbel"/>
              </a:rPr>
              <a:t>(i) Naturaleza de la voluntad en el contrato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rbel"/>
              </a:rPr>
              <a:t>(ii) Formación del consentimiento (oferta y aceptación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rbel"/>
              </a:rPr>
              <a:t>(iii) La integridad del consentimiento (vicios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rbel"/>
              </a:rPr>
              <a:t>a) </a:t>
            </a:r>
            <a:r>
              <a:rPr b="0" lang="es-ES" sz="1600" spc="-1" strike="noStrike">
                <a:solidFill>
                  <a:srgbClr val="ffffff"/>
                </a:solidFill>
                <a:latin typeface="Corbel"/>
              </a:rPr>
              <a:t>Error. Definición y clasificación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rbel"/>
              </a:rPr>
              <a:t>b) Fuerza. Definición y clasificación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rbel"/>
              </a:rPr>
              <a:t>c) Dolo. Definición y clases. Teorías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rbel"/>
              </a:rPr>
              <a:t>d) Lesión en el derecho chileno. Definición. Casos en los que es aplicable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" dur="150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50" dur="2000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3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3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/>
                                        <p:tgtEl>
                                          <p:spTgt spid="3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3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3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3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3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d6d2ce"/>
                </a:solidFill>
                <a:latin typeface="Consolas"/>
              </a:rPr>
              <a:t>Regulación de la fuerza moral (1456)</a:t>
            </a:r>
            <a:endParaRPr b="0" lang="en-US" sz="3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143000"/>
            <a:ext cx="777240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Su alcance supera los contratos y s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aplica a los actos unilaterales (art. 1007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Corbel"/>
              </a:rPr>
              <a:t>Grav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649"/>
              </a:spcBef>
              <a:buClr>
                <a:srgbClr val="ccaf0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rbel"/>
              </a:rPr>
              <a:t>Produce impresión fuerte en una persona de sano juicio, tomando en cuenta el sexo, la edad y su condición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649"/>
              </a:spcBef>
              <a:buClr>
                <a:srgbClr val="ccaf0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rbel"/>
              </a:rPr>
              <a:t>La amenaza produce real miedo de que se llevará a cabo: </a:t>
            </a:r>
            <a:r>
              <a:rPr b="1" i="1" lang="es-ES" sz="2600" spc="-1" strike="noStrike" u="sng">
                <a:solidFill>
                  <a:srgbClr val="ffffff"/>
                </a:solidFill>
                <a:uFillTx/>
                <a:latin typeface="Corbel"/>
              </a:rPr>
              <a:t>el criterio del código es subjetivo y debe determinarse por el juez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649"/>
              </a:spcBef>
              <a:buClr>
                <a:srgbClr val="ccaf0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rbel"/>
              </a:rPr>
              <a:t>Amenaza de mal futuro, a la persona del que consiente o a otras personas… ¿y a las cosas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-304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A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14400" y="456840"/>
            <a:ext cx="7772400" cy="58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Corbel"/>
              </a:rPr>
              <a:t>Injusta o ilícit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02720" indent="-271440">
              <a:spcBef>
                <a:spcPts val="649"/>
              </a:spcBef>
              <a:buClr>
                <a:srgbClr val="ccaf0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rbel"/>
              </a:rPr>
              <a:t>En el  mal con que se amenaza (Ej. daño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02720" indent="-271440">
              <a:spcBef>
                <a:spcPts val="649"/>
              </a:spcBef>
              <a:buClr>
                <a:srgbClr val="ccaf0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rbel"/>
              </a:rPr>
              <a:t>Casos fronterizos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02720" indent="-271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Corbel"/>
              </a:rPr>
              <a:t>(Ej. amenaza con concurrir a la prensa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buClr>
                <a:srgbClr val="ccaf0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orbel"/>
              </a:rPr>
              <a:t>El límite esta en el abuso del derecho…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i="1" lang="es-ES" sz="2400" spc="-1" strike="noStrike">
                <a:solidFill>
                  <a:srgbClr val="ffffff"/>
                </a:solidFill>
                <a:latin typeface="Corbel"/>
              </a:rPr>
              <a:t>se amenaza con una conducta lícita para conseguir algo a lo que no se tiene derecho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Determinante 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para viciar el consentimient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buClr>
                <a:srgbClr val="ccaf0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rbel"/>
              </a:rPr>
              <a:t>Si desaparece la fuerza, desaparece el contrato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02720" indent="-27144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Actual e inminent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buClr>
                <a:srgbClr val="ccaf0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buClr>
                <a:srgbClr val="ccaf0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-1066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A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762120" y="0"/>
            <a:ext cx="7772400" cy="612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Corbel"/>
              </a:rPr>
              <a:t>¿De quién debe provenir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Art. 1457 habla de cualquier perso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rbel"/>
              </a:rPr>
              <a:t>¿Qué sanción cabe al acto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rbel"/>
              </a:rPr>
              <a:t>obtenido con fuerza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Nulidad relativ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Solo la puede pedir quien fue víctima de la fuerz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La prescripción de la acción empieza a contar desde el día en que la fuerza cesa (1691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La víctima de fuerza puede reclamar indemnización de perjuicios (1687 inc. 1º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d2ce"/>
                </a:solidFill>
                <a:latin typeface="Consolas"/>
              </a:rPr>
              <a:t>Fuerza económica en chile¿?</a:t>
            </a: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d2ce"/>
                </a:solidFill>
                <a:latin typeface="Consolas"/>
              </a:rPr>
              <a:t>Concepto de fuerza</a:t>
            </a: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rbel"/>
              </a:rPr>
              <a:t>la fuerza o violencia, como vicio del consentimiento, </a:t>
            </a:r>
            <a:r>
              <a:rPr b="0" lang="es-ES_tradnl" sz="3000" spc="-1" strike="noStrike" u="sng">
                <a:solidFill>
                  <a:srgbClr val="ffffff"/>
                </a:solidFill>
                <a:uFillTx/>
                <a:latin typeface="Corbel"/>
              </a:rPr>
              <a:t>afecta a la libertad y espontaneidad</a:t>
            </a:r>
            <a:r>
              <a:rPr b="0" lang="es-ES_tradnl" sz="3000" spc="-1" strike="noStrike">
                <a:solidFill>
                  <a:srgbClr val="ffffff"/>
                </a:solidFill>
                <a:latin typeface="Corbel"/>
              </a:rPr>
              <a:t> propia que debe caracterizar a la voluntad para que surta todos los efectos jurídicos que la legislación le atribuy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-144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A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380520"/>
            <a:ext cx="7772400" cy="59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Corbel"/>
              </a:rPr>
              <a:t> “</a:t>
            </a:r>
            <a:r>
              <a:rPr b="1" lang="es-ES_tradnl" sz="3000" spc="-1" strike="noStrike">
                <a:solidFill>
                  <a:srgbClr val="ffffff"/>
                </a:solidFill>
                <a:latin typeface="Corbel"/>
              </a:rPr>
              <a:t>se trata de los </a:t>
            </a:r>
            <a:r>
              <a:rPr b="1" i="1" lang="es-ES_tradnl" sz="3000" spc="-1" strike="noStrike">
                <a:solidFill>
                  <a:srgbClr val="ffffff"/>
                </a:solidFill>
                <a:latin typeface="Corbel"/>
              </a:rPr>
              <a:t>apremios, físicos o morales, que se ejercen sobre una persona, destinados a que preste su consentimiento para la celebración de un acto jurídico”</a:t>
            </a:r>
            <a:r>
              <a:rPr b="1" lang="es-ES_tradnl" sz="3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 u="sng">
                <a:solidFill>
                  <a:srgbClr val="ffffff"/>
                </a:solidFill>
                <a:uFillTx/>
                <a:latin typeface="Corbel"/>
              </a:rPr>
              <a:t>Cabe distinguir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Actos de fuerza del agent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Efectos que esos actos producen la víctim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i="1" lang="es-ES" sz="3000" spc="-1" strike="noStrike">
                <a:solidFill>
                  <a:srgbClr val="ffffff"/>
                </a:solidFill>
                <a:latin typeface="Corbel"/>
              </a:rPr>
              <a:t>Lo que invalida el negocio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es-ES" sz="3000" spc="-1" strike="noStrike">
                <a:solidFill>
                  <a:srgbClr val="ffffff"/>
                </a:solidFill>
                <a:latin typeface="Corbel"/>
              </a:rPr>
              <a:t>es el miedo que esta genera en la víctim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d2ce"/>
                </a:solidFill>
                <a:latin typeface="Consolas"/>
              </a:rPr>
              <a:t>Clasificaciones de la fuerza</a:t>
            </a: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219320"/>
            <a:ext cx="777240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00"/>
                </a:solidFill>
                <a:latin typeface="Corbel"/>
              </a:rPr>
              <a:t>Fuerza física  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(inexistencia de voluntad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224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Corbel"/>
              </a:rPr>
              <a:t>Ej. se tortura a alguien para que firme un contrato; </a:t>
            </a:r>
            <a:r>
              <a:rPr b="0" lang="es-ES" sz="2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Corbel"/>
              </a:rPr>
              <a:t>   se toma su mano y se imprime su huella dactila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224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00"/>
                </a:solidFill>
                <a:latin typeface="Corbel"/>
              </a:rPr>
              <a:t>Fuerza moral 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(vicio del consentimiento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2240" indent="-282960">
              <a:spcBef>
                <a:spcPts val="649"/>
              </a:spcBef>
              <a:buClr>
                <a:srgbClr val="ccaf0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rbel"/>
              </a:rPr>
              <a:t>Es el caso más habitual en tribunal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2240" indent="-282960">
              <a:spcBef>
                <a:spcPts val="649"/>
              </a:spcBef>
              <a:buClr>
                <a:srgbClr val="ccaf0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rbel"/>
              </a:rPr>
              <a:t>Hay voluntad pues existe la posibilidad de rechaz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2240" indent="-282960">
              <a:spcBef>
                <a:spcPts val="649"/>
              </a:spcBef>
              <a:buClr>
                <a:srgbClr val="ccaf0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rbel"/>
              </a:rPr>
              <a:t>El miedo actual acaba imponiéndos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2240" indent="-282960">
              <a:spcBef>
                <a:spcPts val="649"/>
              </a:spcBef>
              <a:buClr>
                <a:srgbClr val="ccaf0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rbel"/>
              </a:rPr>
              <a:t>Hay cosos fronterizo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2240" indent="-282960">
              <a:spcBef>
                <a:spcPts val="649"/>
              </a:spcBef>
              <a:buClr>
                <a:srgbClr val="ccaf0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6d2ce"/>
                </a:solidFill>
                <a:latin typeface="Consolas"/>
              </a:rPr>
              <a:t>Caso nº1 </a:t>
            </a:r>
            <a:br>
              <a:rPr sz="3600"/>
            </a:br>
            <a:r>
              <a:rPr b="0" lang="es-ES" sz="3600" spc="-1" strike="noStrike">
                <a:solidFill>
                  <a:srgbClr val="d6d2ce"/>
                </a:solidFill>
                <a:latin typeface="Consolas"/>
              </a:rPr>
              <a:t>(</a:t>
            </a:r>
            <a:r>
              <a:rPr b="0" lang="en-US" sz="3600" spc="-1" strike="noStrike">
                <a:solidFill>
                  <a:srgbClr val="d6d2ce"/>
                </a:solidFill>
                <a:latin typeface="Consolas"/>
              </a:rPr>
              <a:t>Finiquito. Nulidad por Fuerza)</a:t>
            </a:r>
            <a:endParaRPr b="0" lang="en-US" sz="36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N° Legal Publishing: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30185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rte Suprema, 13/05/2004, 798‑2004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duardo Ernesto Gálvez Rojas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 con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arlos Maurel Willson Cía Ltd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Tipo: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Recurso de Casación en el Fond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-5335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A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304920"/>
            <a:ext cx="7772400" cy="60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1440" indent="-30132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Entre don Eduardo Ernesto Gálvez Rojas, y la agencia de aduanas Carlos Maurel Willson y Cía. Ltda., hay una relación laboral, en la que Don Ernesto se desempeña como auxiliar de aduanas y como contraprestación a efectos del artículo 172, inc. 2º del C. del Trab., ascendía a $ 544.587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ffffff"/>
                </a:solidFill>
                <a:latin typeface="Corbel"/>
              </a:rPr>
              <a:t>Con fecha 14 de noviembre del año 2001, éste fue amonestado pon haber utilizado recursos de la empresa para prestar servicios similares a los comprendidos en el giro de la agencia (transgrediendo el reglamento interno de la misma, que forma parte del contrato de trabajo)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-9144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A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380520"/>
            <a:ext cx="7772400" cy="59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ffffff"/>
                </a:solidFill>
                <a:latin typeface="Corbel"/>
              </a:rPr>
              <a:t>En el mes de enero de 2001, Don Ernesto tomó activa participación en una operación de importación de cigarrillos, recibiendo dos cheques del Banco Santander para el pago de aranceles e impuestos…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PA" sz="3200" spc="-1" strike="noStrike">
                <a:solidFill>
                  <a:srgbClr val="ffffff"/>
                </a:solidFill>
                <a:latin typeface="Corbel"/>
              </a:rPr>
              <a:t>… </a:t>
            </a:r>
            <a:r>
              <a:rPr b="0" lang="es-PA" sz="3200" spc="-1" strike="noStrike">
                <a:solidFill>
                  <a:srgbClr val="ffffff"/>
                </a:solidFill>
                <a:latin typeface="Corbel"/>
              </a:rPr>
              <a:t>pero desatendiendo las instrucciones de la agencia, “no tomó los mínimos cuidados” y se despacharon las mercaderías sin pagar los referidos impuestos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-228960"/>
            <a:ext cx="77724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A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456840"/>
            <a:ext cx="7772400" cy="58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000" spc="-1" strike="noStrike">
                <a:solidFill>
                  <a:srgbClr val="ffffff"/>
                </a:solidFill>
                <a:latin typeface="Corbel"/>
              </a:rPr>
              <a:t>Por tal razón se puso término al contrato de trabajo con anuencia de Don Ernesto, y en aplicación de la causal del artículo 160 Nº 7 del C. Trab., suscribiendo las partes finiquito de la relación laboral, con fecha 08 de febrero del año 2002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000" spc="-1" strike="noStrike">
                <a:solidFill>
                  <a:srgbClr val="ffff00"/>
                </a:solidFill>
                <a:latin typeface="Corbel"/>
              </a:rPr>
              <a:t>	</a:t>
            </a:r>
            <a:r>
              <a:rPr b="0" lang="es-PA" sz="3000" spc="-1" strike="noStrike" u="sng">
                <a:solidFill>
                  <a:srgbClr val="ffff00"/>
                </a:solidFill>
                <a:uFillTx/>
                <a:latin typeface="Corbel"/>
              </a:rPr>
              <a:t>Notas</a:t>
            </a:r>
            <a:r>
              <a:rPr b="0" lang="es-PA" sz="3000" spc="-1" strike="noStrike">
                <a:solidFill>
                  <a:srgbClr val="ffff00"/>
                </a:solidFill>
                <a:latin typeface="Corbe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4d2d0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00"/>
                </a:solidFill>
                <a:latin typeface="Corbe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Corbel"/>
              </a:rPr>
              <a:t>Técnicamente cuando el trabajador admite la causal, se entiende que la relación laboral termina por mutuo consentimiento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4d2d0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00"/>
                </a:solidFill>
                <a:latin typeface="Corbel"/>
              </a:rPr>
              <a:t>	</a:t>
            </a:r>
            <a:r>
              <a:rPr b="0" lang="es-PA" sz="2400" spc="-1" strike="noStrike">
                <a:solidFill>
                  <a:srgbClr val="ffff00"/>
                </a:solidFill>
                <a:latin typeface="Corbel"/>
              </a:rPr>
              <a:t>No hay claridad sobre si en el finiquito se incluyó el pago de las cotizaciones previsionales de los meses de enero y febrero del año 2002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d2ce"/>
                </a:solidFill>
                <a:latin typeface="Consolas"/>
              </a:rPr>
              <a:t>Problema:</a:t>
            </a:r>
            <a:endParaRPr b="0" lang="en-US" sz="4000" spc="-1" strike="noStrike">
              <a:solidFill>
                <a:srgbClr val="d6d2ce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143000"/>
            <a:ext cx="777240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Don Ernesto llega a su oficina de abogados y le pide que examine la situació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¿cree usted que Don Ernesto ha sido violentado en sus derechos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¿qué figura utilizaría usted para revertir la situación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¿Se dan los presupuestos de dicha figura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¿cuál sería su petición en un juicio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Si usted tuviere que defender a la agencia, ¿que argumentos esgrimiría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opia</cp:lastModifiedBy>
  <dcterms:modified xsi:type="dcterms:W3CDTF">2009-09-29T03:45:0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