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32C14-5C12-455A-9CFA-5CB1CFCCF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21CAB-21D2-4375-BCE5-36A3DAB57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BC105-B67F-42D5-B83E-36483AF93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43753-6791-4B77-8CB5-C1E66BE1C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7EE0A-0FF5-4BA6-887A-09E487219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D84A8-24BD-41B5-9F58-CD27CA74D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24145-7E97-4140-A8F8-E44446DF4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0E50A-49D6-41F1-9509-EB1ADF26B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91647-9756-46C6-80C8-348609E52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3C4AA-BBB5-4C05-9258-EA79169B5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7E052-F89E-4529-A620-1FC93D920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009E-EE30-4403-B170-0D57D19C7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92B91-BA74-4E48-98C6-1B369EB3D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37AC5-C825-491A-9770-FD2A791AA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BB573-513A-4308-AC3A-AA52C88FB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B0592-3D73-4680-A27C-F39757C11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5AE9D-4A88-49C8-B16A-A0294468F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03FB7-E4DE-4BE5-B574-2C8915A28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3D5E-C9A6-40B5-8A79-34E7A1A6B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3318D-102C-41CF-8E0E-4F602AF6B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C3CFB-B8FB-456C-930A-9C6EDCE6A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7AEC3-C875-4ED6-9447-1F80224CD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9C4E7-5004-478B-BC40-B127FA035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CA28A-C577-4F7A-ACC7-C9A5A6D17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0f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 name="Freeform 4"/>
            <p:cNvSpPr/>
            <p:nvPr/>
          </p:nvSpPr>
          <p:spPr>
            <a:xfrm>
              <a:off x="0" y="0"/>
              <a:ext cx="7242120" cy="19033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697A-D1C4-4452-8B40-363E9373244C}"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0e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6" name="Freeform 4"/>
            <p:cNvSpPr/>
            <p:nvPr/>
          </p:nvSpPr>
          <p:spPr>
            <a:xfrm>
              <a:off x="0" y="0"/>
              <a:ext cx="8458200" cy="58561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2F45-6085-4A28-A94E-4D3639BA86B4}"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9900"/>
                </a:solidFill>
                <a:latin typeface="Arial"/>
                <a:ea typeface="Times New Roman"/>
              </a:rPr>
              <a:t>Plan de prevención y erradicación del trabajo infantil y adolescente en Chile. Aplicación y eficacia.</a:t>
            </a:r>
            <a:br>
              <a:rPr sz="4800"/>
            </a:br>
            <a:r>
              <a:rPr b="0" lang="es-E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Interrogan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Objetivo General</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Hipótesis</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Título</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6"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aphicFrame>
        <p:nvGraphicFramePr>
          <p:cNvPr id="97" name=""/>
          <p:cNvGraphicFramePr/>
          <p:nvPr/>
        </p:nvGraphicFramePr>
        <p:xfrm>
          <a:off x="684360" y="1844640"/>
          <a:ext cx="7772400" cy="480384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Pregunt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Objetivos específic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Contenid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 </a:t>
            </a:r>
            <a:r>
              <a:rPr b="0" lang="es-ES" sz="2800" spc="-1" strike="noStrike">
                <a:solidFill>
                  <a:srgbClr val="ffffff"/>
                </a:solidFill>
                <a:latin typeface="Tahoma"/>
              </a:rPr>
              <a:t>Matriz de operacionalización de las variables</a:t>
            </a:r>
            <a:endParaRPr b="0" lang="en-US" sz="2800" spc="-1" strike="noStrike">
              <a:solidFill>
                <a:srgbClr val="ffcc00"/>
              </a:solidFill>
              <a:latin typeface="Arial Black"/>
            </a:endParaRPr>
          </a:p>
        </p:txBody>
      </p:sp>
      <p:graphicFrame>
        <p:nvGraphicFramePr>
          <p:cNvPr id="99" name=""/>
          <p:cNvGraphicFramePr/>
          <p:nvPr/>
        </p:nvGraphicFramePr>
        <p:xfrm>
          <a:off x="685800" y="1981080"/>
          <a:ext cx="8062920" cy="3337200"/>
        </p:xfrm>
        <a:graphic>
          <a:graphicData uri="http://schemas.openxmlformats.org/drawingml/2006/table">
            <a:tbl>
              <a:tblPr/>
              <a:tblGrid>
                <a:gridCol w="1943280"/>
                <a:gridCol w="2087280"/>
                <a:gridCol w="2232000"/>
                <a:gridCol w="1800360"/>
              </a:tblGrid>
              <a:tr h="363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Hipótesi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Variabl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Indicador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Fuent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In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Altos índices de trabajo infantil y adolesc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Ineficacia del Plan </a:t>
                      </a:r>
                      <a:r>
                        <a:rPr b="0" lang="es-E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 sobre el trabajo infantil en Chile</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Reformas legales promovidas para el desarrollo del Plan </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Tex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Investigacione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Documen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Material de Internet</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s-E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GAU</cp:lastModifiedBy>
  <dcterms:modified xsi:type="dcterms:W3CDTF">2009-03-29T16:11:05Z</dcterms:modified>
  <cp:revision>22</cp:revision>
  <dc:subject/>
  <dc:title>MATRIZ 1</dc:title>
</cp:coreProperties>
</file>