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3B524-2B85-476E-AD07-EBF199AEA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D4337-D4D7-4713-BE57-C3A9BCD2B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9C5B1-6759-4CC7-BDF1-5B1C1ADE7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68452-5D47-4C39-8CB0-E6C2E4EC1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C08DC-75AC-4A87-8E02-66E2612F9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C4A8F-EDE4-4500-A2F4-9FF9B02DE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876C4-1D25-4790-ABE7-96A6D1C42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F84AB-4A0B-487B-9B97-E3AB91A56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A7D35-4D8B-4B42-99D7-6B9CF28AB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2D288-8205-4722-8531-49D7FCBD7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BE26B-7A20-41A7-AAD9-A66A85577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D60F1-36FF-4552-A355-B57177469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2617-FDEE-4818-A54F-B5E71F2533B3}"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LA REFORMA AGRARIA EN EL GOBIERNO POPULA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98989"/>
                </a:solidFill>
                <a:latin typeface="Calibri"/>
              </a:rPr>
              <a:t>(1970-197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713880"/>
            <a:ext cx="8229600" cy="5411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Jorge Saelzer, Ministro de Agricultura de Jorge Alessandri y terrateniente del sur:</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Calibri"/>
              </a:rPr>
              <a:t>“</a:t>
            </a:r>
            <a:r>
              <a:rPr b="0" i="1" lang="es-ES" sz="3000" spc="-1" strike="noStrike">
                <a:solidFill>
                  <a:srgbClr val="000000"/>
                </a:solidFill>
                <a:latin typeface="Calibri"/>
              </a:rPr>
              <a:t>Creemos que una subdivisión forzada de la tierra, a través de reformas de tipo demagógico sería la ruina del país. Los agricultores no se improvisan y el desarrollo de la agricultura ha rebasado el concepto de una subdivisión general de la unidad agrícola como solución del problema.”</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Nov. 1958)</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428760"/>
            <a:ext cx="8229600" cy="56973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enero de 1959, Fidel Castro entra en La Habana y Kennedy demanda de los gobiernos latinoamericanos “</a:t>
            </a:r>
            <a:r>
              <a:rPr b="0" i="1" lang="es-ES" sz="3200" spc="-1" strike="noStrike">
                <a:solidFill>
                  <a:srgbClr val="000000"/>
                </a:solidFill>
                <a:latin typeface="Calibri"/>
              </a:rPr>
              <a:t>cambios en la distribución del ingreso. Los campesinos se benefician muy poco con el desarrollo económico global y su bajo grado de participación en la vida económica y social es notoria</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500040"/>
            <a:ext cx="8229600" cy="56260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La tesis de la reforma agraria como redistribución de la propiedad de la tierra gana terreno, tanto por presión de la Iglesia, como de EEUU:</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n junio de 1961 los párrocos de la provincia de Aconcagua dirigen una Carta Abierta al Presiden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t>
            </a:r>
            <a:r>
              <a:rPr b="0" i="1" lang="es-ES" sz="3000" spc="-1" strike="noStrike">
                <a:solidFill>
                  <a:srgbClr val="000000"/>
                </a:solidFill>
                <a:latin typeface="Calibri"/>
              </a:rPr>
              <a:t>entendemos  que en una Reforma Agraria debe realizarse una distribución  de la tierra, de tal manera que la posean, también, los que verdaderamente la trabajan</a:t>
            </a:r>
            <a:r>
              <a:rPr b="0" lang="es-ES" sz="3000" spc="-1" strike="noStrike">
                <a:solidFill>
                  <a:srgbClr val="000000"/>
                </a:solidFill>
                <a:latin typeface="Calibri"/>
              </a:rPr>
              <a:t>”</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Junio 1961)</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713880"/>
            <a:ext cx="8229600" cy="54118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junio de 1962 los obispos de Talca (Larraín Errázuriz) y Santiago (Silva Henríquez) inician la Reforma Agraria en las tierras de la Iglesia, distribuyéndola entre los campesinos y entregando su gestión a comités de profesionales integrados mayoritariamente por militantes o simpatizantes del PDC. Los mismos van a integrar, desde 1964, los cuadros directivos de INDA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642600"/>
            <a:ext cx="8229600" cy="548316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honor a la verdad la Iglesia sólo transfiere la gestión del 11% de sus tierras.</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Y no cede la propiedad a los campesinos, sino que cede la tenencia a un régimen “comunitario”, supervisado por los técnicos D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500040"/>
            <a:ext cx="8229600" cy="56260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 principios de 1962 EEUU convoca a una Conferencia Interamericana en Punta del Este, el objeto declarado es cuadrar a los estados latinoamericanos en el ambicioso proyecto reformista de Kennedy…  la moneda de cambio es un generoso de fondo para el desarrollo : “La Alianza para el Progre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713880"/>
            <a:ext cx="8229600" cy="5411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n su objetivo 6º  la Carta de Punta del Este proclama:</a:t>
            </a: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La necesidad de “</a:t>
            </a:r>
            <a:r>
              <a:rPr b="0" i="1" lang="es-ES" sz="3000" spc="-1" strike="noStrike">
                <a:solidFill>
                  <a:srgbClr val="000000"/>
                </a:solidFill>
                <a:latin typeface="Calibri"/>
              </a:rPr>
              <a:t>impulsar programas de Reforma Agraria Integral, orientada a la efectiva transformación de la tierra, con miras a sustituir el régimen de latifundios y minifundios por un sistema justo de propiedad, de tal manera que la tierra constituya para los hombres que la trabajan la base de la estabilidad económica, el fundamento de su progresivo bienestar y la garantía de su libertad y dignidad</a:t>
            </a:r>
            <a:r>
              <a:rPr b="0" lang="es-E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713880"/>
            <a:ext cx="8229600" cy="541188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abril de 1961 la CEPAL convoca en Santiago una conferencia a nivel latinoamericano para discutir la Reforma Agraria.</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unque la derecha chilena sostiene aún su tesis fundamental: reforma agraria sólo como una cuestión de productivid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356760"/>
            <a:ext cx="8229600" cy="576900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t>
            </a:r>
            <a:r>
              <a:rPr b="0" i="1" lang="es-ES" sz="3200" spc="-1" strike="noStrike">
                <a:solidFill>
                  <a:srgbClr val="000000"/>
                </a:solidFill>
                <a:latin typeface="Calibri"/>
              </a:rPr>
              <a:t>tenemos un problema fundamental de producción, que debe ser resuelto. Los agricultores chilenos reconocemos que la tierra tiene la función social de producir. No creemos que la Reforma Agraria deba enfocarse discriminando entre predios, según su superficie: el criterio técnico debe distinguir entre predios bien explotados y mal explotados.</a:t>
            </a:r>
            <a:r>
              <a:rPr b="0" lang="es-E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omingo Godoy Matte, consejero de la S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214200"/>
            <a:ext cx="8229600" cy="5911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gobierno de Alessandri se rinde a la presión y prepara la que será la primera Ley de Reforma Agraria, (ley 15020) aprobada en noviembre de 196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Ya en la discusión parlamentaria los distintos discursos sobre sus fines se asoman con nitide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285480"/>
            <a:ext cx="82296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mundo agrícola chileno desde mediados de los años 40s era un mundo en cri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resentaba baja productividad y rendimientos por habitantes decrecientes desde los años 30.</a:t>
            </a:r>
            <a:endParaRPr b="0" lang="en-US" sz="3200" spc="-1" strike="noStrike">
              <a:solidFill>
                <a:srgbClr val="000000"/>
              </a:solidFill>
              <a:latin typeface="Calibri"/>
            </a:endParaRPr>
          </a:p>
        </p:txBody>
      </p:sp>
      <p:graphicFrame>
        <p:nvGraphicFramePr>
          <p:cNvPr id="44" name=""/>
          <p:cNvGraphicFramePr/>
          <p:nvPr/>
        </p:nvGraphicFramePr>
        <p:xfrm>
          <a:off x="1428840" y="3929040"/>
          <a:ext cx="6095880" cy="1893960"/>
        </p:xfrm>
        <a:graphic>
          <a:graphicData uri="http://schemas.openxmlformats.org/drawingml/2006/table">
            <a:tbl>
              <a:tblPr/>
              <a:tblGrid>
                <a:gridCol w="3071880"/>
                <a:gridCol w="3024000"/>
              </a:tblGrid>
              <a:tr h="37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1910- 19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920-19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930-193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935-194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945-195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5" name="4 CuadroTexto"/>
          <p:cNvSpPr/>
          <p:nvPr/>
        </p:nvSpPr>
        <p:spPr>
          <a:xfrm>
            <a:off x="2786040" y="6000840"/>
            <a:ext cx="47862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asas de crecimiento de la producción agrícol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l proyecto del Gobierno hace hincapié en:</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t>
            </a:r>
            <a:r>
              <a:rPr b="0" i="1" lang="es-ES" sz="3000" spc="-1" strike="noStrike">
                <a:solidFill>
                  <a:srgbClr val="000000"/>
                </a:solidFill>
                <a:latin typeface="Calibri"/>
              </a:rPr>
              <a:t>dar acceso </a:t>
            </a:r>
            <a:r>
              <a:rPr b="0" lang="es-ES" sz="3000" spc="-1" strike="noStrike">
                <a:solidFill>
                  <a:srgbClr val="000000"/>
                </a:solidFill>
                <a:latin typeface="Calibri"/>
              </a:rPr>
              <a:t>(gradual)</a:t>
            </a:r>
            <a:r>
              <a:rPr b="0" i="1" lang="es-ES" sz="3000" spc="-1" strike="noStrike">
                <a:solidFill>
                  <a:srgbClr val="000000"/>
                </a:solidFill>
                <a:latin typeface="Calibri"/>
              </a:rPr>
              <a:t>a la propiedad de la tierra a quienes la trabajan y aumentar la producción agropecuaria y la producción del suelo”.</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La posición democratacristiana es diferente. Crear propiedades familiares y comunitarias:</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t>
            </a:r>
            <a:r>
              <a:rPr b="0" i="1" lang="es-ES" sz="3000" spc="-1" strike="noStrike">
                <a:solidFill>
                  <a:srgbClr val="000000"/>
                </a:solidFill>
                <a:latin typeface="Calibri"/>
              </a:rPr>
              <a:t>Entendemos  propiedad comunitaria la que pertenece en común a quienes la trabajan, de manera que entre todos ellos se forme una comunidad hermana y económica: cada miembro contribuye con su esfuerzo personal al cultivo de la tierra en común y participa del producto de ésta</a:t>
            </a:r>
            <a:r>
              <a:rPr b="0" lang="es-ES"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214200"/>
            <a:ext cx="8229600" cy="5911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ra socialistas y comunistas la cuestión es distin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t>
            </a:r>
            <a:r>
              <a:rPr b="0" i="1" lang="es-ES" sz="3200" spc="-1" strike="noStrike">
                <a:solidFill>
                  <a:srgbClr val="000000"/>
                </a:solidFill>
                <a:latin typeface="Calibri"/>
              </a:rPr>
              <a:t>la reforma agraria debe formar parte del conjunto de un proceso social que implique un cambio en la estructura del poder de un país. Es un elemento que se produce conjuntamente  con el desplazamiento del poder político de unos sectores sociales por otros</a:t>
            </a:r>
            <a:r>
              <a:rPr b="0" lang="es-E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42920"/>
            <a:ext cx="8229600" cy="598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ley 15020 se caracterizó por ser una ley abierta, que atribuyó en el Ejecutivo (vía DFLs) el logro de sus objetivos declarad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reó un Consejo Superior de Fomento Agropecuar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dio concepción jurídica a la “propiedad agrícola famili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dictaron normas sobre asistencia técnica y crediticia, esta última a través de créditos supervisad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Calibri"/>
            </a:endParaRPr>
          </a:p>
        </p:txBody>
      </p:sp>
      <p:sp>
        <p:nvSpPr>
          <p:cNvPr id="74" name=""/>
          <p:cNvSpPr txBox="1"/>
          <p:nvPr/>
        </p:nvSpPr>
        <p:spPr>
          <a:xfrm>
            <a:off x="457200" y="857160"/>
            <a:ext cx="8229600" cy="5268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lessandri, durante su Gobierno expropió sólo 17 grandes propiedades, con 142.000 há en tot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us esfuerzos fueron catalogados de “Reforma de Macetero”, pero dotaron de las herramientas legales para reformar, si el próximo gobierno manifestaba voluntad polí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642600"/>
            <a:ext cx="8229600" cy="5483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i en la campaña de 1958 la Reforma Agraria no había figurado en ninguno de los planes de los candidatos, en 1964 es el tema cent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anto la candidatura de Frei como la de Allende, prometen una “drástica transformación estructural de la agricultu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candidatura de Frei, sin embargo, se mueve todavía entre los conceptos de eficiencia y redistribuc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713880"/>
            <a:ext cx="8229600" cy="54118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propaganda DC recalcó al votante urbano de clase media que la Reforma Agraria significaría mayor producción y productividad con la consiguiente baja de precios de los alimento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 la SOFOFA y la CPC se les prometió que la reforma ampliaría el mercado interno para los productos manufacturados.  La SNA se quedó sola. Sólo hacia 1969 recuperaría el apoyo de los demás asociaciones patronales.</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285480"/>
            <a:ext cx="82296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ra 1968 la modificación del discurso público era tal que se podía escuchar al presidente de la CPC dec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t>
            </a:r>
            <a:r>
              <a:rPr b="0" i="1" lang="es-ES" sz="3200" spc="-1" strike="noStrike">
                <a:solidFill>
                  <a:srgbClr val="000000"/>
                </a:solidFill>
                <a:latin typeface="Calibri"/>
              </a:rPr>
              <a:t>La tierra debe cumplir fundamentalmente su función social en que además de entregar alimento al país, otorgue un efectivo bienestar a quienes la trabajan, de manera que en ella encuentren la auténtica y verdadera dignidad del ser humano</a:t>
            </a:r>
            <a:r>
              <a:rPr b="0" lang="es-E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Benjamín Mat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justifica la reforma en función de argumentos de justicia y evolución soci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t>
            </a:r>
            <a:r>
              <a:rPr b="0" i="1" lang="es-ES" sz="3200" spc="-1" strike="noStrike">
                <a:solidFill>
                  <a:srgbClr val="000000"/>
                </a:solidFill>
                <a:latin typeface="Calibri"/>
              </a:rPr>
              <a:t>La reforma que les propongo garantiza ese derecho </a:t>
            </a:r>
            <a:r>
              <a:rPr b="0" lang="es-ES" sz="3200" spc="-1" strike="noStrike">
                <a:solidFill>
                  <a:srgbClr val="000000"/>
                </a:solidFill>
                <a:latin typeface="Calibri"/>
              </a:rPr>
              <a:t>(de propiedad)</a:t>
            </a:r>
            <a:r>
              <a:rPr b="0" i="1" lang="es-ES" sz="3200" spc="-1" strike="noStrike">
                <a:solidFill>
                  <a:srgbClr val="000000"/>
                </a:solidFill>
                <a:latin typeface="Calibri"/>
              </a:rPr>
              <a:t>, y al mismo tiempo afirma categóricamente su función social y la necesidad de hacerlo accesible a todos. La garantía constitucional que asegura a todos los habitantes el derecho de propiedad resulta una burla si no es accesible a las grandes mayorías</a:t>
            </a: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ensaje, ley 1664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285480"/>
            <a:ext cx="82296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nueva ley fue promulgada el 28 de julio de 1967, como la ley 16.64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t>
            </a:r>
            <a:r>
              <a:rPr b="0" i="1" lang="es-ES" sz="3200" spc="-1" strike="noStrike">
                <a:solidFill>
                  <a:srgbClr val="000000"/>
                </a:solidFill>
                <a:latin typeface="Calibri"/>
              </a:rPr>
              <a:t>se pretende promover de forma simultanea el aumento de la producción y la productividad, mediante una mejor y más justa distribución de la propiedad de la tierra, así como la transformación del campesinado en una fuerza social de carácter dinámico</a:t>
            </a:r>
            <a:r>
              <a:rPr b="0" lang="es-E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Ministerio de Agricultura, 196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Las principales modificaciones a la ley son al régimen de tenencias de tierras y derechos de aguas, así como los presupuestos que autorizan un proceso expropiatori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Introduce además el concepto de “hectáreas de riego básico”  HRB, a fin de determinar la extensión del “derecho de reserva” y la distribución de tierras: “80 HRB”.</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Pero la más discutida de sus disposiciones fue la que creaba los “asentamientos”, especies de cooperativas en que los campesinos debía agruparse antes de entrar en propiedad plena de la tierra, la que hasta entonces sólo gozaban en usufructo. Teóricamente el asentamiento sólo se extendería por 3 años, pero en la realidad muy pocas tierras se entregaron en dominio a los campesinos incrementando su frustración y movilizándolos hacia la izquierd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214200"/>
            <a:ext cx="8229600" cy="5911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xistía amplio consenso respecto de los problemas del agro nacio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ubutilización de los recursos agropecuarios: relacionado a la falta de inversiones, sobre todo en las regiones del centro-sur del paí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47" name=""/>
          <p:cNvGraphicFramePr/>
          <p:nvPr/>
        </p:nvGraphicFramePr>
        <p:xfrm>
          <a:off x="1214280" y="4214880"/>
          <a:ext cx="6096240" cy="1112760"/>
        </p:xfrm>
        <a:graphic>
          <a:graphicData uri="http://schemas.openxmlformats.org/drawingml/2006/table">
            <a:tbl>
              <a:tblPr/>
              <a:tblGrid>
                <a:gridCol w="3048120"/>
                <a:gridCol w="30481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Superficie tot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74.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uperficie cultivab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5.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uperficie regad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8" name="4 CuadroTexto"/>
          <p:cNvSpPr/>
          <p:nvPr/>
        </p:nvSpPr>
        <p:spPr>
          <a:xfrm>
            <a:off x="5643720" y="5715000"/>
            <a:ext cx="1643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hectáre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285480"/>
            <a:ext cx="8229600" cy="5840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reformó también la Constitución, depositando en la Ley los modos de adquirir el dominio, las limitaciones a las facultades de uso y disposición, así como las cargas asociadas al aseguramiento de la función social de la propieda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eliminó también el derecho a ser indemnizado de antemano en el evento de una expropiación y el plazo para enterar íntegramente el pago pasó de 15 a 30 años, fijado en un monto no reajust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214200"/>
            <a:ext cx="8229600" cy="5911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última barrera para hacer efectiva una reforma radical al régimen de propiedad de la tierra en Chile, vendrá dada por la tercera ley de reforma agraria, la ley Aylwin, que modificará la legislación en lo referido a la toma de posesión de los predios expropiables, facilitando enormemente la radicalización del proceso durante la Unidad Popular.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
          <p:cNvSpPr txBox="1"/>
          <p:nvPr/>
        </p:nvSpPr>
        <p:spPr>
          <a:xfrm>
            <a:off x="928800" y="1285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Unidad Popular llegó al poder sin una estrategia de largo plazo, respecto de la agricultura, como la había tenido la DC respecto de cómo ejecutar su Reforma Agrar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gravaba la situación, la diversidad de posiciones dentro de la misma alianz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857160"/>
            <a:ext cx="8229600" cy="5268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riticaba el hecho de que sólo una minoría de los trabajadores agrícolas se convirtieron en asentados: en general medieros e inquilinos de mejor posición. Mientras el grueso de los trabajadores agrícolas fue excluido de los asentamiento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riticaba también lo complejo del proceso expropiatorio (derecho de reserva) y sus limitaciones (inexpropiabilidad de los bienes de capital), lo que lo hacia lento y engorros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estrategia de “Poder Campesino” del Gobierno Popular y el empleo de las nuevas herramientas de la ley Aylwin aceleraron el proceso de reforma agraria.</a:t>
            </a:r>
            <a:br>
              <a:rPr sz="3600"/>
            </a:br>
            <a:br>
              <a:rPr sz="3600"/>
            </a:br>
            <a:r>
              <a:rPr b="0" lang="es-CL" sz="3600" spc="-1" strike="noStrike">
                <a:solidFill>
                  <a:srgbClr val="000000"/>
                </a:solidFill>
                <a:latin typeface="Calibri"/>
              </a:rPr>
              <a:t>Para 1972 el grueso de las propiedades sobre 80 HRB habían sido expropiadas (4.800 de las 5.000 listadas por la COR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unque, en términos generales, el Gobierno respetó el límite de las 80 HRB e incluso favoreció a ese núcleo de medianos propietarios concediéndoles el grueso del crédito público, por sobre el sector reformado.</a:t>
            </a:r>
            <a:br>
              <a:rPr sz="3200"/>
            </a:br>
            <a:br>
              <a:rPr sz="3200"/>
            </a:br>
            <a:r>
              <a:rPr b="0" lang="es-CL" sz="3200" spc="-1" strike="noStrike">
                <a:solidFill>
                  <a:srgbClr val="000000"/>
                </a:solidFill>
                <a:latin typeface="Calibri"/>
              </a:rPr>
              <a:t>Esta política de moderación chocaba con las demandas de los trabajadores agrícolas adscritos a estos explotaciones medianas (inexpropiables), así como a los sectores campesinos menos favorecidos (pequeños inquilinos y afuerin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601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demás la indefinición por parte del Gobierno respecto de qué modelo de propiedad prevalecería (privada familiar, colectiva o colectivizada estatal) produjo más pugnas en el campo entre los sostenedores un una y otr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14000" y="3929040"/>
            <a:ext cx="8443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s sindicatos frecuentemente representaban afinidades políticas distintas (Libertad, PDC; Triunfo Campesino, MAPU; Ranquil, PC), los que pugnaban entre si para liderar el proceso expropiatoria, usualmente a través de las Tomas.</a:t>
            </a:r>
            <a:endParaRPr b="0" lang="en-US" sz="2800" spc="-1" strike="noStrike">
              <a:solidFill>
                <a:srgbClr val="000000"/>
              </a:solidFill>
              <a:latin typeface="Calibri"/>
            </a:endParaRPr>
          </a:p>
        </p:txBody>
      </p:sp>
      <p:sp>
        <p:nvSpPr>
          <p:cNvPr id="90" name=""/>
          <p:cNvSpPr txBox="1"/>
          <p:nvPr/>
        </p:nvSpPr>
        <p:spPr>
          <a:xfrm>
            <a:off x="213840" y="428400"/>
            <a:ext cx="89298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pugna entre sectores se reforzaba por la movilización política del campesinado, agrupado en sus sindicat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91" name=""/>
          <p:cNvGraphicFramePr/>
          <p:nvPr/>
        </p:nvGraphicFramePr>
        <p:xfrm>
          <a:off x="1928880" y="2000160"/>
          <a:ext cx="5214960" cy="1898640"/>
        </p:xfrm>
        <a:graphic>
          <a:graphicData uri="http://schemas.openxmlformats.org/drawingml/2006/table">
            <a:tbl>
              <a:tblPr/>
              <a:tblGrid>
                <a:gridCol w="1100160"/>
                <a:gridCol w="411480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Año</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No. de campesinos sindicalizados.</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4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966</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0.647</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968</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76.356</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970</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40.293</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972</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216.000</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s tierras del sector reformado frecuentemente eran de menor calidad que las tierras “reservadas” y desprovista de los bienes de capital para explotarlas.</a:t>
            </a:r>
            <a:br>
              <a:rPr sz="4000"/>
            </a:br>
            <a:br>
              <a:rPr sz="4000"/>
            </a:br>
            <a:r>
              <a:rPr b="0" lang="es-CL" sz="4000" spc="-1" strike="noStrike">
                <a:solidFill>
                  <a:srgbClr val="000000"/>
                </a:solidFill>
                <a:latin typeface="Calibri"/>
              </a:rPr>
              <a:t>A esto se sumaba la política de control de precios de la autoridad lo que desincentivó la producción agrícola, sobre todo la ganadera.</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stos sectores desfavorecidos, quedaron sujetos a condiciones laborales precarizadas (inflación) y excluidos de los procesos de asentamiento y colectivización.</a:t>
            </a:r>
            <a:br>
              <a:rPr sz="3600"/>
            </a:br>
            <a:br>
              <a:rPr sz="3600"/>
            </a:br>
            <a:r>
              <a:rPr b="0" lang="es-CL" sz="3600" spc="-1" strike="noStrike">
                <a:solidFill>
                  <a:srgbClr val="000000"/>
                </a:solidFill>
                <a:latin typeface="Calibri"/>
              </a:rPr>
              <a:t>Se sumaba a esto las dificultades por mantener la producción de un sector descapitalizado (el reformado) o sin incentivos para producir (el no-reformad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356760"/>
            <a:ext cx="8229600" cy="5769000"/>
          </a:xfrm>
          <a:prstGeom prst="rect">
            <a:avLst/>
          </a:prstGeom>
          <a:noFill/>
          <a:ln w="0">
            <a:noFill/>
          </a:ln>
        </p:spPr>
        <p:txBody>
          <a:bodyPr anchor="t">
            <a:normAutofit/>
          </a:bodyPr>
          <a:p>
            <a:pPr marL="514440" indent="-51444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acentuada concentración de la tierra:</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 </a:t>
            </a:r>
            <a:r>
              <a:rPr b="0" lang="es-ES" sz="3200" spc="-1" strike="noStrike">
                <a:solidFill>
                  <a:srgbClr val="000000"/>
                </a:solidFill>
                <a:latin typeface="Calibri"/>
              </a:rPr>
              <a:t>Chile presentaba una de las peores distribuciones de  la tierra en Latinoamérica </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0" name=""/>
          <p:cNvGraphicFramePr/>
          <p:nvPr/>
        </p:nvGraphicFramePr>
        <p:xfrm>
          <a:off x="857160" y="2357280"/>
          <a:ext cx="7358040" cy="2494080"/>
        </p:xfrm>
        <a:graphic>
          <a:graphicData uri="http://schemas.openxmlformats.org/drawingml/2006/table">
            <a:tbl>
              <a:tblPr/>
              <a:tblGrid>
                <a:gridCol w="2452680"/>
                <a:gridCol w="2452680"/>
                <a:gridCol w="2452680"/>
              </a:tblGrid>
              <a:tr h="642600">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xtensión (há)</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orcentaje de explotacion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orcentaje de la superficie agríco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3.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2.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0-2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00-1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8.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1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1" name="4 CuadroTexto"/>
          <p:cNvSpPr/>
          <p:nvPr/>
        </p:nvSpPr>
        <p:spPr>
          <a:xfrm>
            <a:off x="5367240" y="5000760"/>
            <a:ext cx="29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enso Agropecuario de 195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571320"/>
            <a:ext cx="8229600" cy="5554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principales problemas de la Reforma Agraria durante la UP no fueron, por tanto, legales sino de ejecució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gobierno privilegió la conversión de los </a:t>
            </a:r>
            <a:r>
              <a:rPr b="0" i="1" lang="es-CL" sz="3200" spc="-1" strike="noStrike">
                <a:solidFill>
                  <a:srgbClr val="000000"/>
                </a:solidFill>
                <a:latin typeface="Calibri"/>
              </a:rPr>
              <a:t>asentamientos </a:t>
            </a:r>
            <a:r>
              <a:rPr b="0" lang="es-CL" sz="3200" spc="-1" strike="noStrike">
                <a:solidFill>
                  <a:srgbClr val="000000"/>
                </a:solidFill>
                <a:latin typeface="Calibri"/>
              </a:rPr>
              <a:t>en empresas colectivas de propiedad societaria campesina, o bien en empresas de propiedad estat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intereses de los campesinos asentados frecuentemente chocaban con los de campesinos no beneficiados por los asentamientos de la época previ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99680" y="213840"/>
            <a:ext cx="8358120" cy="6357960"/>
          </a:xfrm>
          <a:prstGeom prst="rect">
            <a:avLst/>
          </a:prstGeom>
          <a:noFill/>
          <a:ln w="0">
            <a:noFill/>
          </a:ln>
        </p:spPr>
        <p:txBody>
          <a:bodyPr anchor="t">
            <a:normAutofit/>
          </a:bodyPr>
          <a:p>
            <a:pPr marL="514440" indent="-51444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bajas en productividad (y a veces en la  producción) contrasta con el crecimiento de la població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El país pasó de exportador neto a importador de recursos agropecuarios.</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3" name=""/>
          <p:cNvGraphicFramePr/>
          <p:nvPr/>
        </p:nvGraphicFramePr>
        <p:xfrm>
          <a:off x="1143000" y="4143240"/>
          <a:ext cx="7215120" cy="731880"/>
        </p:xfrm>
        <a:graphic>
          <a:graphicData uri="http://schemas.openxmlformats.org/drawingml/2006/table">
            <a:tbl>
              <a:tblPr/>
              <a:tblGrid>
                <a:gridCol w="3608280"/>
                <a:gridCol w="36068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1936-193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11.000.000                       (superávi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963-19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124.000.000                         (défici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54" name="4 CuadroTexto"/>
          <p:cNvSpPr/>
          <p:nvPr/>
        </p:nvSpPr>
        <p:spPr>
          <a:xfrm>
            <a:off x="6368400" y="5000760"/>
            <a:ext cx="2009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dólares de 196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285480"/>
            <a:ext cx="8229600" cy="58402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sociado a su pobre desempeño económico, el campo era criticado por su estructura soci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Se basada en la coexistencia de grandes extensiones de tierra, a manos de pocas familias, a veces establecidas desde la Conquista, los latifundios, organizados en estructuras autárquicas, las </a:t>
            </a:r>
            <a:r>
              <a:rPr b="0" i="1" lang="es-ES" sz="3000" spc="-1" strike="noStrike">
                <a:solidFill>
                  <a:srgbClr val="000000"/>
                </a:solidFill>
                <a:latin typeface="Calibri"/>
              </a:rPr>
              <a:t>haciendas</a:t>
            </a:r>
            <a:r>
              <a:rPr b="0" lang="es-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Relacionadas a estas haciendas existian instituciones sociales propias: </a:t>
            </a:r>
            <a:r>
              <a:rPr b="0" i="1" lang="es-ES" sz="3000" spc="-1" strike="noStrike">
                <a:solidFill>
                  <a:srgbClr val="000000"/>
                </a:solidFill>
                <a:latin typeface="Calibri"/>
              </a:rPr>
              <a:t>inquilinos</a:t>
            </a:r>
            <a:r>
              <a:rPr b="0" lang="es-ES" sz="3000" spc="-1" strike="noStrike">
                <a:solidFill>
                  <a:srgbClr val="000000"/>
                </a:solidFill>
                <a:latin typeface="Calibri"/>
              </a:rPr>
              <a:t>, </a:t>
            </a:r>
            <a:r>
              <a:rPr b="0" i="1" lang="es-ES" sz="3000" spc="-1" strike="noStrike">
                <a:solidFill>
                  <a:srgbClr val="000000"/>
                </a:solidFill>
                <a:latin typeface="Calibri"/>
              </a:rPr>
              <a:t>medianeros</a:t>
            </a:r>
            <a:r>
              <a:rPr b="0" lang="es-ES" sz="3000" spc="-1" strike="noStrike">
                <a:solidFill>
                  <a:srgbClr val="000000"/>
                </a:solidFill>
                <a:latin typeface="Calibri"/>
              </a:rPr>
              <a:t>, </a:t>
            </a:r>
            <a:r>
              <a:rPr b="0" i="1" lang="es-ES" sz="3000" spc="-1" strike="noStrike">
                <a:solidFill>
                  <a:srgbClr val="000000"/>
                </a:solidFill>
                <a:latin typeface="Calibri"/>
              </a:rPr>
              <a:t>arrendatarios</a:t>
            </a:r>
            <a:r>
              <a:rPr b="0" lang="es-ES" sz="3000" spc="-1" strike="noStrike">
                <a:solidFill>
                  <a:srgbClr val="000000"/>
                </a:solidFill>
                <a:latin typeface="Calibri"/>
              </a:rPr>
              <a:t>, </a:t>
            </a:r>
            <a:r>
              <a:rPr b="0" i="1" lang="es-ES" sz="3000" spc="-1" strike="noStrike">
                <a:solidFill>
                  <a:srgbClr val="000000"/>
                </a:solidFill>
                <a:latin typeface="Calibri"/>
              </a:rPr>
              <a:t>peones</a:t>
            </a:r>
            <a:r>
              <a:rPr b="0" lang="es-ES" sz="3000" spc="-1" strike="noStrike">
                <a:solidFill>
                  <a:srgbClr val="000000"/>
                </a:solidFill>
                <a:latin typeface="Calibri"/>
              </a:rPr>
              <a:t> y </a:t>
            </a:r>
            <a:r>
              <a:rPr b="0" i="1" lang="es-ES" sz="3000" spc="-1" strike="noStrike">
                <a:solidFill>
                  <a:srgbClr val="000000"/>
                </a:solidFill>
                <a:latin typeface="Calibri"/>
              </a:rPr>
              <a:t>afuerinos</a:t>
            </a:r>
            <a:r>
              <a:rPr b="0" lang="es-E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285480"/>
            <a:ext cx="8229600" cy="5840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Agraria chilena (1958-1973) va a discurrir en un triple discurs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como incentivo a la productivida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como redistribución de la propiedad de la tierr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como liquidación de un orden social calificado de injus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Antecedentes de la Reforma Agraria.</a:t>
            </a:r>
            <a:endParaRPr b="0" lang="en-US" sz="4000" spc="-1" strike="noStrike">
              <a:solidFill>
                <a:srgbClr val="000000"/>
              </a:solidFill>
              <a:latin typeface="Calibri"/>
            </a:endParaRPr>
          </a:p>
        </p:txBody>
      </p:sp>
      <p:pic>
        <p:nvPicPr>
          <p:cNvPr id="58" name="2 Marcador de contenido" descr=""/>
          <p:cNvPicPr/>
          <p:nvPr/>
        </p:nvPicPr>
        <p:blipFill>
          <a:blip r:embed="rId1"/>
          <a:stretch/>
        </p:blipFill>
        <p:spPr>
          <a:xfrm>
            <a:off x="347760" y="1298520"/>
            <a:ext cx="8345520" cy="483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571320"/>
            <a:ext cx="8229600" cy="555444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entro del proyecto de Gobierno de Jorge Alessandri 1958, la Reforma Agraria no era  un tema. Los problemas de la agricultura se enfocan en:</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cceso al crédito.</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Fomento al riego.</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Mejorar la vulnerabilidad social de los pequeños propietari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2T12:44:35Z</dcterms:created>
  <dc:creator>Nando</dc:creator>
  <dc:description/>
  <dc:language>en-US</dc:language>
  <cp:lastModifiedBy>Nando</cp:lastModifiedBy>
  <dcterms:modified xsi:type="dcterms:W3CDTF">2009-11-26T18:16:22Z</dcterms:modified>
  <cp:revision>46</cp:revision>
  <dc:subject/>
  <dc:title>GÉNESIS DE LA REFORMA AGRARIA CHILENA.</dc:title>
</cp:coreProperties>
</file>