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ADF7-0AD3-4DD6-8ED6-DC1ED7885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6C0B1-4D33-4D4E-88CD-E49D0AE91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A8465-F5A1-4BDF-935F-D53734CA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D545D-BCB6-405A-96E1-F7A579E73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D0BC-C10B-4404-94AE-554F27F97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0F07-9B96-44BB-AB8D-F6FBAA015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E875-148B-45CF-8DF7-6BA89EEF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36A5-A67F-4F00-ACEE-23B4CEA0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BD500-60B7-4A41-9132-94F5AC37C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02A31-7C9D-46E0-B76A-5956F929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10F4-9D47-4BD0-93D7-976A71C9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6855B-C437-424B-9BF5-CD6F6E300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0490-BDD5-4397-8029-EFC8A4D2277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REFORMA AGRARIA EN EL GOBIERNO POPUL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1970-19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orge Saelzer, Ministro de Agricultura de Jorge Alessandri y terrateniente del sur:</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a:t>
            </a:r>
            <a:r>
              <a:rPr b="0" i="1" lang="es-ES" sz="3000" spc="-1" strike="noStrike">
                <a:solidFill>
                  <a:srgbClr val="000000"/>
                </a:solidFill>
                <a:latin typeface="Calibri"/>
              </a:rPr>
              <a:t>Creemos que una subdivisión forzada de la tierra, a través de reformas de tipo demagógico sería la ruina del país. Los agricultores no se improvisan y el desarrollo de la agricultura ha rebasado el concepto de una subdivisión general de la unidad agrícola como solución del problema.”</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v. 195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28760"/>
            <a:ext cx="8229600" cy="569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nero de 1959, Fidel Castro entra en La Habana y Kennedy demanda de los gobiernos latinoamericanos “</a:t>
            </a:r>
            <a:r>
              <a:rPr b="0" i="1" lang="es-ES" sz="3200" spc="-1" strike="noStrike">
                <a:solidFill>
                  <a:srgbClr val="000000"/>
                </a:solidFill>
                <a:latin typeface="Calibri"/>
              </a:rPr>
              <a:t>cambios en la distribución del ingreso. Los campesinos se benefician muy poco con el desarrollo económico global y su bajo grado de participación en la vida económica y social es notori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tesis de la reforma agraria como redistribución de la propiedad de la tierra gana terreno, tanto por presión de la Iglesia, como de EEU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junio de 1961 los párrocos de la provincia de Aconcagua dirigen una Carta Abierta al Presid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que en una Reforma Agraria debe realizarse una distribución  de la tierra, de tal manera que la posean, también, los que verdaderamente la trabajan</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unio 196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junio de 1962 los obispos de Talca (Larraín Errázuriz) y Santiago (Silva Henríquez) inician la Reforma Agraria en las tierras de la Iglesia, distribuyéndola entre los campesinos y entregando su gestión a comités de profesionales integrados mayoritariamente por militantes o simpatizantes del PDC. Los mismos van a integrar, desde 1964, los cuadros directivos de IND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642600"/>
            <a:ext cx="8229600" cy="548316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honor a la verdad la Iglesia sólo transfiere la gestión del 11% de sus tierra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no cede la propiedad a los campesinos, sino que cede la tenencia a un régimen “comunitario”, supervisado por los técnicos D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00040"/>
            <a:ext cx="8229600" cy="5626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principios de 1962 EEUU convoca a una Conferencia Interamericana en Punta del Este, el objeto declarado es cuadrar a los estados latinoamericanos en el ambicioso proyecto reformista de Kennedy…  la moneda de cambio es un generoso de fondo para el desarrollo : “La Alianza para el Pro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713880"/>
            <a:ext cx="8229600" cy="5411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u objetivo 6º  la Carta de Punta del Este proclama:</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necesidad de “</a:t>
            </a:r>
            <a:r>
              <a:rPr b="0" i="1" lang="es-ES" sz="3000" spc="-1" strike="noStrike">
                <a:solidFill>
                  <a:srgbClr val="000000"/>
                </a:solidFill>
                <a:latin typeface="Calibri"/>
              </a:rPr>
              <a:t>impulsar programas de Reforma Agraria Integral, orientada a la efectiva transformación de la tierra, con miras a sustituir el régimen de latifundios y minifundios por un sistema justo de propiedad, de tal manera que la tierra constituya para los hombres que la trabajan la base de la estabilidad económica, el fundamento de su progresivo bienestar y la garantía de su libertad y dignidad</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abril de 1961 la CEPAL convoca en Santiago una conferencia a nivel latinoamericano para discutir la Reforma Agraria.</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unque la derecha chilena sostiene aún su tesis fundamental: reforma agraria sólo como una cuestión de productiv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229600" cy="57690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tenemos un problema fundamental de producción, que debe ser resuelto. Los agricultores chilenos reconocemos que la tierra tiene la función social de producir. No creemos que la Reforma Agraria deba enfocarse discriminando entre predios, según su superficie: el criterio técnico debe distinguir entre predios bien explotados y mal explotados.</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mingo Godoy Matte, consejero de la S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gobierno de Alessandri se rinde a la presión y prepara la que será la primera Ley de Reforma Agraria, (ley 15020) aprobada en noviembre de 19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a en la discusión parlamentaria los distintos discursos sobre sus fines se asoman con nitide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mundo agrícola chileno desde mediados de los años 40s era un mundo e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aba baja productividad y rendimientos por habitantes decrecientes desde los años 30.</a:t>
            </a:r>
            <a:endParaRPr b="0" lang="en-US" sz="3200" spc="-1" strike="noStrike">
              <a:solidFill>
                <a:srgbClr val="000000"/>
              </a:solidFill>
              <a:latin typeface="Calibri"/>
            </a:endParaRPr>
          </a:p>
        </p:txBody>
      </p:sp>
      <p:graphicFrame>
        <p:nvGraphicFramePr>
          <p:cNvPr id="44" name=""/>
          <p:cNvGraphicFramePr/>
          <p:nvPr/>
        </p:nvGraphicFramePr>
        <p:xfrm>
          <a:off x="1428840" y="3929040"/>
          <a:ext cx="6095880" cy="1893960"/>
        </p:xfrm>
        <a:graphic>
          <a:graphicData uri="http://schemas.openxmlformats.org/drawingml/2006/table">
            <a:tbl>
              <a:tblPr/>
              <a:tblGrid>
                <a:gridCol w="3071880"/>
                <a:gridCol w="302400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10- 19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20-19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0-19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5-19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45-195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5" name="4 CuadroTexto"/>
          <p:cNvSpPr/>
          <p:nvPr/>
        </p:nvSpPr>
        <p:spPr>
          <a:xfrm>
            <a:off x="2786040" y="6000840"/>
            <a:ext cx="47862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sas de crecimiento de la producción agrícol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 proyecto del Gobierno hace hincapié en:</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dar acceso </a:t>
            </a:r>
            <a:r>
              <a:rPr b="0" lang="es-ES" sz="3000" spc="-1" strike="noStrike">
                <a:solidFill>
                  <a:srgbClr val="000000"/>
                </a:solidFill>
                <a:latin typeface="Calibri"/>
              </a:rPr>
              <a:t>(gradual)</a:t>
            </a:r>
            <a:r>
              <a:rPr b="0" i="1" lang="es-ES" sz="3000" spc="-1" strike="noStrike">
                <a:solidFill>
                  <a:srgbClr val="000000"/>
                </a:solidFill>
                <a:latin typeface="Calibri"/>
              </a:rPr>
              <a:t>a la propiedad de la tierra a quienes la trabajan y aumentar la producción agropecuaria y la producción del suelo”.</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posición democratacristiana es diferente. Crear propiedades familiares y comunitarias:</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propiedad comunitaria la que pertenece en común a quienes la trabajan, de manera que entre todos ellos se forme una comunidad hermana y económica: cada miembro contribuye con su esfuerzo personal al cultivo de la tierra en común y participa del producto de ésta</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socialistas y comunistas la cuestión es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agraria debe formar parte del conjunto de un proceso social que implique un cambio en la estructura del poder de un país. Es un elemento que se produce conjuntamente  con el desplazamiento del poder político de unos sectores sociales por otro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42920"/>
            <a:ext cx="8229600" cy="598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ley 15020 se caracterizó por ser una ley abierta, que atribuyó en el Ejecutivo (vía DFLs) el logro de sus objetivos declar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reó un Consejo Superior de Fomento Agropecu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o concepción jurídica a la “propiedad agrícola famili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ctaron normas sobre asistencia técnica y crediticia, esta última a través de créditos supervis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ssandri, durante su Gobierno expropió sólo 17 grandes propiedades, con 142.000 há en to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s esfuerzos fueron catalogados de “Reforma de Macetero”, pero dotaron de las herramientas legales para reformar, si el próximo gobierno manifestaba voluntad polí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en la campaña de 1958 la Reforma Agraria no había figurado en ninguno de los planes de los candidatos, en 1964 es el tema 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anto la candidatura de Frei como la de Allende, prometen una “drástica transformación estructural de la agricul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ndidatura de Frei, sin embargo, se mueve todavía entre los conceptos de eficiencia y redistribu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propaganda DC recalcó al votante urbano de clase media que la Reforma Agraria significaría mayor producción y productividad con la consiguiente baja de precios de los alimen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la SOFOFA y la CPC se les prometió que la reforma ampliaría el mercado interno para los productos manufacturados.  La SNA se quedó sola. Sólo hacia 1969 recuperaría el apoyo de los demás asociaciones patronal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1968 la modificación del discurso público era tal que se podía escuchar al presidente de la CPC dec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tierra debe cumplir fundamentalmente su función social en que además de entregar alimento al país, otorgue un efectivo bienestar a quienes la trabajan, de manera que en ella encuentren la auténtica y verdadera dignidad del ser human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enjamín Ma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justifica la reforma en función de argumentos de justicia y evolución so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que les propongo garantiza ese derecho </a:t>
            </a:r>
            <a:r>
              <a:rPr b="0" lang="es-ES" sz="3200" spc="-1" strike="noStrike">
                <a:solidFill>
                  <a:srgbClr val="000000"/>
                </a:solidFill>
                <a:latin typeface="Calibri"/>
              </a:rPr>
              <a:t>(de propiedad)</a:t>
            </a:r>
            <a:r>
              <a:rPr b="0" i="1" lang="es-ES" sz="3200" spc="-1" strike="noStrike">
                <a:solidFill>
                  <a:srgbClr val="000000"/>
                </a:solidFill>
                <a:latin typeface="Calibri"/>
              </a:rPr>
              <a:t>, y al mismo tiempo afirma categóricamente su función social y la necesidad de hacerlo accesible a todos. La garantía constitucional que asegura a todos los habitantes el derecho de propiedad resulta una burla si no es accesible a las grandes mayoría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nsaje, ley 166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nueva ley fue promulgada el 28 de julio de 1967, como la ley 16.6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se pretende promover de forma simultanea el aumento de la producción y la productividad, mediante una mejor y más justa distribución de la propiedad de la tierra, así como la transformación del campesinado en una fuerza social de carácter dinámic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inisterio de Agricultura, 196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s principales modificaciones a la ley son al régimen de tenencias de tierras y derechos de aguas, así como los presupuestos que autorizan un proceso expropiatori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Introduce además el concepto de “hectáreas de riego básico”  HRB, a fin de determinar la extensión del “derecho de reserva” y la distribución de tierras: “80 HR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Pero la más discutida de sus disposiciones fue la que creaba los “asentamientos”, especies de cooperativas en que los campesinos debía agruparse antes de entrar en propiedad plena de la tierra, la que hasta entonces sólo gozaban en usufructo. Teóricamente el asentamiento sólo se extendería por 3 años, pero en la realidad muy pocas tierras se entregaron en dominio a los campesinos incrementando su frustración y movilizándolos hacia la izquierd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istía amplio consenso respecto de los problemas del agro n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butilización de los recursos agropecuarios: relacionado a la falta de inversiones, sobre todo en las regiones del centro-sur del paí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7" name=""/>
          <p:cNvGraphicFramePr/>
          <p:nvPr/>
        </p:nvGraphicFramePr>
        <p:xfrm>
          <a:off x="1214280" y="4214880"/>
          <a:ext cx="6096240" cy="11127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uperficie 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4.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cultivab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rega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8" name="4 CuadroTexto"/>
          <p:cNvSpPr/>
          <p:nvPr/>
        </p:nvSpPr>
        <p:spPr>
          <a:xfrm>
            <a:off x="5643720" y="5715000"/>
            <a:ext cx="1643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hectár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reformó también la Constitución, depositando en la Ley los modos de adquirir el dominio, las limitaciones a las facultades de uso y disposición, así como las cargas asociadas al aseguramiento de la función social de la propie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eliminó también el derecho a ser indemnizado de antemano en el evento de una expropiación y el plazo para enterar íntegramente el pago pasó de 15 a 30 años, fijado en un monto no reajus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14200"/>
            <a:ext cx="8229600" cy="591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última barrera para hacer efectiva una reforma radical al régimen de propiedad de la tierra en Chile, vendrá dada por la tercera ley de reforma agraria, la ley Aylwin, que modificará la legislación en lo referido a la toma de posesión de los predios expropiables, facilitando enormemente la radicalización del proceso durante la Unidad Popula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92880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 llegó al poder sin una estrategia de largo plazo, respecto de la agricultura, como la había tenido la DC respecto de cómo ejecutar su Reforma Agr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gravaba la situación, la diversidad de posiciones dentro de la misma a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857160"/>
            <a:ext cx="8229600" cy="5268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el hecho de que sólo una minoría de los trabajadores agrícolas se convirtieron en asentados: en general medieros e inquilinos de mejor posición. Mientras el grueso de los trabajadores agrícolas fue excluido de los asentamiento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también lo complejo del proceso expropiatorio (derecho de reserva) y sus limitaciones (inexpropiabilidad de los bienes de capital), lo que lo hacia lento y engorro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estrategia de “Poder Campesino” del Gobierno Popular y el empleo de las nuevas herramientas de la ley Aylwin aceleraron el proceso de reforma agraria.</a:t>
            </a:r>
            <a:br>
              <a:rPr sz="3600"/>
            </a:br>
            <a:br>
              <a:rPr sz="3600"/>
            </a:br>
            <a:r>
              <a:rPr b="0" lang="es-CL" sz="3600" spc="-1" strike="noStrike">
                <a:solidFill>
                  <a:srgbClr val="000000"/>
                </a:solidFill>
                <a:latin typeface="Calibri"/>
              </a:rPr>
              <a:t>Para 1972 el grueso de las propiedades sobre 80 HRB habían sido expropiadas (4.800 de las 5.000 listadas por la CO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unque, en términos generales, el Gobierno respetó el límite de las 80 HRB e incluso favoreció a ese núcleo de medianos propietarios concediéndoles el grueso del crédito público, por sobre el sector reformado.</a:t>
            </a:r>
            <a:br>
              <a:rPr sz="3200"/>
            </a:br>
            <a:br>
              <a:rPr sz="3200"/>
            </a:br>
            <a:r>
              <a:rPr b="0" lang="es-CL" sz="3200" spc="-1" strike="noStrike">
                <a:solidFill>
                  <a:srgbClr val="000000"/>
                </a:solidFill>
                <a:latin typeface="Calibri"/>
              </a:rPr>
              <a:t>Esta política de moderación chocaba con las demandas de los trabajadores agrícolas adscritos a estos explotaciones medianas (inexpropiables), así como a los sectores campesinos menos favorecidos (pequeños inquilinos y afueri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demás la indefinición por parte del Gobierno respecto de qué modelo de propiedad prevalecería (privada familiar, colectiva o colectivizada estatal) produjo más pugnas en el campo entre los sostenedores un una y ot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 y="3929040"/>
            <a:ext cx="8443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sindicatos frecuentemente representaban afinidades políticas distintas (Libertad, PDC; Triunfo Campesino, MAPU; Ranquil, PC), los que pugnaban entre si para liderar el proceso expropiatoria, usualmente a través de las Tomas.</a:t>
            </a:r>
            <a:endParaRPr b="0" lang="en-US" sz="2800" spc="-1" strike="noStrike">
              <a:solidFill>
                <a:srgbClr val="000000"/>
              </a:solidFill>
              <a:latin typeface="Calibri"/>
            </a:endParaRPr>
          </a:p>
        </p:txBody>
      </p:sp>
      <p:sp>
        <p:nvSpPr>
          <p:cNvPr id="90" name=""/>
          <p:cNvSpPr txBox="1"/>
          <p:nvPr/>
        </p:nvSpPr>
        <p:spPr>
          <a:xfrm>
            <a:off x="213840" y="428400"/>
            <a:ext cx="89298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ugna entre sectores se reforzaba por la movilización política del campesinado, agrupado en sus sindica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1" name=""/>
          <p:cNvGraphicFramePr/>
          <p:nvPr/>
        </p:nvGraphicFramePr>
        <p:xfrm>
          <a:off x="1928880" y="2000160"/>
          <a:ext cx="5214960" cy="1898640"/>
        </p:xfrm>
        <a:graphic>
          <a:graphicData uri="http://schemas.openxmlformats.org/drawingml/2006/table">
            <a:tbl>
              <a:tblPr/>
              <a:tblGrid>
                <a:gridCol w="1100160"/>
                <a:gridCol w="411480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ño</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 de campesinos sindicalizado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0.647</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6.35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40.293</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6.00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s tierras del sector reformado frecuentemente eran de menor calidad que las tierras “reservadas” y desprovista de los bienes de capital para explotarlas.</a:t>
            </a:r>
            <a:br>
              <a:rPr sz="4000"/>
            </a:br>
            <a:br>
              <a:rPr sz="4000"/>
            </a:br>
            <a:r>
              <a:rPr b="0" lang="es-CL" sz="4000" spc="-1" strike="noStrike">
                <a:solidFill>
                  <a:srgbClr val="000000"/>
                </a:solidFill>
                <a:latin typeface="Calibri"/>
              </a:rPr>
              <a:t>A esto se sumaba la política de control de precios de la autoridad lo que desincentivó la producción agrícola, sobre todo la ganader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stos sectores desfavorecidos, quedaron sujetos a condiciones laborales precarizadas (inflación) y excluidos de los procesos de asentamiento y colectivización.</a:t>
            </a:r>
            <a:br>
              <a:rPr sz="3600"/>
            </a:br>
            <a:br>
              <a:rPr sz="3600"/>
            </a:br>
            <a:r>
              <a:rPr b="0" lang="es-CL" sz="3600" spc="-1" strike="noStrike">
                <a:solidFill>
                  <a:srgbClr val="000000"/>
                </a:solidFill>
                <a:latin typeface="Calibri"/>
              </a:rPr>
              <a:t>Se sumaba a esto las dificultades por mantener la producción de un sector descapitalizado (el reformado) o sin incentivos para producir (el no-reformad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56760"/>
            <a:ext cx="8229600" cy="5769000"/>
          </a:xfrm>
          <a:prstGeom prst="rect">
            <a:avLst/>
          </a:prstGeom>
          <a:noFill/>
          <a:ln w="0">
            <a:noFill/>
          </a:ln>
        </p:spPr>
        <p:txBody>
          <a:bodyPr anchor="t">
            <a:normAutofit/>
          </a:bodyPr>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acentuada concentración de la tierra:</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Chile presentaba una de las peores distribuciones de  la tierra en Latinoamérica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857160" y="2357280"/>
          <a:ext cx="7358040" cy="2494080"/>
        </p:xfrm>
        <a:graphic>
          <a:graphicData uri="http://schemas.openxmlformats.org/drawingml/2006/table">
            <a:tbl>
              <a:tblPr/>
              <a:tblGrid>
                <a:gridCol w="2452680"/>
                <a:gridCol w="2452680"/>
                <a:gridCol w="2452680"/>
              </a:tblGrid>
              <a:tr h="64260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xtensión (há)</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explotacio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la superficie agríc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0-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0-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4 CuadroTexto"/>
          <p:cNvSpPr/>
          <p:nvPr/>
        </p:nvSpPr>
        <p:spPr>
          <a:xfrm>
            <a:off x="5367240" y="5000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nso Agropecuario de 195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rincipales problemas de la Reforma Agraria durante la UP no fueron, por tanto, legales sino de ejecu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bierno privilegió la conversión de los </a:t>
            </a:r>
            <a:r>
              <a:rPr b="0" i="1" lang="es-CL" sz="3200" spc="-1" strike="noStrike">
                <a:solidFill>
                  <a:srgbClr val="000000"/>
                </a:solidFill>
                <a:latin typeface="Calibri"/>
              </a:rPr>
              <a:t>asentamientos </a:t>
            </a:r>
            <a:r>
              <a:rPr b="0" lang="es-CL" sz="3200" spc="-1" strike="noStrike">
                <a:solidFill>
                  <a:srgbClr val="000000"/>
                </a:solidFill>
                <a:latin typeface="Calibri"/>
              </a:rPr>
              <a:t>en empresas colectivas de propiedad societaria campesina, o bien en empresas de propiedad esta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intereses de los campesinos asentados frecuentemente chocaban con los de campesinos no beneficiados por los asentamientos de la época prev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99680" y="213840"/>
            <a:ext cx="8358120" cy="635796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bajas en productividad (y a veces en la  producción) contrasta con el crecimiento de la pobl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l país pasó de exportador neto a importador de recursos agropecuario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3" name=""/>
          <p:cNvGraphicFramePr/>
          <p:nvPr/>
        </p:nvGraphicFramePr>
        <p:xfrm>
          <a:off x="1143000" y="4143240"/>
          <a:ext cx="7215120" cy="731880"/>
        </p:xfrm>
        <a:graphic>
          <a:graphicData uri="http://schemas.openxmlformats.org/drawingml/2006/table">
            <a:tbl>
              <a:tblPr/>
              <a:tblGrid>
                <a:gridCol w="3608280"/>
                <a:gridCol w="3606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36-193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1.000.000                       (superáv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63-19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24.000.000                         (défic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4" name="4 CuadroTexto"/>
          <p:cNvSpPr/>
          <p:nvPr/>
        </p:nvSpPr>
        <p:spPr>
          <a:xfrm>
            <a:off x="6368400" y="5000760"/>
            <a:ext cx="200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dólares de 196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sociado a su pobre desempeño económico, el campo era criticado por su estructura soc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Se basada en la coexistencia de grandes extensiones de tierra, a manos de pocas familias, a veces establecidas desde la Conquista, los latifundios, organizados en estructuras autárquicas, las </a:t>
            </a:r>
            <a:r>
              <a:rPr b="0" i="1" lang="es-ES" sz="3000" spc="-1" strike="noStrike">
                <a:solidFill>
                  <a:srgbClr val="000000"/>
                </a:solidFill>
                <a:latin typeface="Calibri"/>
              </a:rPr>
              <a:t>haciendas</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lacionadas a estas haciendas existian instituciones sociales propias: </a:t>
            </a:r>
            <a:r>
              <a:rPr b="0" i="1" lang="es-ES" sz="3000" spc="-1" strike="noStrike">
                <a:solidFill>
                  <a:srgbClr val="000000"/>
                </a:solidFill>
                <a:latin typeface="Calibri"/>
              </a:rPr>
              <a:t>inquilinos</a:t>
            </a:r>
            <a:r>
              <a:rPr b="0" lang="es-ES" sz="3000" spc="-1" strike="noStrike">
                <a:solidFill>
                  <a:srgbClr val="000000"/>
                </a:solidFill>
                <a:latin typeface="Calibri"/>
              </a:rPr>
              <a:t>, </a:t>
            </a:r>
            <a:r>
              <a:rPr b="0" i="1" lang="es-ES" sz="3000" spc="-1" strike="noStrike">
                <a:solidFill>
                  <a:srgbClr val="000000"/>
                </a:solidFill>
                <a:latin typeface="Calibri"/>
              </a:rPr>
              <a:t>medianeros</a:t>
            </a:r>
            <a:r>
              <a:rPr b="0" lang="es-ES" sz="3000" spc="-1" strike="noStrike">
                <a:solidFill>
                  <a:srgbClr val="000000"/>
                </a:solidFill>
                <a:latin typeface="Calibri"/>
              </a:rPr>
              <a:t>, </a:t>
            </a:r>
            <a:r>
              <a:rPr b="0" i="1" lang="es-ES" sz="3000" spc="-1" strike="noStrike">
                <a:solidFill>
                  <a:srgbClr val="000000"/>
                </a:solidFill>
                <a:latin typeface="Calibri"/>
              </a:rPr>
              <a:t>arrendatarios</a:t>
            </a:r>
            <a:r>
              <a:rPr b="0" lang="es-ES" sz="3000" spc="-1" strike="noStrike">
                <a:solidFill>
                  <a:srgbClr val="000000"/>
                </a:solidFill>
                <a:latin typeface="Calibri"/>
              </a:rPr>
              <a:t>, </a:t>
            </a:r>
            <a:r>
              <a:rPr b="0" i="1" lang="es-ES" sz="3000" spc="-1" strike="noStrike">
                <a:solidFill>
                  <a:srgbClr val="000000"/>
                </a:solidFill>
                <a:latin typeface="Calibri"/>
              </a:rPr>
              <a:t>peones</a:t>
            </a:r>
            <a:r>
              <a:rPr b="0" lang="es-ES" sz="3000" spc="-1" strike="noStrike">
                <a:solidFill>
                  <a:srgbClr val="000000"/>
                </a:solidFill>
                <a:latin typeface="Calibri"/>
              </a:rPr>
              <a:t> y </a:t>
            </a:r>
            <a:r>
              <a:rPr b="0" i="1" lang="es-ES" sz="3000" spc="-1" strike="noStrike">
                <a:solidFill>
                  <a:srgbClr val="000000"/>
                </a:solidFill>
                <a:latin typeface="Calibri"/>
              </a:rPr>
              <a:t>afuerinos</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Agraria chilena (1958-1973) va a discurrir en un triple discur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incentivo a la productivi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redistribución de la propiedad de la tier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liquidación de un orden social calificado de inju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ntecedentes de la Reforma Agraria.</a:t>
            </a:r>
            <a:endParaRPr b="0" lang="en-US" sz="4000" spc="-1" strike="noStrike">
              <a:solidFill>
                <a:srgbClr val="000000"/>
              </a:solidFill>
              <a:latin typeface="Calibri"/>
            </a:endParaRPr>
          </a:p>
        </p:txBody>
      </p:sp>
      <p:pic>
        <p:nvPicPr>
          <p:cNvPr id="58" name="2 Marcador de contenido" descr=""/>
          <p:cNvPicPr/>
          <p:nvPr/>
        </p:nvPicPr>
        <p:blipFill>
          <a:blip r:embed="rId1"/>
          <a:stretch/>
        </p:blipFill>
        <p:spPr>
          <a:xfrm>
            <a:off x="347760" y="1298520"/>
            <a:ext cx="8345520" cy="48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ntro del proyecto de Gobierno de Jorge Alessandri 1958, la Reforma Agraria no era  un tema. Los problemas de la agricultura se enfocan en:</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ceso al crédit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omento al rieg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ejorar la vulnerabilidad social de los pequeños propietari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2:44:35Z</dcterms:created>
  <dc:creator>Nando</dc:creator>
  <dc:description/>
  <dc:language>en-US</dc:language>
  <cp:lastModifiedBy>Nando</cp:lastModifiedBy>
  <dcterms:modified xsi:type="dcterms:W3CDTF">2009-11-26T18:16:22Z</dcterms:modified>
  <cp:revision>46</cp:revision>
  <dc:subject/>
  <dc:title>GÉNESIS DE LA REFORMA AGRARIA CHILENA.</dc:title>
</cp:coreProperties>
</file>