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D5F-6B82-4E0A-9EAD-8A797591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36A-7F6A-490C-AD92-3A8B3CF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5DA-90A7-494B-8680-A24F71F4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789-057B-4118-A331-950E479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6AC-21A1-4F7C-9C71-3BD1568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8C9-BFF4-4114-863B-8EDBB8B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071-B69D-4504-9702-8BDE3307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1BF-380E-4406-99E4-9E0ACB5F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76E-1165-46A1-B395-BEEB6AD3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96E-B548-4B59-A702-3D29A2A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854-9124-4A24-B8D9-B400BB3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31D-A387-4C63-BA03-AD5A8B2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DED-373C-4B44-97DB-AD3FB255D5E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Crisis Integral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manifestaba desde el fin de la guerra y asociado a una situación de estagna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dificultades económicas de 1945-1952 se manifestaron en dificultades sociales y un clima de efervescencia laboral que amenazó gravemente el régimen democrático y que trajo como consecuencia la supresión del Partido Comunista y el empeoramiento del clima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decepción social explica la victoria de CIC en las elecciones de 1952 a la cabeza de una alianza de nacionalistas, socialistas, feministas, populistas muy influidos por Perón y movimientos fascistas de corte autoritar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 rasgo más notorio de CIC es su populismo: “un movimiento de masas, conducido por un líder carismático, con propuestas ambiguas y crítico del establishment político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a alianza heterogénea redundó en un régimen muy volátil y centrado en la persona del Presidente, quien además carecía de una línea política clara, conductora de su administración y que enfrentaba a sus partidarios en la obtención de influencia y fav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itad de su gobierno (1955) de contrató la asesoría de la firma norteamericana “Klein &amp; Saks”, quienes realizaron varias “recomenda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rás de la gestión estuvieron varios gru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puestas de Klein &amp; Sa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rogar el régimen de reajustes automáticos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tringir el crédito banc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ducir las emisiones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iminar los controles de pre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ificar el tipo de cambio. (estimula las exportaci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formar el sistema de patentes de import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rimir los subsidios y ajustar las tarifas de las empresas públ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 de la Misión K &amp; 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dujo la inflación de un 80% a un 1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ajo la demanda de bienes de consumo, especialmente alimentos, textiles, vest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dujo cesantía lo que trajo nuevas contracciones especialmente en la industria y la construc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razones del fracaso fueron políticas y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líticas sobre todo por la falta de compromiso político de C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conómicas porque la crisis era tanto monetaria, como de costos de producción. Al restringir el crédito se agravó la rece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fracaso de la misión Klein-Saks tuvo como consecuencia que cristalizó un diagnóstico y un plan de acción en los diferentes grupos de la der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patronales (CCC, Sofofa, SNA y CP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artidos (Liberal y Conservad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upos de opinión (El Mercurio y las Ues). [19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nvergencia cristalizó la candidatura de J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o dibujó como un candidato por sobre los partidos y recibió una fuerte campaña de comunicaciones (21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essandri tenía propuestas económicas claras de “rectificación económica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inflación y bajo crecimi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adjudica a los efectos negativos que tuvo el ISI y es común a varios estados latinoamerican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arte varias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ado retiraría su participación en las empresas industriales y se centraría en la infraestructura y la vivie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financiarían los gastos públicos con créditos en el extranj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stablecería la libre competencia, abriendo los mercados al exterior y eliminando a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jación de precios “remunerativos” para la agricul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mento a las inversiones agríco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lonización agrícol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ecto de la industria se fomentó también las inversiones y el acceso al crédito, a través de la CORFO y de la banc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omentar el ingreso de divisas se eliminó las tasas de cambio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lizó el régimen de importaciones. Los límites al crédito externo, se autorizó a los bancos a operar en moneda extranjera, a se garantizó el retorno de capitales y la remisión de gananc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olítica de inversiones en infraestructura y viviendo disminuyó la cesant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tre 1959 y 1961, el país creció, la inflación se contuvo y el desempleo decreció. La entrada de divisas creció 540% y los créditos privados en el extranjero 31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blema que no encontró solución fue el déficit fiscal agravado ahora por los servicios de la deud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balanza de pago, de una economía endeudada y que competía mal con las importaciones más baratas y de mejor c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upuesto final del Gobierno era equilibrar la balanza de pagos, a través de un crecimiento de las exportaciones y de la inversión extranjera direc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mbos supuestos se incumplie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ertura comercial trajo una marea de importaciones, pero no fomentó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retura financiera ayudó a la inversión nacional vía endeudamiento privado y público pero no fomento la inversión extranjera. (22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erdida de control político sobre el Congreso Nacional y el poder de veto de la leyes dictadas por la oposición y el terremoto de mayo de 1960 empeoraron la situ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trada del Partido Radical al gobierno se zanjó con el regreso al sistema de reajustes anuales automáticos de suel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inalmente en octubre de 1962 el fisco fue incapaz de solventar el valor del peso y la moneda colaps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devaluó el tipo de cambio y con ello retornó la inflació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volvieron a fijar precios a los artículos de consumo y fijar tipos de cambios artifici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inflación se combatió con alzas en las tasas de interés y reducciones del gasto público que hundieron más el crédito y el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obierno se limitó a sobrevivir y el Presidente se volvió aun más amargo en su diagnós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bo de apoyarse aún más en el Partido Radical y en la influencia de EE.U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ustrialización altamente proteccion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entada al consumo por mercados caut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una industria dependiente de la importación de tecnología y bienes de capital pero incapaz de expor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almente dependía de la generación de recursos por la agricultura y la miner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inanciar la industrialización se fijar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interés inferiores a la inflación, desincentivando el ahorro, fomentando el consumo y generando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cambio múltiples que protegieron el peso, desincentivaron las importaciones y subsidiar la entrada de bienes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esultado final era una economía muy sensible a la disponibilidad de divisas (dólares) y de las fuentes para obtenerlo, la exportación de co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altos gastos y las bajas entradas generaron un déficit fiscal crón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a debilidad era el abandono de la agricultura y la baja consiguiente de producción y productividad. Déficit aliment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fectos de la inflación sobre el consumo alimentario se combatieron fijando precios a los productos agrícolas, lo que desincentivó aún mas la producción y generó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gobiernos radicales (1938-1952) no quisieron o no pudieron hacer frente a la situación, en parte por el sistema de relaciones clientelares que administraban, especialmente a través del control de precios y de la administrac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asto estatal en el pago de remuneraciones al sector público era del 42% del gasto público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este déficit se cubría con “emisiones inorgánicas” por parte del Gobierno y generando más y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resumen, las causas de la inflación er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éficit fis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o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recimiento de los subsidios esta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ansión del crédito (a privados y la CORF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45:37Z</dcterms:created>
  <dc:creator>Nando</dc:creator>
  <dc:description/>
  <dc:language>en-US</dc:language>
  <cp:lastModifiedBy>Nando</cp:lastModifiedBy>
  <dcterms:modified xsi:type="dcterms:W3CDTF">2009-10-19T21:40:03Z</dcterms:modified>
  <cp:revision>3</cp:revision>
  <dc:subject/>
  <dc:title>La Crisis Integral  se manifestaba desde el fin de la guerra y asociado a una situación de estagnación.</dc:title>
</cp:coreProperties>
</file>