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DF2-DB35-4419-9DA3-B2958A23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202-C7F6-4636-B5EA-6161769A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23B-C6D4-41E7-B011-9EC92411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148-B5F8-497D-A26D-D8E1D12C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CE2-094E-4BC7-862E-94A2B431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65A-7B8E-46CB-9D4B-60AD62A9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619-AA29-4296-BB65-81E9988E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7A2-FA8B-4177-BAFB-1EE38A59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863-1D9E-4233-9507-C7AAEFA2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F2B-686B-4AC2-A7D3-5AD9532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33F-A4DF-414F-B9D2-5E85158D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7B6-7A5E-4405-8A98-52D7E7F9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885D-E884-41C0-9FAB-E1854613B46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Crisis Integral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 manifestaba desde el fin de la guerra y asociado a una situación de estagnació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dificultades económicas de 1945-1952 se manifestaron en dificultades sociales y un clima de efervescencia laboral que amenazó gravemente el régimen democrático y que trajo como consecuencia la supresión del Partido Comunista y el empeoramiento del clima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decepción social explica la victoria de CIC en las elecciones de 1952 a la cabeza de una alianza de nacionalistas, socialistas, feministas, populistas muy influidos por Perón y movimientos fascistas de corte autoritar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El rasgo más notorio de CIC es su populismo: “un movimiento de masas, conducido por un líder carismático, con propuestas ambiguas y crítico del establishment político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a alianza heterogénea redundó en un régimen muy volátil y centrado en la persona del Presidente, quien además carecía de una línea política clara, conductora de su administración y que enfrentaba a sus partidarios en la obtención de influencia y fav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mitad de su gobierno (1955) de contrató la asesoría de la firma norteamericana “Klein &amp; Saks”, quienes realizaron varias “recomendacion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rás de la gestión estuvieron varios grup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puestas de Klein &amp; Sa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rogar el régimen de reajustes automáticos de sueldos y sal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tringir el crédito banc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ducir las emisiones fisc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iminar los controles de pre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ificar el tipo de cambio. (estimula las exportacio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formar el sistema de patentes de import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primir los subsidios y ajustar las tarifas de las empresas públ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 de la Misión K &amp; 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dujo la inflación de un 80% a un 1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ajo la demanda de bienes de consumo, especialmente alimentos, textiles, vestu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dujo cesantía lo que trajo nuevas contracciones especialmente en la industria y la construc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razones del fracaso fueron políticas y 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líticas sobre todo por la falta de compromiso político de C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conómicas porque la crisis era tanto monetaria, como de costos de producción. Al restringir el crédito se agravó la reces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fracaso de la misión Klein-Saks tuvo como consecuencia que cristalizó un diagnóstico y un plan de acción en los diferentes grupos de la der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patronales (CCC, Sofofa, SNA y CP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partidos (Liberal y Conservad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upos de opinión (El Mercurio y las Ues). [19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convergencia cristalizó la candidatura de J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o dibujó como un candidato por sobre los partidos y recibió una fuerte campaña de comunicaciones (218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essandri tenía propuestas económicas claras de “rectificación económica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a inflación y bajo crecimi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adjudica a los efectos negativos que tuvo el ISI y es común a varios estados latinoamericano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parte varias característic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Estado retiraría su participación en las empresas industriales y se centraría en la infraestructura y la vivie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financiarían los gastos públicos con créditos en el extranj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stablecería la libre competencia, abriendo los mercados al exterior y eliminando a las import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jación de precios “remunerativos” para la agricul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mento a las inversiones agrícol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lonización agrícol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pecto de la industria se fomentó también las inversiones y el acceso al crédito, a través de la CORFO y de la banca exte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fomentar el ingreso de divisas se eliminó las tasas de cambio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lizó el régimen de importaciones. Los límites al crédito externo, se autorizó a los bancos a operar en moneda extranjera, a se garantizó el retorno de capitales y la remisión de gananci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política de inversiones en infraestructura y viviendo disminuyó la cesantí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tre 1959 y 1961, el país creció, la inflación se contuvo y el desempleo decreció. La entrada de divisas creció 540% y los créditos privados en el extranjero 31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blema que no encontró solución fue el déficit fiscal agravado ahora por los servicios de la deuda exte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balanza de pago, de una economía endeudada y que competía mal con las importaciones más baratas y de mejor cal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upuesto final del Gobierno era equilibrar la balanza de pagos, a través de un crecimiento de las exportaciones y de la inversión extranjera direc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mbos supuestos se incumplier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pertura comercial trajo una marea de importaciones, pero no fomentó las import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pretura financiera ayudó a la inversión nacional vía endeudamiento privado y público pero no fomento la inversión extranjera. (22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perdida de control político sobre el Congreso Nacional y el poder de veto de la leyes dictadas por la oposición y el terremoto de mayo de 1960 empeoraron la situ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entrada del Partido Radical al gobierno se zanjó con el regreso al sistema de reajustes anuales automáticos de suel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Finalmente en octubre de 1962 el fisco fue incapaz de solventar el valor del peso y la moneda colaps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devaluó el tipo de cambio y con ello retornó la inflació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volvieron a fijar precios a los artículos de consumo y fijar tipos de cambios artificia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inflación se combatió con alzas en las tasas de interés y reducciones del gasto público que hundieron más el crédito y el consum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gobierno se limitó a sobrevivir y el Presidente se volvió aun más amargo en su diagnós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ubo de apoyarse aún más en el Partido Radical y en la influencia de EE.U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dustrialización altamente proteccioni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rientada al consumo por mercados cautiv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 una industria dependiente de la importación de tecnología y bienes de capital pero incapaz de expor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nalmente dependía de la generación de recursos por la agricultura y la minerí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financiar la industrialización se fijar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as de interés inferiores a la inflación, desincentivando el ahorro, fomentando el consumo y generando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as de cambio múltiples que protegieron el peso, desincentivaron las importaciones y subsidiar la entrada de bienes de ca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resultado final era una economía muy sensible a la disponibilidad de divisas (dólares) y de las fuentes para obtenerlo, la exportación de co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altos gastos y las bajas entradas generaron un déficit fiscal crón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a debilidad era el abandono de la agricultura y la baja consiguiente de producción y productividad. Déficit aliment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fectos de la inflación sobre el consumo alimentario se combatieron fijando precios a los productos agrícolas, lo que desincentivó aún mas la producción y generó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gobiernos radicales (1938-1952) no quisieron o no pudieron hacer frente a la situación, en parte por el sistema de relaciones clientelares que administraban, especialmente a través del control de precios y de la administración púb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gasto estatal en el pago de remuneraciones al sector público era del 42% del gasto público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do este déficit se cubría con “emisiones inorgánicas” por parte del Gobierno y generando más y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resumen, las causas de la inflación er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éficit fis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mento de sueldos y sal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recimiento de los subsidios esta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pansión del crédito (a privados y la CORF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45:37Z</dcterms:created>
  <dc:creator>Nando</dc:creator>
  <dc:description/>
  <dc:language>en-US</dc:language>
  <cp:lastModifiedBy>Nando</cp:lastModifiedBy>
  <dcterms:modified xsi:type="dcterms:W3CDTF">2009-10-19T21:40:03Z</dcterms:modified>
  <cp:revision>3</cp:revision>
  <dc:subject/>
  <dc:title>La Crisis Integral  se manifestaba desde el fin de la guerra y asociado a una situación de estagnación.</dc:title>
</cp:coreProperties>
</file>