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3652-4650-4CCD-8401-6A90B9B2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98AA-BFB0-4EFE-B4C9-ED6436EF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CB8E-2CB4-4034-A878-A00BCBC6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22AE-A063-46F6-A5A9-51263C62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039C-C636-4F59-9E0E-6E21E469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8804-0B6C-4E94-9ED6-D86EA159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D178-0CFE-4038-9E43-2C161C72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A0F2-AF0A-4104-B272-0E1BF347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5662-48D9-40B6-85F3-85D328C4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CB51-BAA1-4388-B3E8-E0DC3EF3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ADD-922D-4432-95E1-2A80B181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F4A-004D-481B-A4AF-CD02E125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9E88-F8D2-42CA-9DA5-4462B5838A1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7136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a Crisis Integral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e manifestaba desde el fin de la guerra y asociado a una situación de estagnació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s dificultades económicas de 1945-1952 se manifestaron en dificultades sociales y un clima de efervescencia laboral que amenazó gravemente el régimen democrático y que trajo como consecuencia la supresión del Partido Comunista y el empeoramiento del clima polí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La decepción social explica la victoria de CIC en las elecciones de 1952 a la cabeza de una alianza de nacionalistas, socialistas, feministas, populistas muy influidos por Perón y movimientos fascistas de corte autoritari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El rasgo más notorio de CIC es su populismo: “un movimiento de masas, conducido por un líder carismático, con propuestas ambiguas y crítico del establishment político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a alianza heterogénea redundó en un régimen muy volátil y centrado en la persona del Presidente, quien además carecía de una línea política clara, conductora de su administración y que enfrentaba a sus partidarios en la obtención de influencia y fav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 mitad de su gobierno (1955) de contrató la asesoría de la firma norteamericana “Klein &amp; Saks”, quienes realizaron varias “recomendacion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trás de la gestión estuvieron varios grup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ropuestas de Klein &amp; Sa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rogar el régimen de reajustes automáticos de sueldos y salar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stringir el crédito bancar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ducir las emisiones fisc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iminar los controles de prec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nificar el tipo de cambio. (estimula las exportacion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formar el sistema de patentes de import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uprimir los subsidios y ajustar las tarifas de las empresas públic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nsecuencias de la Misión K &amp; 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redujo la inflación de un 80% a un 1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trajo la demanda de bienes de consumo, especialmente alimentos, textiles, vestuar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odujo cesantía lo que trajo nuevas contracciones especialmente en la industria y la construc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s razones del fracaso fueron políticas y económ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olíticas sobre todo por la falta de compromiso político de C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conómicas porque la crisis era tanto monetaria, como de costos de producción. Al restringir el crédito se agravó la reces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fracaso de la misión Klein-Saks tuvo como consecuencia que cristalizó un diagnóstico y un plan de acción en los diferentes grupos de la derech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s patronales (CCC, Sofofa, SNA y CPC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partidos (Liberal y Conservado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rupos de opinión (El Mercurio y las Ues). [191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 convergencia cristalizó la candidatura de J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lo dibujó como un candidato por sobre los partidos y recibió una fuerte campaña de comunicaciones (218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lessandri tenía propuestas económicas claras de “rectificación económica”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lta inflación y bajo crecimi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adjudica a los efectos negativos que tuvo el ISI y es común a varios estados latinoamericano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mparte varias característic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Estado retiraría su participación en las empresas industriales y se centraría en la infraestructura y la vivien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financiarían los gastos públicos con créditos en el extranje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restablecería la libre competencia, abriendo los mercados al exterior y eliminando a las importaci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ijación de precios “remunerativos” para la agricultu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omento a las inversiones agrícol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lonización agrícola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specto de la industria se fomentó también las inversiones y el acceso al crédito, a través de la CORFO y de la banca exter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ara fomentar el ingreso de divisas se eliminó las tasas de cambio vari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liberalizó el régimen de importaciones. Los límites al crédito externo, se autorizó a los bancos a operar en moneda extranjera, a se garantizó el retorno de capitales y la remisión de gananci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política de inversiones en infraestructura y viviendo disminuyó la cesantí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tre 1959 y 1961, el país creció, la inflación se contuvo y el desempleo decreció. La entrada de divisas creció 540% y los créditos privados en el extranjero 310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problema que no encontró solución fue el déficit fiscal agravado ahora por los servicios de la deuda exter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balanza de pago, de una economía endeudada y que competía mal con las importaciones más baratas y de mejor cal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supuesto final del Gobierno era equilibrar la balanza de pagos, a través de un crecimiento de las exportaciones y de la inversión extranjera direc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mbos supuestos se incumplier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apertura comercial trajo una marea de importaciones, pero no fomentó las importaci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apretura financiera ayudó a la inversión nacional vía endeudamiento privado y público pero no fomento la inversión extranjera. (22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perdida de control político sobre el Congreso Nacional y el poder de veto de la leyes dictadas por la oposición y el terremoto de mayo de 1960 empeoraron la situ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entrada del Partido Radical al gobierno se zanjó con el regreso al sistema de reajustes anuales automáticos de suel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Finalmente en octubre de 1962 el fisco fue incapaz de solventar el valor del peso y la moneda colaps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devaluó el tipo de cambio y con ello retornó la inflació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volvieron a fijar precios a los artículos de consumo y fijar tipos de cambios artificia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La inflación se combatió con alzas en las tasas de interés y reducciones del gasto público que hundieron más el crédito y el consum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gobierno se limitó a sobrevivir y el Presidente se volvió aun más amargo en su diagnós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ubo de apoyarse aún más en el Partido Radical y en la influencia de EE.U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dustrialización altamente proteccionis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rientada al consumo por mercados cautiv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 una industria dependiente de la importación de tecnología y bienes de capital pero incapaz de expor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inalmente dependía de la generación de recursos por la agricultura y la minerí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ara financiar la industrialización se fijar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sas de interés inferiores a la inflación, desincentivando el ahorro, fomentando el consumo y generando más infl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sas de cambio múltiples que protegieron el peso, desincentivaron las importaciones y subsidiar la entrada de bienes de capi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resultado final era una economía muy sensible a la disponibilidad de divisas (dólares) y de las fuentes para obtenerlo, la exportación de co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altos gastos y las bajas entradas generaron un déficit fiscal crón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tra debilidad era el abandono de la agricultura y la baja consiguiente de producción y productividad. Déficit alimentar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efectos de la inflación sobre el consumo alimentario se combatieron fijando precios a los productos agrícolas, lo que desincentivó aún mas la producción y generó más infl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gobiernos radicales (1938-1952) no quisieron o no pudieron hacer frente a la situación, en parte por el sistema de relaciones clientelares que administraban, especialmente a través del control de precios y de la administración púb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gasto estatal en el pago de remuneraciones al sector público era del 42% del gasto público to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odo este déficit se cubría con “emisiones inorgánicas” por parte del Gobierno y generando más y más infl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resumen, las causas de la inflación er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éficit fisc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umento de sueldos y salar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recimiento de los subsidios estat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pansión del crédito (a privados y la CORF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6:45:37Z</dcterms:created>
  <dc:creator>Nando</dc:creator>
  <dc:description/>
  <dc:language>en-US</dc:language>
  <cp:lastModifiedBy>Nando</cp:lastModifiedBy>
  <dcterms:modified xsi:type="dcterms:W3CDTF">2009-10-19T21:40:03Z</dcterms:modified>
  <cp:revision>3</cp:revision>
  <dc:subject/>
  <dc:title>La Crisis Integral  se manifestaba desde el fin de la guerra y asociado a una situación de estagnación.</dc:title>
</cp:coreProperties>
</file>