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A7C-54FE-4E88-8B0A-358E92BC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EBF-DDF1-4375-97AB-C770A121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57A-EA5B-4736-8E73-9F103086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664-0C11-42AF-879C-9414A074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CC4-9272-4EF9-9363-850B9140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F17-A09B-4FF2-9997-EFF82B6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C66-743E-41C5-810E-DDCA4BBA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B13-9F18-4688-BC24-309F3DD1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E9B-4ACC-4E72-AFBE-52E9985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60A-E388-4C28-95C1-A9FAF2A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C94-59B3-4BC5-B151-5F4DE6B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58-E6DE-4419-B6A9-AF646E0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DE25-5896-40DC-958F-0188698A7C2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Crisis Integral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 manifestaba desde el fin de la guerra y asociado a una situación de estagnació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dificultades económicas de 1945-1952 se manifestaron en dificultades sociales y un clima de efervescencia laboral que amenazó gravemente el régimen democrático y que trajo como consecuencia la supresión del Partido Comunista y el empeoramiento del clima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decepción social explica la victoria de CIC en las elecciones de 1952 a la cabeza de una alianza de nacionalistas, socialistas, feministas, populistas muy influidos por Perón y movimientos fascistas de corte autoritari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 rasgo más notorio de CIC es su populismo: “un movimiento de masas, conducido por un líder carismático, con propuestas ambiguas y crítico del establishment político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a alianza heterogénea redundó en un régimen muy volátil y centrado en la persona del Presidente, quien además carecía de una línea política clara, conductora de su administración y que enfrentaba a sus partidarios en la obtención de influencia y fav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mitad de su gobierno (1955) de contrató la asesoría de la firma norteamericana “Klein &amp; Saks”, quienes realizaron varias “recomenda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rás de la gestión estuvieron varios gru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puestas de Klein &amp; Sa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rogar el régimen de reajustes automáticos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tringir el crédito banc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ducir las emisiones fisc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iminar los controles de pre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nificar el tipo de cambio. (estimula las exportacio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formar el sistema de patentes de import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primir los subsidios y ajustar las tarifas de las empresas públ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secuencias de la Misión K &amp; 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dujo la inflación de un 80% a un 1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ajo la demanda de bienes de consumo, especialmente alimentos, textiles, vestu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dujo cesantía lo que trajo nuevas contracciones especialmente en la industria y la construc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razones del fracaso fueron políticas y econó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líticas sobre todo por la falta de compromiso político de C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conómicas porque la crisis era tanto monetaria, como de costos de producción. Al restringir el crédito se agravó la rece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fracaso de la misión Klein-Saks tuvo como consecuencia que cristalizó un diagnóstico y un plan de acción en los diferentes grupos de la der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s patronales (CCC, Sofofa, SNA y CP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artidos (Liberal y Conservad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upos de opinión (El Mercurio y las Ues). [191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convergencia cristalizó la candidatura de J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o dibujó como un candidato por sobre los partidos y recibió una fuerte campaña de comunicaciones (218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essandri tenía propuestas económicas claras de “rectificación económica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lta inflación y bajo crecimi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adjudica a los efectos negativos que tuvo el ISI y es común a varios estados latinoamericano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arte varias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tado retiraría su participación en las empresas industriales y se centraría en la infraestructura y la vivie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financiarían los gastos públicos con créditos en el extranj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restablecería la libre competencia, abriendo los mercados al exterior y eliminando a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jación de precios “remunerativos” para la agricul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mento a las inversiones agríco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lonización agrícol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ecto de la industria se fomentó también las inversiones y el acceso al crédito, a través de la CORFO y de la banc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omentar el ingreso de divisas se eliminó las tasas de cambio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liberalizó el régimen de importaciones. Los límites al crédito externo, se autorizó a los bancos a operar en moneda extranjera, a se garantizó el retorno de capitales y la remisión de gananc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olítica de inversiones en infraestructura y viviendo disminuyó la cesant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tre 1959 y 1961, el país creció, la inflación se contuvo y el desempleo decreció. La entrada de divisas creció 540% y los créditos privados en el extranjero 31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blema que no encontró solución fue el déficit fiscal agravado ahora por los servicios de la deuda exte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balanza de pago, de una economía endeudada y que competía mal con las importaciones más baratas y de mejor ca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upuesto final del Gobierno era equilibrar la balanza de pagos, a través de un crecimiento de las exportaciones y de la inversión extranjera direc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mbos supuestos se incumplier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ertura comercial trajo una marea de importaciones, pero no fomentó las import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apretura financiera ayudó a la inversión nacional vía endeudamiento privado y público pero no fomento la inversión extranjera. (22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perdida de control político sobre el Congreso Nacional y el poder de veto de la leyes dictadas por la oposición y el terremoto de mayo de 1960 empeoraron la situ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entrada del Partido Radical al gobierno se zanjó con el regreso al sistema de reajustes anuales automáticos de suel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Finalmente en octubre de 1962 el fisco fue incapaz de solventar el valor del peso y la moneda colaps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devaluó el tipo de cambio y con ello retornó la inflació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volvieron a fijar precios a los artículos de consumo y fijar tipos de cambios artificia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inflación se combatió con alzas en las tasas de interés y reducciones del gasto público que hundieron más el crédito y el consum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obierno se limitó a sobrevivir y el Presidente se volvió aun más amargo en su diagnós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ubo de apoyarse aún más en el Partido Radical y en la influencia de EE.U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dustrialización altamente proteccionis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rientada al consumo por mercados cautiv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una industria dependiente de la importación de tecnología y bienes de capital pero incapaz de expor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nalmente dependía de la generación de recursos por la agricultura y la minerí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a financiar la industrialización se fijar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interés inferiores a la inflación, desincentivando el ahorro, fomentando el consumo y generando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sas de cambio múltiples que protegieron el peso, desincentivaron las importaciones y subsidiar la entrada de bienes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esultado final era una economía muy sensible a la disponibilidad de divisas (dólares) y de las fuentes para obtenerlo, la exportación de co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altos gastos y las bajas entradas generaron un déficit fiscal crón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a debilidad era el abandono de la agricultura y la baja consiguiente de producción y productividad. Déficit alimentar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fectos de la inflación sobre el consumo alimentario se combatieron fijando precios a los productos agrícolas, lo que desincentivó aún mas la producción y generó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gobiernos radicales (1938-1952) no quisieron o no pudieron hacer frente a la situación, en parte por el sistema de relaciones clientelares que administraban, especialmente a través del control de precios y de la administración púb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gasto estatal en el pago de remuneraciones al sector público era del 42% del gasto público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 este déficit se cubría con “emisiones inorgánicas” por parte del Gobierno y generando más y más inf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resumen, las causas de la inflación er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éficit fis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o de sueldos y sal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recimiento de los subsidios esta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pansión del crédito (a privados y la CORF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45:37Z</dcterms:created>
  <dc:creator>Nando</dc:creator>
  <dc:description/>
  <dc:language>en-US</dc:language>
  <cp:lastModifiedBy>Nando</cp:lastModifiedBy>
  <dcterms:modified xsi:type="dcterms:W3CDTF">2009-10-19T21:40:03Z</dcterms:modified>
  <cp:revision>3</cp:revision>
  <dc:subject/>
  <dc:title>La Crisis Integral  se manifestaba desde el fin de la guerra y asociado a una situación de estagnación.</dc:title>
</cp:coreProperties>
</file>