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8856F-8F9F-4332-B8DB-DBF55E4EA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5D09E-2704-4BB8-AD47-AF73D9759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00E11-A046-4CD9-A579-01B384D6A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BB490-6C9F-408B-B868-524007EFF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44647-638D-405C-B5AE-FD740535B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2812C-AF43-4975-9066-D760807D2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9E0B4-578B-473C-9E57-579ECD5E9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5C8CC-80BC-4F1A-B181-6064A80DF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9AA5B-745B-4763-B751-8AACE7924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7AD1E-0762-470A-A2D7-A7303CAAA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9A852-6B23-467A-A7EC-ACEF205D1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46C74-D118-4B22-A10D-8FA779B41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0B9B4-2E57-4926-A618-41F828022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4A064-DF77-4869-BD89-390F0C84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B9A5B-D3E0-4A4F-B5BA-43031BB7F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4C6B7-EC81-477F-B6C6-4CB1610B9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FE23D-0E5B-4B58-9C07-251E9466F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D10D0-7E72-4E19-B76D-2E6CE49FB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41279-67D7-43A2-BFD8-679E246A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E1EE8-64B1-4223-B945-8CFEC699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EB6E1-E439-4B49-BFC7-742CB34A1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01996-FC97-4CC6-8BF8-123C92A0B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D095-1D33-4118-B18C-498D2D996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105D-E126-4B12-A0F5-8AC9A2493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0f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 name="Freeform 4"/>
            <p:cNvSpPr/>
            <p:nvPr/>
          </p:nvSpPr>
          <p:spPr>
            <a:xfrm>
              <a:off x="0" y="0"/>
              <a:ext cx="7242120" cy="19033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3C40-64CF-44C4-A284-C111669C442B}"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0e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6" name="Freeform 4"/>
            <p:cNvSpPr/>
            <p:nvPr/>
          </p:nvSpPr>
          <p:spPr>
            <a:xfrm>
              <a:off x="0" y="0"/>
              <a:ext cx="8458200" cy="58561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60E3-B165-4FD8-917A-2D2BC21E96FF}"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9900"/>
                </a:solidFill>
                <a:latin typeface="Arial"/>
                <a:ea typeface="Times New Roman"/>
              </a:rPr>
              <a:t>Plan de prevención y erradicación del trabajo infantil y adolescente en Chile. Aplicación y eficacia.</a:t>
            </a:r>
            <a:br>
              <a:rPr sz="4800"/>
            </a:br>
            <a:r>
              <a:rPr b="0" lang="es-E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Interrogan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Objetivo General</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Hipótesis</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Título</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6"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aphicFrame>
        <p:nvGraphicFramePr>
          <p:cNvPr id="97" name=""/>
          <p:cNvGraphicFramePr/>
          <p:nvPr/>
        </p:nvGraphicFramePr>
        <p:xfrm>
          <a:off x="684360" y="1844640"/>
          <a:ext cx="7772400" cy="480384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Pregunt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Objetivos específic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Contenid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 </a:t>
            </a:r>
            <a:r>
              <a:rPr b="0" lang="es-ES" sz="2800" spc="-1" strike="noStrike">
                <a:solidFill>
                  <a:srgbClr val="ffffff"/>
                </a:solidFill>
                <a:latin typeface="Tahoma"/>
              </a:rPr>
              <a:t>Matriz de operacionalización de las variables</a:t>
            </a:r>
            <a:endParaRPr b="0" lang="en-US" sz="2800" spc="-1" strike="noStrike">
              <a:solidFill>
                <a:srgbClr val="ffcc00"/>
              </a:solidFill>
              <a:latin typeface="Arial Black"/>
            </a:endParaRPr>
          </a:p>
        </p:txBody>
      </p:sp>
      <p:graphicFrame>
        <p:nvGraphicFramePr>
          <p:cNvPr id="99" name=""/>
          <p:cNvGraphicFramePr/>
          <p:nvPr/>
        </p:nvGraphicFramePr>
        <p:xfrm>
          <a:off x="685800" y="1981080"/>
          <a:ext cx="8062920" cy="3337200"/>
        </p:xfrm>
        <a:graphic>
          <a:graphicData uri="http://schemas.openxmlformats.org/drawingml/2006/table">
            <a:tbl>
              <a:tblPr/>
              <a:tblGrid>
                <a:gridCol w="1943280"/>
                <a:gridCol w="2087280"/>
                <a:gridCol w="2232000"/>
                <a:gridCol w="1800360"/>
              </a:tblGrid>
              <a:tr h="36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Hipótesi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Variabl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Indicador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Fuent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In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Altos índices de trabajo infantil y adolesc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Ineficacia del Plan </a:t>
                      </a:r>
                      <a:r>
                        <a:rPr b="0" lang="es-E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 sobre el trabajo infantil en Chile</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Reformas legales promovidas para el desarrollo del Plan </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Tex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Investigacione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Documen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Material de Internet</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GAU</cp:lastModifiedBy>
  <dcterms:modified xsi:type="dcterms:W3CDTF">2009-03-29T16:11:05Z</dcterms:modified>
  <cp:revision>22</cp:revision>
  <dc:subject/>
  <dc:title>MATRIZ 1</dc:title>
</cp:coreProperties>
</file>