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C0E68-A329-4467-BB6D-6038F0B0C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8AC70-90CE-4266-B64F-087042CFC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A9DAA-8EF0-4D38-965C-95AE7ACDF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18878-D4B4-4E68-A298-56DC5B44A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57636-ED55-41F8-AEBB-81E9B5C63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57F24-7793-4FBF-BD4B-BBF568DA2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752CF-425A-43B2-9DCD-512FE1A9F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AE596-A631-4BFE-A277-04B8926EC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26061-28AA-4275-A9FD-C13626684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8B79F-AF8C-4EB4-A692-2EAA9BEA7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5FB53-153D-4E7B-B6DC-81D864B71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1FAD0-DF7D-40F3-BC17-31DA91F76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92770-0BDD-4C55-8A50-08AF0EBBA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BA636-BC0D-4C8D-AD66-2A1603B2B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6A14F-1C17-44DD-8A12-ADB7A86CB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90A48-1172-45A3-996B-9FDAF41E2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B3749-B2A2-40AD-92DB-8D7470E8F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4E4F1-5373-4EED-8487-5702C880B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C63D9-D6E8-40C3-9F15-CFE521ED3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3C26-7334-4DD7-A77F-1A8EDCD3A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04FC2-3BA6-425F-86C7-AC3643536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5DEFF-C626-4E6E-B62F-E79E90051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DA01-8A95-41E7-93F7-CE235550A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20DC-77A8-4D07-8259-C674E8FE0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BD9F-7527-4003-9852-D7A8F23AD11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473E-3B37-4DF6-BEC4-2B1453A9817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00"/>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Comprensión del Derecho como producto social.</a:t>
            </a:r>
            <a:endParaRPr b="0" lang="en-US" sz="2800" spc="-1" strike="noStrike">
              <a:solidFill>
                <a:srgbClr val="000000"/>
              </a:solidFill>
              <a:latin typeface="Tahoma"/>
            </a:endParaRPr>
          </a:p>
          <a:p>
            <a:pPr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Poder-interés-regla de conducta</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con que objetivo se estudian todos estos aspectos? Su conocimiento facilita la identificación del </a:t>
            </a:r>
            <a:r>
              <a:rPr b="1" lang="en-US" sz="2000" spc="-1" strike="noStrike">
                <a:solidFill>
                  <a:srgbClr val="000000"/>
                </a:solidFill>
                <a:latin typeface="Tahoma"/>
              </a:rPr>
              <a:t>proceso</a:t>
            </a:r>
            <a:r>
              <a:rPr b="0" lang="en-US" sz="2000" spc="-1" strike="noStrike">
                <a:solidFill>
                  <a:srgbClr val="000000"/>
                </a:solidFill>
                <a:latin typeface="Tahoma"/>
              </a:rPr>
              <a:t> mediante el cual el poder protege sus intereses recurriendo a la norma jurídica y </a:t>
            </a:r>
            <a:r>
              <a:rPr b="1" lang="en-US" sz="2000" spc="-1" strike="noStrike">
                <a:solidFill>
                  <a:srgbClr val="000000"/>
                </a:solidFill>
                <a:latin typeface="Tahoma"/>
              </a:rPr>
              <a:t>pone</a:t>
            </a:r>
            <a:r>
              <a:rPr b="0" lang="en-US" sz="2000" spc="-1" strike="noStrike">
                <a:solidFill>
                  <a:srgbClr val="000000"/>
                </a:solidFill>
                <a:latin typeface="Tahoma"/>
              </a:rPr>
              <a:t> </a:t>
            </a:r>
            <a:r>
              <a:rPr b="1" lang="en-US" sz="2000" spc="-1" strike="noStrike">
                <a:solidFill>
                  <a:srgbClr val="000000"/>
                </a:solidFill>
                <a:latin typeface="Tahoma"/>
              </a:rPr>
              <a:t>de relieve los intereses</a:t>
            </a:r>
            <a:r>
              <a:rPr b="0" lang="en-US" sz="2000" spc="-1" strike="noStrike">
                <a:solidFill>
                  <a:srgbClr val="000000"/>
                </a:solidFill>
                <a:latin typeface="Tahoma"/>
              </a:rPr>
              <a:t> a los cuales el Derecho sirve.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ste estudio permite comprender al Derecho como producto social y ver su impacto como creador de organización soci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ite también identificar al o los grupos sociales que están promoviendo sus valores e intereses recurriendo al Derecho.</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D626A852-66AF-4DD2-96B0-51CEA9877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identificar y recomponer los discursos deslegitimadores se abre a la comprensión del Derecho desde los que experimentan las normas de conducta como limitaciones a sus aspiraciones, intereses, valor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Historia del Derecho deja de preocuparse exclusivamente de los que usan el Derecho y centra su atención en los que sufren con las normas jurídicas (esto implica normalmente asomarse el mundo de la marginalidad, así como a la comprensión del proceso de construcción histórica de la marginalida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7B9C2F03-AB26-4084-AA7C-CF935C11F2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visión de lo histórico jurídico facilita el paso de los estudiantes desde la conciencia mágica o mítica a la conciencia crítica, por ende, deja al estudiante en posición de avanzar hacia su humanización como </a:t>
            </a:r>
            <a:r>
              <a:rPr b="1" lang="en-US" sz="2400" spc="-1" strike="noStrike">
                <a:solidFill>
                  <a:srgbClr val="000000"/>
                </a:solidFill>
                <a:latin typeface="Tahoma"/>
              </a:rPr>
              <a:t>sujeto histórico</a:t>
            </a:r>
            <a:r>
              <a:rPr b="0" lang="en-US" sz="2400" spc="-1" strike="noStrike">
                <a:solidFill>
                  <a:srgbClr val="000000"/>
                </a:solidFill>
                <a:latin typeface="Tahoma"/>
              </a:rPr>
              <a:t>: el ser humano dice Freire se humaniza al asumir desde el saber crítico la construcción de historia en aras de la liberación de las formas de dominación que él experimenta como opresión política, social, económic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 hombre se libera de la dominación (no se hace liberal sino, como dice Freire, un  </a:t>
            </a:r>
            <a:r>
              <a:rPr b="0" i="1" lang="en-US" sz="2400" spc="-1" strike="noStrike">
                <a:solidFill>
                  <a:srgbClr val="000000"/>
                </a:solidFill>
                <a:latin typeface="Tahoma"/>
              </a:rPr>
              <a:t>hombre radical</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44C2E52D-9B2A-4835-A1A0-F84B21D8CC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humanización no se configura en el pensamiento de Freire a partir de un contenido. En ese sentido es un desafío, un proyecto de futuro, es imposible determinar aquí y ahora como será la sociedad en que los hombres con conciencia crítica desplieguen sus potencialida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64F67D36-CAF5-43AE-87BA-EDF437CD739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Perspectiva de análisis</a:t>
            </a:r>
            <a:endParaRPr b="0" lang="en-US" sz="2400" spc="-1" strike="noStrike">
              <a:solidFill>
                <a:srgbClr val="000000"/>
              </a:solidFill>
              <a:latin typeface="Tahoma"/>
            </a:endParaRPr>
          </a:p>
        </p:txBody>
      </p:sp>
      <p:grpSp>
        <p:nvGrpSpPr>
          <p:cNvPr id="103" name=""/>
          <p:cNvGrpSpPr/>
          <p:nvPr/>
        </p:nvGrpSpPr>
        <p:grpSpPr>
          <a:xfrm>
            <a:off x="2963880" y="2895480"/>
            <a:ext cx="3425760" cy="3095640"/>
            <a:chOff x="2963880" y="2895480"/>
            <a:chExt cx="3425760" cy="3095640"/>
          </a:xfrm>
        </p:grpSpPr>
        <p:sp>
          <p:nvSpPr>
            <p:cNvPr id="104" name="_s119820"/>
            <p:cNvSpPr/>
            <p:nvPr/>
          </p:nvSpPr>
          <p:spPr>
            <a:xfrm flipH="1">
              <a:off x="3851280" y="5037120"/>
              <a:ext cx="412560" cy="23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_s119819"/>
            <p:cNvSpPr/>
            <p:nvPr/>
          </p:nvSpPr>
          <p:spPr>
            <a:xfrm>
              <a:off x="2963880" y="503856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conomía</a:t>
              </a:r>
              <a:endParaRPr b="0" lang="en-US" sz="1800" spc="-1" strike="noStrike">
                <a:solidFill>
                  <a:srgbClr val="000000"/>
                </a:solidFill>
                <a:latin typeface="Arial"/>
              </a:endParaRPr>
            </a:p>
          </p:txBody>
        </p:sp>
        <p:sp>
          <p:nvSpPr>
            <p:cNvPr id="106" name="_s119818"/>
            <p:cNvSpPr/>
            <p:nvPr/>
          </p:nvSpPr>
          <p:spPr>
            <a:xfrm>
              <a:off x="5087880" y="5038560"/>
              <a:ext cx="412920" cy="23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_s119817"/>
            <p:cNvSpPr/>
            <p:nvPr/>
          </p:nvSpPr>
          <p:spPr>
            <a:xfrm>
              <a:off x="5437080" y="50371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08" name="_s119816"/>
            <p:cNvSpPr/>
            <p:nvPr/>
          </p:nvSpPr>
          <p:spPr>
            <a:xfrm flipV="1">
              <a:off x="4676760" y="3847680"/>
              <a:ext cx="0" cy="47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_s119815"/>
            <p:cNvSpPr/>
            <p:nvPr/>
          </p:nvSpPr>
          <p:spPr>
            <a:xfrm>
              <a:off x="4200480" y="289548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Política</a:t>
              </a:r>
              <a:endParaRPr b="0" lang="en-US" sz="1800" spc="-1" strike="noStrike">
                <a:solidFill>
                  <a:srgbClr val="000000"/>
                </a:solidFill>
                <a:latin typeface="Arial"/>
              </a:endParaRPr>
            </a:p>
          </p:txBody>
        </p:sp>
        <p:sp>
          <p:nvSpPr>
            <p:cNvPr id="110" name="_s119814"/>
            <p:cNvSpPr/>
            <p:nvPr/>
          </p:nvSpPr>
          <p:spPr>
            <a:xfrm>
              <a:off x="4200480" y="43243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F58B7F47-1E6F-4118-96B5-C9E5AA814F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EPCION POLIFACETICA</a:t>
            </a:r>
            <a:endParaRPr b="0" lang="en-US" sz="4400" spc="-1" strike="noStrike">
              <a:solidFill>
                <a:srgbClr val="333399"/>
              </a:solidFill>
              <a:latin typeface="Tahoma"/>
            </a:endParaRPr>
          </a:p>
        </p:txBody>
      </p:sp>
      <p:grpSp>
        <p:nvGrpSpPr>
          <p:cNvPr id="112" name=""/>
          <p:cNvGrpSpPr/>
          <p:nvPr/>
        </p:nvGrpSpPr>
        <p:grpSpPr>
          <a:xfrm>
            <a:off x="2768760" y="2204640"/>
            <a:ext cx="3962160" cy="3817800"/>
            <a:chOff x="2768760" y="2204640"/>
            <a:chExt cx="3962160" cy="3817800"/>
          </a:xfrm>
        </p:grpSpPr>
        <p:sp>
          <p:nvSpPr>
            <p:cNvPr id="113" name="_s123916"/>
            <p:cNvSpPr/>
            <p:nvPr/>
          </p:nvSpPr>
          <p:spPr>
            <a:xfrm flipH="1" flipV="1">
              <a:off x="3773520" y="3944880"/>
              <a:ext cx="48744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_s123915"/>
            <p:cNvSpPr/>
            <p:nvPr/>
          </p:nvSpPr>
          <p:spPr>
            <a:xfrm>
              <a:off x="276876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iscur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slegitimadote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legitimadores</a:t>
              </a:r>
              <a:endParaRPr b="0" lang="en-US" sz="1800" spc="-1" strike="noStrike">
                <a:solidFill>
                  <a:srgbClr val="000000"/>
                </a:solidFill>
                <a:latin typeface="Arial"/>
              </a:endParaRPr>
            </a:p>
          </p:txBody>
        </p:sp>
        <p:sp>
          <p:nvSpPr>
            <p:cNvPr id="115" name="_s123921"/>
            <p:cNvSpPr/>
            <p:nvPr/>
          </p:nvSpPr>
          <p:spPr>
            <a:xfrm flipH="1">
              <a:off x="4146480" y="4678200"/>
              <a:ext cx="301680" cy="41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_s123920"/>
            <p:cNvSpPr/>
            <p:nvPr/>
          </p:nvSpPr>
          <p:spPr>
            <a:xfrm>
              <a:off x="332892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uent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ormales</a:t>
              </a:r>
              <a:endParaRPr b="0" lang="en-US" sz="1800" spc="-1" strike="noStrike">
                <a:solidFill>
                  <a:srgbClr val="000000"/>
                </a:solidFill>
                <a:latin typeface="Arial"/>
              </a:endParaRPr>
            </a:p>
          </p:txBody>
        </p:sp>
        <p:sp>
          <p:nvSpPr>
            <p:cNvPr id="117" name="_s123919"/>
            <p:cNvSpPr/>
            <p:nvPr/>
          </p:nvSpPr>
          <p:spPr>
            <a:xfrm>
              <a:off x="5052960" y="4676400"/>
              <a:ext cx="301680" cy="41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_s123918"/>
            <p:cNvSpPr/>
            <p:nvPr/>
          </p:nvSpPr>
          <p:spPr>
            <a:xfrm>
              <a:off x="514188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aculta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Obligaciones</a:t>
              </a:r>
              <a:endParaRPr b="0" lang="en-US" sz="1800" spc="-1" strike="noStrike">
                <a:solidFill>
                  <a:srgbClr val="000000"/>
                </a:solidFill>
                <a:latin typeface="Arial"/>
              </a:endParaRPr>
            </a:p>
          </p:txBody>
        </p:sp>
        <p:sp>
          <p:nvSpPr>
            <p:cNvPr id="119" name="_s123914"/>
            <p:cNvSpPr/>
            <p:nvPr/>
          </p:nvSpPr>
          <p:spPr>
            <a:xfrm flipV="1">
              <a:off x="5238720" y="3943080"/>
              <a:ext cx="48888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_s123913"/>
            <p:cNvSpPr/>
            <p:nvPr/>
          </p:nvSpPr>
          <p:spPr>
            <a:xfrm>
              <a:off x="570240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écnica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control  social</a:t>
              </a:r>
              <a:endParaRPr b="0" lang="en-US" sz="1800" spc="-1" strike="noStrike">
                <a:solidFill>
                  <a:srgbClr val="000000"/>
                </a:solidFill>
                <a:latin typeface="Arial"/>
              </a:endParaRPr>
            </a:p>
          </p:txBody>
        </p:sp>
        <p:sp>
          <p:nvSpPr>
            <p:cNvPr id="121" name="_s123912"/>
            <p:cNvSpPr/>
            <p:nvPr/>
          </p:nvSpPr>
          <p:spPr>
            <a:xfrm flipV="1">
              <a:off x="4749840" y="3233520"/>
              <a:ext cx="0" cy="51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_s123911"/>
            <p:cNvSpPr/>
            <p:nvPr/>
          </p:nvSpPr>
          <p:spPr>
            <a:xfrm>
              <a:off x="4235400" y="220464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studios</a:t>
              </a:r>
              <a:endParaRPr b="0" lang="en-US" sz="1800" spc="-1" strike="noStrike">
                <a:solidFill>
                  <a:srgbClr val="000000"/>
                </a:solidFill>
                <a:latin typeface="Arial"/>
              </a:endParaRPr>
            </a:p>
          </p:txBody>
        </p:sp>
        <p:sp>
          <p:nvSpPr>
            <p:cNvPr id="123" name="_s123910"/>
            <p:cNvSpPr/>
            <p:nvPr/>
          </p:nvSpPr>
          <p:spPr>
            <a:xfrm>
              <a:off x="4235400" y="3747960"/>
              <a:ext cx="1028880" cy="1028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EC52B692-7006-44C3-84E0-683374B23E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grpSp>
        <p:nvGrpSpPr>
          <p:cNvPr id="125" name=""/>
          <p:cNvGrpSpPr/>
          <p:nvPr/>
        </p:nvGrpSpPr>
        <p:grpSpPr>
          <a:xfrm>
            <a:off x="3163680" y="2225520"/>
            <a:ext cx="3810240" cy="3810240"/>
            <a:chOff x="3163680" y="2225520"/>
            <a:chExt cx="3810240" cy="3810240"/>
          </a:xfrm>
        </p:grpSpPr>
        <p:sp>
          <p:nvSpPr>
            <p:cNvPr id="126" name="_s125963"/>
            <p:cNvSpPr/>
            <p:nvPr/>
          </p:nvSpPr>
          <p:spPr>
            <a:xfrm>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_s125991"/>
            <p:cNvSpPr/>
            <p:nvPr/>
          </p:nvSpPr>
          <p:spPr>
            <a:xfrm rot="5400000">
              <a:off x="3163680" y="222516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_s125961"/>
            <p:cNvSpPr/>
            <p:nvPr/>
          </p:nvSpPr>
          <p:spPr>
            <a:xfrm rot="108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_s125960"/>
            <p:cNvSpPr/>
            <p:nvPr/>
          </p:nvSpPr>
          <p:spPr>
            <a:xfrm rot="162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_s125958"/>
            <p:cNvSpPr/>
            <p:nvPr/>
          </p:nvSpPr>
          <p:spPr>
            <a:xfrm>
              <a:off x="3402000" y="24652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31" name="_s125959"/>
            <p:cNvSpPr/>
            <p:nvPr/>
          </p:nvSpPr>
          <p:spPr>
            <a:xfrm>
              <a:off x="3405240" y="482292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2" name="_s125962"/>
            <p:cNvSpPr/>
            <p:nvPr/>
          </p:nvSpPr>
          <p:spPr>
            <a:xfrm>
              <a:off x="5759280" y="246384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3" name="_s125990"/>
            <p:cNvSpPr/>
            <p:nvPr/>
          </p:nvSpPr>
          <p:spPr>
            <a:xfrm>
              <a:off x="5761080" y="48196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BD2CD23C-A59C-4413-9FCF-CE69121F87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	</a:t>
            </a:r>
            <a:r>
              <a:rPr b="0" lang="en-US" sz="2800" spc="-1" strike="noStrike">
                <a:solidFill>
                  <a:srgbClr val="333399"/>
                </a:solidFill>
                <a:latin typeface="Monotype Corsiva"/>
              </a:rPr>
              <a:t>ALAMIRO DE AVILA</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METODOLOGIA ESCUELA CHILENA </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DE HISTORIA DEL DERECHO</a:t>
            </a:r>
            <a:endParaRPr b="0" lang="en-US" sz="2800" spc="-1" strike="noStrike">
              <a:solidFill>
                <a:srgbClr val="333399"/>
              </a:solidFill>
              <a:latin typeface="Tahoma"/>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Planteamiento provisorio:elección tema, lecturas superfic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nvestigación sobr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Clasificación y ordenación definitiva de los mater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Exposición</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Elección del tema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dentificación del marco teórico</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Formulación de problemas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Formulación de respuestas probables.</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eterminación de la bibliografía a emple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 Determinación de las fuentes a analiz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G. Análisis crítico d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H. Determinación de la validez de las respuestas probables.</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 Elaboración de las conclusiones (incorporación al marco concept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ónde radica la potencialidad historiográfica de la concepción polifacética? En la problematización de temas usualmente no abordados por los historiadores del Derecho</a:t>
            </a:r>
            <a:r>
              <a:rPr b="0" lang="en-US" sz="28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5E8F7508-DC21-4854-92FE-14EB518759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momento de formular las interrogantes de investigación el historiador del Derecho tiene a lo menos 5 aspectos que cubrir: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uso del Derecho como técnica de control social;</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acultades y obligaciones que consagra la norma jurídic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uentes formale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estudios jurídico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discursos legitimadores y deslegitimadores de las reglas de conducta amparadas por el Derech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3A711A95-BDE9-423A-B4F9-DACCE51827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14:27:37Z</dcterms:created>
  <dc:creator>epalma</dc:creator>
  <dc:description/>
  <dc:language>en-US</dc:language>
  <cp:lastModifiedBy>epalma</cp:lastModifiedBy>
  <dcterms:modified xsi:type="dcterms:W3CDTF">2008-04-04T20:25:48Z</dcterms:modified>
  <cp:revision>9</cp:revision>
  <dc:subject/>
  <dc:title>CONCEPCION POLIFACETICA</dc:title>
</cp:coreProperties>
</file>